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FF13-63E5-49A8-BAF2-4F0C6EC372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4E1D8-5C16-4659-A4E4-1C71DDEF2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AF551-7212-4B79-8815-82F8C288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10D3D-9555-4C44-85CC-8F44C0C71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39A4-7AAA-4001-B62A-3ADABB78C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DCA4-78F0-42B1-A374-8FF9DEC6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87B8-2AC2-4BDB-A8B3-730F48A7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2DA3-434F-41E2-97FD-3BDAC8D9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2FCD3-6C45-4456-9C37-A207983C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2A86-E1EB-4CD7-8C55-5DAA8044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FACD1-97F9-417B-8EBB-ED1C17987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17E1-C19D-4C82-9E13-CDB12763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0E4D-E225-4E4E-9765-1AB969BAC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E3D2-BC06-454F-83FE-A3A024301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4</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3T00:00:56Z</dcterms:modified>
  <cp:revision>12</cp:revision>
  <dc:subject/>
  <dc:title>Clase n º 3  Complemento Numérico</dc:title>
</cp:coreProperties>
</file>