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5C0E-0B06-4C36-AE51-64E2149B11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05889-0B12-48C0-8F2B-0F8D5610F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37EE-98E4-49A1-851F-561919BCA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45364-8A87-44C0-80E4-385AC7862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CCE56-F5F0-471B-8F1E-AE565596A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CF6B-C96F-4E45-B62D-8AEFEA258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55EA2-68BC-4645-910D-2ECFA3F9B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4C06-6A13-48E9-8FE8-3F06B9F9C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60DE-38F4-4566-89BE-F86D5A95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FD9F9-CE60-486E-A644-E6238F075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D527-6CD0-4F61-A5D4-B35BA492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A805-25FD-4F23-9FD5-8F542537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95A5-2D5D-4AFD-AA02-A94E8FCD5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F69C-07E7-44CE-838C-484A1DBE8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4</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3T00:00:56Z</dcterms:modified>
  <cp:revision>12</cp:revision>
  <dc:subject/>
  <dc:title>Clase n º 3  Complemento Numérico</dc:title>
</cp:coreProperties>
</file>