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02E5-C3B0-4C64-8E6D-9F429D1B9C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F5916-3C0A-46E1-BB4A-07EE4B53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EC4E-78B0-44EC-8E71-E505E591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547B-7C40-4AF5-8F90-CEC9F75BD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EFE8B-4E42-4B08-ACCE-0EBDA2C6E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FA553-8FCE-4961-ADD5-A42A426A9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6A26E-3332-4E1A-85C6-09F6DBBDE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89C0-757F-449E-AB9C-DD49CABF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2B78-6931-46DD-9ECE-936D20EC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505F-F97D-46D1-BAB4-CCE741F3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60A8-031F-4CC0-AEE7-EEFB342F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5604-B4FF-469F-BD50-54237C9F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FAC3-4C59-482C-8082-B046D4CB2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5852-8669-4156-8CD0-E2056AA27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4</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3T00:00:56Z</dcterms:modified>
  <cp:revision>12</cp:revision>
  <dc:subject/>
  <dc:title>Clase n º 3  Complemento Numérico</dc:title>
</cp:coreProperties>
</file>