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27A8-5914-497D-924A-D12415D3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F95-B8FC-4F46-9D83-9D929022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7AB-47EE-418E-BC7C-12E50F82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E47A-7052-45A9-BF29-D0552B80A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5AE-CCAA-4EB3-B6CE-D9F4048D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048-5845-48EB-B661-8BDB4ABC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9882-7406-429F-8E3D-3F0738B1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446-96AE-4887-9F03-C8116EC1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713-F047-4F2E-99F5-48A63A37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82A-F9D8-42AD-BBF0-0DFFB421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D3A5-B3D1-4026-9F17-E047AB7A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C81-8781-4CC1-9DC2-48F7033E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A17F-D000-4525-B026-FFF4ECD80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Conocer algunas funciones tales como parabola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tas, y su inters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a las constantes de la Parábola y de la 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 Parábola y Recta en la mism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ríe las constantes para lograr interceptar la parábola en solo 1 punto, y en 2 Pu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der preguntas del final de la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bemos que la Parabola es de la form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+B 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la recta es de la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x+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s con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En una celda escribimos el valor de la constante que queremos para nuestra fu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una columna de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una columna con la función, ya sea paábola o rec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car la parábola y la recta en la misma vent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ar las constantes de la parábola o la recta de forma que se intercepten primero en un punto, y luego en dos pu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asa si A es negativo, en el gráfico de la parábo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significa que el termino que acompaña a x sea negativo, en la ecuación de la 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ando la parábola tiene solo un máximo y solo un mínim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atalia Rodriguez</cp:lastModifiedBy>
  <dcterms:modified xsi:type="dcterms:W3CDTF">2005-12-31T20:55:38Z</dcterms:modified>
  <cp:revision>7</cp:revision>
  <dc:subject/>
  <dc:title>Clase nº1  Complemento Numérico</dc:title>
</cp:coreProperties>
</file>