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4467-96FA-489D-A0D9-06E886F36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A358-D7F0-4B31-9275-686B96B2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CB37-0D3E-46E9-86AC-C5CE34092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67B4-C613-4375-91A8-B6B2D29B0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8962-CBA0-422F-B407-3F193D34B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6E8B-A2AB-493E-AF8E-05F54D7E2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B471-4BB4-458C-ADC0-94420F300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6CAE-F491-4254-BFB2-215D614C6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973E-D119-488C-B2EB-15330A431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F533-BA82-4889-8750-D8DE33B4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84DB-97F2-44C8-B50E-6E954F7F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72FA-1A62-4BC6-AD48-C8F4C2A3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2D0FB-7FAE-496F-A7EE-AD6EC245F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19280" y="2205000"/>
            <a:ext cx="6192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se n º 2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mento Numér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560" y="4076280"/>
            <a:ext cx="727236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bjetivo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Conocer algunas funciones tales como parabolas,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ctas, y su interse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571680" cy="857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616200" y="928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16000" y="620640"/>
            <a:ext cx="43196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CULTAD DE CIENCIAS FISICAS Y MATEMA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CUELA DE VERANO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nunci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fina las constantes de la Parábola y de la Rec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Grafique Parábola y Recta en la misma vent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aríe las constantes para lograr interceptar la parábola en solo 1 punto, y en 2 Pun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sponder preguntas del final de la presen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abemos que la Parabola es de la forma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es-CL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+B x+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Y la recta es de la for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x+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Arial"/>
              </a:rPr>
              <a:t>Qué hacer en EXCEL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finir las consta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ff"/>
                </a:solidFill>
                <a:latin typeface="Arial"/>
              </a:rPr>
              <a:t>En una celda escribimos el valor de la constante que queremos para nuestra fun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finir una columna de x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finir una columna con la función, ya sea paábola o rec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Graficar la parábola y la recta en la misma venta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ambiar las constantes de la parábola o la recta de forma que se intercepten primero en un punto, y luego en dos pun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egun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Qué pasa si A es negativo, en el gráfico de la parábo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Qué significa que el termino que acompaña a x sea negativo, en la ecuación de la rec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Cuando la parábola tiene solo un máximo y solo un mínimo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9T01:06:42Z</dcterms:created>
  <dc:creator>Maria Fernanda Duran Sierra</dc:creator>
  <dc:description/>
  <dc:language>en-US</dc:language>
  <cp:lastModifiedBy>Natalia Rodriguez</cp:lastModifiedBy>
  <dcterms:modified xsi:type="dcterms:W3CDTF">2005-12-31T20:55:38Z</dcterms:modified>
  <cp:revision>7</cp:revision>
  <dc:subject/>
  <dc:title>Clase nº1  Complemento Numérico</dc:title>
</cp:coreProperties>
</file>