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5346-10F8-493D-95EA-F9722828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00FF-253B-4384-8CC5-261D5E4E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87FC-99D1-4261-8968-F17BEA62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B0D9-22F1-4D16-A4EB-723BDE5F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26D9-18FF-4447-829C-D3B97809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8F6C-B0C8-4C17-8DE6-C3A609D5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458B-A66A-4858-88CE-8C962D79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B8AC-02C5-48BA-91B6-30FC843E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C1B-3C13-4F39-9B94-665EA953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4741-1532-41C0-9226-C01A8B22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A5B5-0CA1-44D5-8B92-542886A8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7C1D-8C15-4CF2-B79B-F2414E39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6B81-119A-4827-AA27-06C4E38EB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20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e n º 2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o Numé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4076280"/>
            <a:ext cx="727236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Conocer algunas funciones tales como parabolas,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tas, y su interse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71680" cy="85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16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620640"/>
            <a:ext cx="431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VERANO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a las constantes de la Parábola y de la R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rafique Parábola y Recta en la misma vent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aríe las constantes para lograr interceptar la parábola en solo 1 punto, y en 2 Pu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ponder preguntas del final de la pres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abemos que la Parabola es de la form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+B x+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Y la recta es de la 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x+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</a:rPr>
              <a:t>Qué hacer en EXCEL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las cons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ff"/>
                </a:solidFill>
                <a:latin typeface="Arial"/>
              </a:rPr>
              <a:t>En una celda escribimos el valor de la constante que queremos para nuestra fun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una columna de x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una columna con la función, ya sea paábola o rec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raficar la parábola y la recta en la misma vent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mbiar las constantes de la parábola o la recta de forma que se intercepten primero en un punto, y luego en dos pu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pasa si A es negativo, en el gráfico de la parábo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significa que el termino que acompaña a x sea negativo, en la ecuación de la rec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uando la parábola tiene solo un máximo y solo un mínimo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1:06:42Z</dcterms:created>
  <dc:creator>Maria Fernanda Duran Sierra</dc:creator>
  <dc:description/>
  <dc:language>en-US</dc:language>
  <cp:lastModifiedBy>Natalia Rodriguez</cp:lastModifiedBy>
  <dcterms:modified xsi:type="dcterms:W3CDTF">2005-12-31T20:55:38Z</dcterms:modified>
  <cp:revision>7</cp:revision>
  <dc:subject/>
  <dc:title>Clase nº1  Complemento Numérico</dc:title>
</cp:coreProperties>
</file>