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176D-A65E-4FF7-AED6-A90A00B95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C7AF-B32D-4EE2-BA43-48F85FEC2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28B1-E9E8-49C1-8C50-72185DFDF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763B-A34D-48AA-9407-44FC31934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470E-40A1-460F-9772-830C79D39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E724-13AD-459A-8724-962C8BA89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C4C4-D029-4F13-9EE7-CDD959B68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0872-447B-461C-97F7-80702EFCF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D412-FA19-47C5-9748-5CB4CEB2F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D3C6-1B5C-40F7-8BA1-8BFD0A152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372A-EA23-4AB7-8A97-560C384E0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E5F2-565D-4594-8F53-5B61B8BB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759CA-39A2-4138-A149-0D335A4B6C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19280" y="2205000"/>
            <a:ext cx="61927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se n º 2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lemento Numér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560" y="4076280"/>
            <a:ext cx="727236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bjetivo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Conocer algunas funciones tales como parabolas,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ctas, y su intersec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571680" cy="857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616200" y="928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16000" y="620640"/>
            <a:ext cx="43196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CULTAD DE CIENCIAS FISICAS Y MATEMA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CUELA DE VERANO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nunci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fina las constantes de la Parábola y de la Rec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Grafique Parábola y Recta en la misma vent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Varíe las constantes para lograr interceptar la parábola en solo 1 punto, y en 2 Pun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sponder preguntas del final de la presen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abemos que la Parabola es de la forma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0" lang="es-CL" sz="3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+B x+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Y la recta es de la for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x+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Arial"/>
              </a:rPr>
              <a:t>Qué hacer en EXCEL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finir las constan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00ff"/>
                </a:solidFill>
                <a:latin typeface="Arial"/>
              </a:rPr>
              <a:t>En una celda escribimos el valor de la constante que queremos para nuestra fun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finir una columna de x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finir una columna con la función, ya sea paábola o rec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Graficar la parábola y la recta en la misma venta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ambiar las constantes de la parábola o la recta de forma que se intercepten primero en un punto, y luego en dos pun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regun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Qué pasa si A es negativo, en el gráfico de la parábo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Qué significa que el termino que acompaña a x sea negativo, en la ecuación de la rec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Cuando la parábola tiene solo un máximo y solo un mínimo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9T01:06:42Z</dcterms:created>
  <dc:creator>Maria Fernanda Duran Sierra</dc:creator>
  <dc:description/>
  <dc:language>en-US</dc:language>
  <cp:lastModifiedBy>Natalia Rodriguez</cp:lastModifiedBy>
  <dcterms:modified xsi:type="dcterms:W3CDTF">2005-12-31T20:55:38Z</dcterms:modified>
  <cp:revision>7</cp:revision>
  <dc:subject/>
  <dc:title>Clase nº1  Complemento Numérico</dc:title>
</cp:coreProperties>
</file>