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753D-DFCE-4C58-AA5B-5431F37C4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8173-8BB7-4A83-8C5D-4C2ED677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9C5D-564F-40D4-A695-65B5CE84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2E56-0ECA-41BC-89B2-7D36FB05D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9585-DADE-4202-8676-38ABD255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76A9-93B9-4247-AF21-3DED5026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D013-D5A1-438D-9809-7FC89813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3335-3958-4426-AB17-8BC273E5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4A3E-BB75-40CE-9236-9F8E48B9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FA7D-3903-44D4-8274-6D2B73F4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B013-35EE-4AF3-9539-E1672B47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8171-09B7-4A7C-8629-694281F6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9D74-9F0A-45C6-9099-1FAE0A44D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athworld.wolfram.com/FourierSeries.html" TargetMode="External"/><Relationship Id="rId2" Type="http://schemas.openxmlformats.org/officeDocument/2006/relationships/hyperlink" Target="http://www.univie.ac.at/future.media/moe/galerie/fourier/fourier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2205000"/>
            <a:ext cx="6192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e n º 1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mento Numér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560" y="4076280"/>
            <a:ext cx="727236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jetiv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Reforzar cómo graficar en EX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Recordar los gráficos de algunas funcione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trigonomet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571680" cy="857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1620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620640"/>
            <a:ext cx="4319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ULTAD DE CIENCIAS FISICAS Y MATEMA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ELA DE VERANO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nunci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rafique: Sen (x), Sen(2x), Sen(3x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s(x),  Cos(2x), Cos(3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n(x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/2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pare el grafico Sen(x) con Cos(x) y con Sen(x+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Arial"/>
              </a:rPr>
              <a:t>Qué hacer en EXCEL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bemos definir los x’s con los que graficaremos.</a:t>
            </a: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 Para esto haremos una columna en 0, 0.1, 0.2… hasta por lo menos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emos la función en EXCEL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¿Cómo? En una celda escribiremos “=seno(A4)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**La columna de los x’s comienza en A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59280" y="1773360"/>
            <a:ext cx="382752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ff"/>
                </a:solidFill>
                <a:latin typeface="Arial"/>
              </a:rPr>
              <a:t>Hasta el momento se deberia ver a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Arial"/>
              </a:rPr>
              <a:t>Qué hacer en EXCEL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a vez que se tiene la función definida para cada x’s se graf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óm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Seleccionamos con el mouse la ta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apretamos el boton de gráfic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elegimos “gráfico de dispersión” (con lineas curv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listo </a:t>
            </a:r>
            <a:r>
              <a:rPr b="0" lang="es-CL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</a:t>
            </a: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 …. Repetimos esto con cada fu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948360" y="3789360"/>
            <a:ext cx="9064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onu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 base de senos y cosenos construya un diente de sier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ello debe realizar la siguiente serie en Excel, mediante la recursividad de las funciones, es decir, se realiza el primer término, luego el segundo y se le suma el anterior y así sucesivamente. La función a implementar es la sigui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onu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ente de sier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sí representando la suma anterior hasta un término razonable (hasta el décimo término por ejemplo), podremos obtener algo similar a un diente de sier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s información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</a:rPr>
              <a:t>http://mathworld.wolfram.com/FourierSeriesSawtoothWav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68360" y="2276640"/>
                <a:ext cx="80643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3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onu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tros links de interé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athworld.wolfram.com/FourierSeries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univie.ac.at/future.media/moe/galerie/fourier/fourier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los links anteriores pueden encontrar applets con representaciones de esta función mediante la serie antes vi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01:06:42Z</dcterms:created>
  <dc:creator>Maria Fernanda Duran Sierra</dc:creator>
  <dc:description/>
  <dc:language>en-US</dc:language>
  <cp:lastModifiedBy>GCR</cp:lastModifiedBy>
  <dcterms:modified xsi:type="dcterms:W3CDTF">2006-01-03T03:44:13Z</dcterms:modified>
  <cp:revision>9</cp:revision>
  <dc:subject/>
  <dc:title>Clase nº1  Complemento Numérico</dc:title>
</cp:coreProperties>
</file>