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A514-0258-4E74-AFD8-5B9E57FF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A76-F411-4A13-93F5-55C0A666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C06F-336B-48B1-8C90-8E2ECB50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3BE-3C5E-4471-BA22-8322B30DC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BA2-0717-4B10-9444-00E7D7D3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A1E9-17CA-489A-95F1-7418D309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1CF1-FFDF-40C7-BC8B-7ACF5AAD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17A2-22C8-491C-B93A-DADCCF5C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FB6A-FB70-425A-8B82-AD2D7684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256-389E-4D17-AE07-E96AF63D9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1C2D-BF4E-4376-86E4-03AA9C14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6DF0-98D6-4645-85E4-09042E81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F48F-29DC-47E3-9E97-18C2F65F52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mathworld.wolfram.com/FourierSeries.html" TargetMode="External"/><Relationship Id="rId2" Type="http://schemas.openxmlformats.org/officeDocument/2006/relationships/hyperlink" Target="http://www.univie.ac.at/future.media/moe/galerie/fourier/fourier.html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19280" y="2205000"/>
            <a:ext cx="6192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e n º 1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mento Numér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4076280"/>
            <a:ext cx="727236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Reforzar cómo graficar en 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Recordar los gráficos de algunas funcione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trigonometr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71680" cy="857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61620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620640"/>
            <a:ext cx="4319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CULTAD DE CIENCIAS FISICAS Y MATEMA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SCUELA DE VERANO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unci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Grafique: Sen (x), Sen(2x), Sen(3x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s(x),  Cos(2x), Cos(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n(x+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/2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are el grafico Sen(x) con Cos(x) y con Sen(x+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  <a:ea typeface="Arial"/>
              </a:rPr>
              <a:t>/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bemos definir los x’s con los que graficaremos.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Para esto haremos una columna en 0, 0.1, 0.2… hasta por lo menos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finiremos la función en EXCE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¿Cómo? En una celda escribiremos “=seno(A4)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**La columna de los x’s comienza en A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59280" y="1773360"/>
            <a:ext cx="3827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ff"/>
                </a:solidFill>
                <a:latin typeface="Arial"/>
              </a:rPr>
              <a:t>Hasta el momento se deberia ver a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ff"/>
                </a:solidFill>
                <a:latin typeface="Arial"/>
              </a:rPr>
              <a:t>Qué hacer en EXCEL…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a vez que se tiene la función definida para cada x’s se graf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¿Cóm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Seleccionamos con el mouse la ta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apretamos el boton de gráf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799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elegimos “gráfico de dispersión” (con lineas curv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listo </a:t>
            </a:r>
            <a:r>
              <a:rPr b="0" lang="es-CL" sz="32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s-CL" sz="3200" spc="-1" strike="noStrike">
                <a:solidFill>
                  <a:srgbClr val="0000ff"/>
                </a:solidFill>
                <a:latin typeface="Arial"/>
              </a:rPr>
              <a:t> …. Repetimos esto con cada fu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948360" y="3789360"/>
            <a:ext cx="9064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onu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 base de senos y cosenos construya un diente de si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a ello debe realizar la siguiente serie en Excel, mediante la recursividad de las funciones, es decir, se realiza el primer término, luego el segundo y se le suma el anterior y así sucesivamente. La función a implementar es la sigui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nu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ente de sier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representando la suma anterior hasta un término razonable (hasta el décimo término por ejemplo), podremos obtener algo similar a un diente de sier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s información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http://mathworld.wolfram.com/FourierSeriesSawtoothWave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468360" y="2276640"/>
                <a:ext cx="8064360" cy="8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3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4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Bonu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tros links de inter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athworld.wolfram.com/FourierSeries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univie.ac.at/future.media/moe/galerie/fourier/fourier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los links anteriores pueden encontrar applets con representaciones de esta función mediante la serie antes vi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01:06:42Z</dcterms:created>
  <dc:creator>Maria Fernanda Duran Sierra</dc:creator>
  <dc:description/>
  <dc:language>en-US</dc:language>
  <cp:lastModifiedBy>GCR</cp:lastModifiedBy>
  <dcterms:modified xsi:type="dcterms:W3CDTF">2006-01-03T03:44:13Z</dcterms:modified>
  <cp:revision>9</cp:revision>
  <dc:subject/>
  <dc:title>Clase nº1  Complemento Numérico</dc:title>
</cp:coreProperties>
</file>