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7CC-8923-4187-898B-9DEE8B58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1DF-C8E2-48E7-B2E4-0AA8D19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36B-267F-4475-B586-76A23B1A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0CC-8836-4254-8620-0E42EDA4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369-306C-4F46-97CD-7AAAE37B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890-85C3-41E1-A5B9-68D38C9F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B13-0445-4DE4-B3C4-75DFBDE3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A49-A646-405F-BAF5-70911A8A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8F6-6B7E-43DD-9AB4-2D50BC7C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367-A132-4FC7-8E3B-489ADDE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4BA-A539-43B9-BD76-746F637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473-F50A-420F-A310-9DA178F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F0D6-2360-4E66-A969-1A6D5BBB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thworld.wolfram.com/FourierSeries.html" TargetMode="External"/><Relationship Id="rId2" Type="http://schemas.openxmlformats.org/officeDocument/2006/relationships/hyperlink" Target="http://www.univie.ac.at/future.media/moe/galerie/fourier/fourier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cordar los gráficos de algunas funcion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rigonome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: Sen (x), Sen(2x), Sen(3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s(x),  Cos(2x), Cos(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n(x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e el grafico Sen(x) con Cos(x) y con Sen(x+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mos definir los x’s con los que graficaremos.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Para esto haremos una columna en 0, 0.1, 0.2… hasta por lo menos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emos la función en EXCE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¿Cómo? En una celda escribiremos “=seno(A4)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**La columna de los x’s comienza en A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9280" y="1773360"/>
            <a:ext cx="3827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Hasta el momento se deberia ver 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se tiene la función definida para cada x’s se gra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Seleccionamos con el mouse la 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apretamos el boton de grá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elegimos “gráfico de dispersión” (con lineas cur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listo </a:t>
            </a:r>
            <a:r>
              <a:rPr b="0" lang="es-CL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…. Repetimos esto con cada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906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onu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base de senos y cosenos construya un diente de 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llo debe realizar la siguiente serie en Excel, mediante la recursividad de las funciones, es decir, se realiza el primer término, luego el segundo y se le suma el anterior y así sucesivamente. La función a implementar es la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ente de sier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representando la suma anterior hasta un término razonable (hasta el décimo término por ejemplo), podremos obtener algo similar a un diente de s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s inform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http://mathworld.wolfram.com/FourierSeriesSawtoothWav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8360" y="2276640"/>
                <a:ext cx="8064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ros links de inter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world.wolfram.com/Fourier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nivie.ac.at/future.media/moe/galerie/fourier/fouri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os links anteriores pueden encontrar applets con representaciones de esta función mediante la serie antes v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GCR</cp:lastModifiedBy>
  <dcterms:modified xsi:type="dcterms:W3CDTF">2006-01-03T03:44:13Z</dcterms:modified>
  <cp:revision>9</cp:revision>
  <dc:subject/>
  <dc:title>Clase nº1  Complemento Numérico</dc:title>
</cp:coreProperties>
</file>