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30E1-4DB9-4479-AC65-37E65029C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E1D9-EF48-4F0C-8964-7854CBE9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DD12-DE8F-445F-917A-B0249627F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7F9E-4875-4D72-8291-E9E41DF4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728E-91F6-41D7-806E-9A2618BD4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2EDB-F95F-475A-8751-BD90F1862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DF3E-B546-48DC-8CBE-AB9E3E1B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A612-EC37-4222-808D-F145F6DE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5237-135C-4E39-95E0-87D2588A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C330-11AF-4BE4-A919-0DBE4ED4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D260-87B0-4289-BBB4-115E23C4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FDC0-DE31-4374-A8D7-FC9DF272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D4D1-2B62-40FF-8120-70D0B9F95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FourierSeries.html" TargetMode="External"/><Relationship Id="rId2" Type="http://schemas.openxmlformats.org/officeDocument/2006/relationships/hyperlink" Target="http://www.univie.ac.at/future.media/moe/galerie/fourier/fourie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cordar los gráficos de algunas fu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rigonome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: Sen (x), Sen(2x), Sen(3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s(x),  Cos(2x), Cos(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n(x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e el grafico Sen(x) con Cos(x) y con Sen(x+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Para esto haremos una columna en 0, 0.1, 0.2… hasta por lo menos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emos la función en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¿Cómo? En una celda escribiremos “=seno(A4)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**La columna de los x’s comienza en A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1773360"/>
            <a:ext cx="382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Hasta el momento se deberia ver 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onu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base de senos y cosenos construya un diente de 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llo debe realizar la siguiente serie en Excel, mediante la recursividad de las funciones, es decir, se realiza el primer término, luego el segundo y se le suma el anterior y así sucesivamente. La función a implementar es la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 de si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representando la suma anterior hasta un término razonable (hasta el décimo término por ejemplo), podremos obtener algo similar a un diente de s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s inform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http://mathworld.wolfram.com/FourierSeriesSawtoothWa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360" y="2276640"/>
                <a:ext cx="806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links de inter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world.wolfram.com/Fourier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ivie.ac.at/future.media/moe/galerie/fourier/fouri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links anteriores pueden encontrar applets con representaciones de esta función mediante la serie antes v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GCR</cp:lastModifiedBy>
  <dcterms:modified xsi:type="dcterms:W3CDTF">2006-01-03T03:44:13Z</dcterms:modified>
  <cp:revision>9</cp:revision>
  <dc:subject/>
  <dc:title>Clase nº1  Complemento Numérico</dc:title>
</cp:coreProperties>
</file>