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713-06B2-4BFF-B2FF-8E0E3079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1F6-896E-4C9A-8F4F-02A96581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AEE-493D-4E68-A624-C7E87507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7B4-4E6F-4637-99FE-EA91182D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35F-5A13-4F84-A244-42E03CB7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1E8-E08A-4807-A050-8BF7553A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B2A-6EC8-403A-9A09-1421F220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2B3-4600-4036-93F2-8DE156ED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03D-A31B-45CA-B20A-72B92E4B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4A3-B396-4C29-8C6A-8AB26645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D3A-523B-4832-B358-E923B7ED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924-FF6E-4687-87A7-2E0B0720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3542-7D06-42C8-9063-A593D89BC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thworld.wolfram.com/FourierSeries.html" TargetMode="External"/><Relationship Id="rId2" Type="http://schemas.openxmlformats.org/officeDocument/2006/relationships/hyperlink" Target="http://www.univie.ac.at/future.media/moe/galerie/fourier/fourier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Reforzar cómo graficar en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Recordar los gráficos de algunas funcion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rigonome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que: Sen (x), Sen(2x), Sen(3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s(x),  Cos(2x), Cos(3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n(x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are el grafico Sen(x) con Cos(x) y con Sen(x+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emos definir los x’s con los que graficaremos.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Para esto haremos una columna en 0, 0.1, 0.2… hasta por lo menos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emos la función en EXCE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¿Cómo? En una celda escribiremos “=seno(A4)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**La columna de los x’s comienza en A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9280" y="1773360"/>
            <a:ext cx="38275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Hasta el momento se deberia ver a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vez que se tiene la función definida para cada x’s se gra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Seleccionamos con el mouse la ta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apretamos el boton de gráf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elegimos “gráfico de dispersión” (con lineas curv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listo </a:t>
            </a:r>
            <a:r>
              <a:rPr b="0" lang="es-CL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…. Repetimos esto con cada fu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948360" y="3789360"/>
            <a:ext cx="9064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onu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base de senos y cosenos construya un diente de si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ello debe realizar la siguiente serie en Excel, mediante la recursividad de las funciones, es decir, se realiza el primer término, luego el segundo y se le suma el anterior y así sucesivamente. La función a implementar es la sigu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nu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ente de sier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representando la suma anterior hasta un término razonable (hasta el décimo término por ejemplo), podremos obtener algo similar a un diente de sie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s informació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http://mathworld.wolfram.com/FourierSeriesSawtoothWav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68360" y="2276640"/>
                <a:ext cx="8064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nu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tros links de interé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thworld.wolfram.com/FourierSeri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nivie.ac.at/future.media/moe/galerie/fourier/fourie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los links anteriores pueden encontrar applets con representaciones de esta función mediante la serie antes v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GCR</cp:lastModifiedBy>
  <dcterms:modified xsi:type="dcterms:W3CDTF">2006-01-03T03:44:13Z</dcterms:modified>
  <cp:revision>9</cp:revision>
  <dc:subject/>
  <dc:title>Clase nº1  Complemento Numérico</dc:title>
</cp:coreProperties>
</file>