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DA0-42FA-4D7E-9DC9-9DC8D244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F37-865D-4A94-8A02-72ED68DE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1FE-9143-4895-B339-E2C43A71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A1A-1B0C-4EA5-9BA2-A3D92000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460-2CD0-4D86-AED8-75422FFC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7E6-3E51-4406-B6CC-003640EA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A8D-C116-4047-A7F1-556CA262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6ED-6F2A-4722-85A3-2A90647E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AC6-8308-4D41-AFAB-BD632276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039-7E45-4430-85EF-F90FA509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644-509B-44AC-AE15-8D79BB1A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3CD-9279-4B9C-A0B1-D06A609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1BA1-1232-42B0-979D-9ADF19390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cin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fine una primera nota fundamental o </a:t>
            </a:r>
            <a:r>
              <a:rPr b="1" lang="es-ES" sz="1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grado con una cuerda de cierta longitud ( Ej:  DO 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III grado (DO) = Do*1/2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COMMA SINTONICA o DIDYMICA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III no es pura (no es 5:4) por un poco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I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 está en relación      2:1    con la fundamental  ( Ej. DO )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=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¾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SOL   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de FA    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bajo SOL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menor (Mib) =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 D. Palotes</cp:lastModifiedBy>
  <dcterms:modified xsi:type="dcterms:W3CDTF">2005-01-17T17:35:41Z</dcterms:modified>
  <cp:revision>31</cp:revision>
  <dc:subject/>
  <dc:title>Taller de Ciencias en la Música </dc:title>
</cp:coreProperties>
</file>