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3106-990F-4E52-98BA-777455973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4C05-8160-45F1-AFAE-2990B68D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F30F-D4A2-4DF0-9918-3218870D4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E0AD-B9F5-430B-B6C1-0C3B7692E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E6EA-E1D0-43A6-8E53-62EBB4BB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3957-7C08-42BA-A038-791A66B8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BAA3-E93F-4A13-B562-111FC80D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F44D-606B-4FCF-B302-BC853019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BD99-81FB-4234-B730-DFA6F8D6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63FE-36A0-448B-ADDC-9C8AD65D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FFFC-6005-4E83-A8BD-2F024B98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3598-69D4-441A-BC77-4B24230F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DD43-9AD0-4754-88C0-155E368BB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ages.globetrotter.net/roule/accord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ages.globetrotter.net/roule/accord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cin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Tempera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3548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De esta forma, se construye la afinación Bien –Temperada o Igualmente-Temperada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Entre una nota y su octava:     2:1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Hay 12 notas entre las dos. Por lo tanto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Entre cada nota hay 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203640" y="3716280"/>
                <a:ext cx="14396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539640" y="53006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Publicado en 1584 por el Príncipe Chu Tsai-yu, quién le da el crédito a un antiguo maestro, Huai Nan Tzu, de la dinastía Han en 122 A.C. En occidente, quien ayudó a establecer la manera </a:t>
            </a:r>
            <a:r>
              <a:rPr b="0" i="1" lang="es-CL" sz="1800" spc="-1" strike="noStrike">
                <a:solidFill>
                  <a:srgbClr val="ffffcc"/>
                </a:solidFill>
                <a:latin typeface="Arial"/>
              </a:rPr>
              <a:t>físicamente posible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 de implementar esta afinación fue el Vincenzo Galilei, utilizando la proporción 18/1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ESCUCHEM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1916280"/>
            <a:ext cx="4392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Afinaciones y Escal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59280" y="3046320"/>
            <a:ext cx="3618000" cy="3183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258920" y="2565360"/>
            <a:ext cx="25210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Pitagóric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554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Define una primera nota fundamental o </a:t>
            </a: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 grado con una cuerda de cierta longitud ( Ej:  DO 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Entonces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VIII grado (DO) = Do*1/2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V grado (SOL) = DO * 2/3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V grado del V grado  ( RE )  = SOL * 2/3 * 2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V de la V de la V       ( LA )    = RE * 2/3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V de la V de la V de la V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( MI )    = LA * 2/3 * 2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Se construyen así todas las notas según un círculo de quintas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roblemas: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Hay una diferencia en el VIII grado de la fundamental (el DO en la octava siguiente) entre la que se encuentra cerrando el círculo de quintas y la que se encuentra como la mitad de la longitud de la cuerda ( 2:1 ). Esta diferencia se llama:COMMA SINTONICA o DIDYMICA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III no es pura (no es 5:4) por un poco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864400" y="1628640"/>
            <a:ext cx="2970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Pitagóric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Se construyen así todas las notas según un círculo de quinta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Ventaja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Las relaciones entre las quintas suenan agradablemente afinada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Problemas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Hay una diferencia en el VIII grado de la fundamental (el DO en la octava siguiente) entre la que se encuentra cerrando el círculo de quintas y la que se encuentra como la mitad de la longitud de la cuerda ( 2:1 ). Esta diferencia se llama: COMMA SINTONICA o  Comma DIDYMICA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III no es pura (no es 5:4, que resulta la más agradable al oído occidental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1700280"/>
            <a:ext cx="3024000" cy="3024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37480" y="2674800"/>
            <a:ext cx="718920" cy="719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JUST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Aparece cuando la música del siglo </a:t>
            </a:r>
            <a:r>
              <a:rPr b="0" lang="es-CL" sz="1400" spc="-1" strike="noStrike">
                <a:solidFill>
                  <a:srgbClr val="ffffcc"/>
                </a:solidFill>
                <a:latin typeface="Times New Roman"/>
              </a:rPr>
              <a:t>XIV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 (principalmente inglesa) comienza a utilizar armonías que incluyen </a:t>
            </a:r>
            <a:r>
              <a:rPr b="0" lang="es-CL" sz="14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CL" sz="900" spc="-1" strike="noStrike">
                <a:solidFill>
                  <a:srgbClr val="ffffcc"/>
                </a:solidFill>
                <a:latin typeface="Arial"/>
              </a:rPr>
              <a:t>ras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. Pese a gran oposición y críticas iniciales, ya era usada en todo el continente europeo hacia el siglo </a:t>
            </a:r>
            <a:r>
              <a:rPr b="0" lang="es-CL" sz="1400" spc="-1" strike="noStrike">
                <a:solidFill>
                  <a:srgbClr val="ffffcc"/>
                </a:solidFill>
                <a:latin typeface="Times New Roman"/>
              </a:rPr>
              <a:t>XV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Se construye de la siguiente forma: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VIII 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   está en relación      2:1    con la fundamental  ( Ej. DO )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SOL) = DO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2/3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MI) = DO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4/5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V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FA) = DO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¾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VI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SI) =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de SOL    SOL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4/5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V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LA) =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de FA      FA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4/5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RE) =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V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bajo SOL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CL" sz="14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 menor (Mib) = Do </a:t>
            </a:r>
            <a:r>
              <a:rPr b="0" lang="es-CL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 5/6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cc"/>
                </a:solidFill>
                <a:latin typeface="Arial"/>
              </a:rPr>
              <a:t>Distancia entre Do y Re distinta a distancia entre Re y Mi</a:t>
            </a:r>
            <a:endParaRPr b="0" lang="en-US" sz="13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JUST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Así entonces: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VIII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2:1  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3:2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4:3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5:4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VII      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de la 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VI       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de la IV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I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bajo la 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 menor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 6:5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Ventajas: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ara una escala afinada Justa, todas las notas suenan agradablemente afinadas, particularmente las </a:t>
            </a:r>
            <a:r>
              <a:rPr b="0" lang="es-CL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ras que en la afinación Pitagórica no funcionaban bien al oído occidental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roblemas: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Distancia entre Do y Re distinta a distancia entre Re y Mi, etc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or lo tanto, si el músico desea tocar en otro tono que aquel en que se ajustaron las notas, comienzan a aparecer problemas de afinación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MEAN TON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Ajustar la afinación Pitagórica o Justa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Quitar ¼ de Comma a cada bloque constructor del círculo de </a:t>
            </a: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tas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Distancia Do-Re es igual a distancia Re-Mi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cc"/>
                </a:solidFill>
                <a:latin typeface="Arial"/>
              </a:rPr>
              <a:t>Pero Do-Do# distinta a Re-Re#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LEGARON LAS TECL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Solucione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700360" y="1700280"/>
            <a:ext cx="6192720" cy="50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Tempera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on la aparición de instrumentos de teclas termina (que no pueden ser fácilmente re-afinables) se empieza a requerir en forma urgente que puedan tocarse piezas en cualquier tono sin problemas. Así, se necesita que la distancia entre</a:t>
            </a:r>
            <a:r>
              <a:rPr b="0" lang="es-ES" sz="2700" spc="-1" strike="noStrike">
                <a:solidFill>
                  <a:srgbClr val="ffffcc"/>
                </a:solidFill>
                <a:latin typeface="Arial"/>
              </a:rPr>
              <a:t> Do-Do# sea la misma que entre Re-Re#, etc. pero que a la vez no se pierda la relación de 2:1 entre las octavas (el intervalo más crítico al oído).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Perico D. Palotes</cp:lastModifiedBy>
  <dcterms:modified xsi:type="dcterms:W3CDTF">2005-01-17T17:35:41Z</dcterms:modified>
  <cp:revision>31</cp:revision>
  <dc:subject/>
  <dc:title>Taller de Ciencias en la Música </dc:title>
</cp:coreProperties>
</file>