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BFB-B306-4A97-B437-CFB846C4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F35-E285-43F8-BDBF-F5571815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D18-0BE7-4771-B5C9-CC10150F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504-9787-4144-ABF5-FFD5714A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942-8337-4D95-93BD-0906F4DF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59F-B90B-4615-867E-2E83851B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178-E168-452F-99D2-F98A59F8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D51-D1FD-4FF3-B944-7317DE00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E6E-039F-44DD-BE8C-B8BB06E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809-184B-4469-AF8E-96620754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BEB-6FC8-45DB-9023-FC7D726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778-C4BB-409A-B8DF-F723C53B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7347-58F4-41E1-A3C2-B17A2457C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cin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fine una primera nota fundamental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grado con una cuerda de cierta longitud ( Ej:  DO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III grado (DO) = Do*1/2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COMMA SINTONICA o DIDYMICA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III no es pura (no es 5:4) por un poc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I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 está en relación      2:1    con la fundamental  ( Ej. DO 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¾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SOL   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FA    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bajo SOL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menor (Mib) =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 D. Palotes</cp:lastModifiedBy>
  <dcterms:modified xsi:type="dcterms:W3CDTF">2005-01-17T17:35:41Z</dcterms:modified>
  <cp:revision>31</cp:revision>
  <dc:subject/>
  <dc:title>Taller de Ciencias en la Música </dc:title>
</cp:coreProperties>
</file>