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020-3D94-47D0-B15E-A27D1A69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605-3FB1-4906-A184-19F8B0B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F52-A319-40B7-8EB4-0D0E2C7E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083-FC87-4BB1-A095-231F72B3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D01-222B-4DFB-82D2-52311A7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392-A9B5-4F33-8249-BA96FFE6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665-184B-4687-8C8D-DD4D5523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7AB-109C-4232-9982-FA2A7EBC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DD1-7B87-4C47-8FB0-BAA30443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E4A-698A-4E19-B1D3-3B82732F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649-68F7-4317-B5DA-966850AB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8E9-2DFD-45A4-A097-31019350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E14-F1AD-467A-ACD1-133402144987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cinc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Estudia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trones y Relaciones en la Música y 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Música y Tecnologí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, Hombre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LAS NOT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Control el Lunes 24 de Enero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are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Trabajo Fin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30%Control+30%Tareas+40%Trabajo=NF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 D. Palotes</cp:lastModifiedBy>
  <dcterms:modified xsi:type="dcterms:W3CDTF">2005-01-17T12:40:01Z</dcterms:modified>
  <cp:revision>12</cp:revision>
  <dc:subject/>
  <dc:title>Taller de Ciencias en la Música </dc:title>
</cp:coreProperties>
</file>