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F87-0686-4591-BDC3-3C080DA6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2D8-C01E-44BE-8E54-D543DC2A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E07-423E-4444-911B-631C45A5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45E-E10A-4965-A6DB-FEC27282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7CB-8342-4089-BABA-260A97D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832-EDEE-4999-AAD0-AC6AB71C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406-D959-4A7C-8CB4-9E5FB0DB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45B-6B16-403B-8721-475F23ED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24B-C996-400D-8F6E-554F1F17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2B8-453B-425C-9DAA-579616B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8D3-BBCA-4360-8990-6BECA33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6DB-D031-46DE-8A61-8681C69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B39-37D1-4838-A001-7D33DF50E38D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Estudia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trones y Relaciones en la Música y 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y Tecnologí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LAS NOT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Control el Lunes 24 de Enero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rabajo Fin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30%Control+30%Tareas+40%Trabajo=N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2:40:01Z</dcterms:modified>
  <cp:revision>12</cp:revision>
  <dc:subject/>
  <dc:title>Taller de Ciencias en la Música </dc:title>
</cp:coreProperties>
</file>