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181-6C8F-4449-B32E-2BF73E36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E9F-E945-4A84-82AE-30860A58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10D-686A-42C0-A559-2B451399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B0C-BBC3-4EAD-B9AE-5A4E1F75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AA20-7AA6-470F-BE9D-D63FEAE1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F73-AD37-4F50-88F3-57B414DA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1CB-9360-4205-8F08-2A03CCCC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878-101C-4BA7-B99F-80895309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760-43AC-4241-92DC-1C51C74E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9D9-9CDA-4A5E-BBF4-D290B7C8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EF7-8785-4454-9F5F-5524DE2E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9AF-1D3B-49D7-BBD4-8A209E64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5430-4F64-4F6B-B3FA-EA1132DF7598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272360" cy="518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63640" y="63072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Enero dos mil cinc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ómo va a ser este cuento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384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Estudiar el rol de la música en la historia humana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2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Trabajar con el sonido en forma similar a cómo el  hombre lo fue entendien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Relación entre la Música y la Ciencia en la histori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Historia de los instrumentos musica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Física del soni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Aparición de herramientas tecnológica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54720" y="1701720"/>
            <a:ext cx="2425680" cy="198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3280" y="4365720"/>
            <a:ext cx="40388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Música, Hombre y Cienci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Música e Instrumentos Musical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Afinación y Escala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atrones y Relaciones en la Música y el Sonid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Física del Sonid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Música y Tecnologí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, Hombre y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 e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Afinación y Escala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75440" y="549360"/>
            <a:ext cx="3429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, Hombre y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 e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Afinación y Escala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95640" y="2046240"/>
            <a:ext cx="1606680" cy="4811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24360" y="692280"/>
            <a:ext cx="1824120" cy="480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67640" y="333360"/>
            <a:ext cx="124452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88000" y="404640"/>
            <a:ext cx="40384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.   Física d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65440" y="4221000"/>
            <a:ext cx="3024000" cy="237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2808360" cy="227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26028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IV.   Patrones y Relaciones en la Música y el S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2808360" cy="141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63640" y="364500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I.   Música y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LAS NOTA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Control el Lunes 24 de Enero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Tarea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Trabajo Fina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30%Control+30%Tareas+40%Trabajo=NF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Perico D. Palotes</cp:lastModifiedBy>
  <dcterms:modified xsi:type="dcterms:W3CDTF">2005-01-17T12:40:01Z</dcterms:modified>
  <cp:revision>12</cp:revision>
  <dc:subject/>
  <dc:title>Taller de Ciencias en la Música </dc:title>
</cp:coreProperties>
</file>