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BBC-1E4B-4282-84AC-7E0EF3BA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9A8-71B8-46E7-8AE0-110DDD7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C7D-A0B0-4F9E-AA42-808E047E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B66-40EE-4CC1-951C-9AC2C546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D00-CB0A-4708-951C-5D2437E4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A64-3BBB-4285-841D-0B286D89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9DD-4BB2-4507-BE0B-29F93788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6CC-DC9A-471F-952F-E6C73417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DFC-8F4C-45B6-98E1-87173A53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E5F-A33E-4A42-BDF8-E9C67B56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A61-D6F2-4EA5-89BB-91BE011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1C1-5D17-48C3-8A8F-390F3FB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D962-B4D2-42E1-92C6-785B1E1FBAAB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3640" y="63072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Enero dos mil cinc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ómo va a ser este cuent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Estudiar el rol de la música en la historia human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2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Trabajar con el sonido en forma similar a cómo el  hombre lo fue entendien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Relación entre la Música y la Ciencia en la histor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Historia de los instrumentos music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Aparición de herramientas tecnológica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54720" y="1701720"/>
            <a:ext cx="2425680" cy="19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trones y Relaciones en la Música y el Sonid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 y Tecnologí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75440" y="549360"/>
            <a:ext cx="3429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95640" y="2046240"/>
            <a:ext cx="1606680" cy="481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24360" y="692280"/>
            <a:ext cx="1824120" cy="480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67640" y="333360"/>
            <a:ext cx="12445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4038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.   Física d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5440" y="4221000"/>
            <a:ext cx="302400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808360" cy="22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6028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V.   Patrones y Relaciones en la Música y el 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2808360" cy="141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36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I.   Música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LAS NOT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Control el Lunes 24 de Enero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Tare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Trabajo Fin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30%Control+30%Tareas+40%Trabajo=NF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 D. Palotes</cp:lastModifiedBy>
  <dcterms:modified xsi:type="dcterms:W3CDTF">2005-01-17T12:40:01Z</dcterms:modified>
  <cp:revision>12</cp:revision>
  <dc:subject/>
  <dc:title>Taller de Ciencias en la Música </dc:title>
</cp:coreProperties>
</file>