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40E-31C9-43AA-B865-C703CF31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C18-23FC-434F-88CB-237C3C45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DB7-209F-4EFC-991C-CDD8949A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B90-DBF8-466A-B3D3-DBABF102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1C3C-D302-4FE6-9BF7-E0A06D89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E082-7D0D-4031-AFB5-F519AA47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8D33-D702-4A85-97B7-098FEC67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2F9-A9DD-4D65-B675-418A7A3E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CA77-5CE0-4D76-97D4-63CC99D4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0A33-10AC-45EF-B9CC-3CA37B1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1CF6-8BD5-40AB-8D58-CA3C21DE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2ED-99CA-4F5B-9045-0830321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0DCF-EF22-4017-8DDB-99467225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13FD-4348-4C7D-9873-9BEA6D0D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2AAB-E107-4DDB-8415-741E7DC9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9ABA-ED89-446F-B75E-21CE837C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7D06-23EA-4C8E-A972-FC299535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16B-45B1-4886-8C32-9617BE87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10E-A7DA-4FA2-919E-64B6745A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299-96F7-47A0-B231-F3BC5284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CF8-C131-4930-BA83-147CD5D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688-8BD8-4C57-91F5-D511A68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6B4-274C-4A07-BC98-7FDC0552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1B3-1E8D-45D1-BE7F-9F67403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A2E5-15A4-48EE-B04D-2560026CC9D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30B5-51C0-45F5-A5D5-C423752594A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238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Sociolog</a:t>
            </a:r>
            <a:r>
              <a:rPr b="1" lang="es-CL" sz="6000" spc="-1" strike="noStrike">
                <a:solidFill>
                  <a:srgbClr val="ffcc66"/>
                </a:solidFill>
                <a:latin typeface="Times New Roman"/>
              </a:rPr>
              <a:t>ía Económica</a:t>
            </a:r>
            <a:br>
              <a:rPr sz="6000"/>
            </a:b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“El Desarrollo Económico al servicio de la Sociedad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038480" y="563832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Juan Eduardo Faúndez 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Consultor CEPAL,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Modelo de desarrollo hacia fuera, que se manifiesta como proceso de sustitución de importanciones, lo cual implica industrialización, y como consecuencia una diversificación de la estructura product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e proceso se inicia en el momento de contacto de dos etapas sucesivas, la denominada de expansión y auge agro-exportador (Chile desde fines de los ochentas) y la carecterizadas por la crisis externa y sustitución de importaciones (ej, II Guerra Mundi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estado y su rol en 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signación de recursos para favorecer la industrializ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Calificación de la mano de obra mediante la modificación de las estructuras educacionales y de la orientación de la educ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Rebajas arancelarias para adquisición de tecnología en el exterior (maquinaria, insumos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rban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Proceso demográfico que se refleja en el crecimiento de la población asentada en ciudades acompañado por un decrecimiento de la asentada en áreas rurales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mérica Latina % Urban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5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26% Población Urb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7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41% Población Urbana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ón Rural – Urbano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na tendencia crecie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2311560"/>
          <a:ext cx="769608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11560"/>
                    <a:ext cx="76960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43000" y="1828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érica Latina: estimaciones de población juvenil y “migración” rural-urb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ones sus razone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xpulsivas, atractivas, políticas, religiosas, raciale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el caso de Latinoamérica durante el siglo XX, las razones radican fundamentalmente en las modificaciones de las estructuras productivas y del consum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migraciones durante el siglo XX, fue uno de los factores fundamentales en la generación de estructuras societales particulares desde 1950 a nuestros días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cc66"/>
                </a:solidFill>
                <a:latin typeface="Times New Roman"/>
              </a:rPr>
              <a:t>Chile,</a:t>
            </a: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los ciclos en la historia del creci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can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Reces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30, crisis internacional, quiebre financiero norteamericano. Chile economía monoproductiva (salitre), debil estructura industrial y financie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75, crisis internacional (petróleo), estado en quieb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82, crisis internacional (cesación de pagos mexicanos), quiebre de la ban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Tipo de cambio fijo 1 dólar=39 pe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1983 PIB cae –12%, desempleo 30% re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Tasas de Desemple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Fuerzas productivas, inclusión o exclus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can0001" descr=""/>
          <p:cNvPicPr/>
          <p:nvPr/>
        </p:nvPicPr>
        <p:blipFill>
          <a:blip r:embed="rId1"/>
          <a:stretch/>
        </p:blipFill>
        <p:spPr>
          <a:xfrm>
            <a:off x="228600" y="79200"/>
            <a:ext cx="853452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Conducta Humana como punto de partida de esta discipli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estudia la interacción, esto es, la relación entre las acciones de un individuo con las de otro (las de un grupo y otro grupo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y el estudio científico de la cultura (y el derecho en particular) se ocupan del estudio de norm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Nuestra dificultad sisté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Desarrollo económico basado en la explotación intensiva de recursos natu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can0003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LA POBREZA Y DESIGUALD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superación, el desafío de los cientistas sociales para el siglo XX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821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sociólogo se interesa en el papel que ellas (LAS NORMAS) desempeñan tanto en la conducta individual como en el proceso de interac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conomía y Política, son disciplinas dedicadas a aspectos particulares de la interacción social y, como tales, deberían ser considerados como partes de la sociología mism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.-El desarrollo de Estado, que racionaliza la distribución del poder legítimo de una n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2.-El desarrollo de sistemas económicos complejos, que distribuyen bienes escasos para usos altern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Ambas ciencias especializadas de la economía y de la política sean esenciales para sus propósitos práctic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ógi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 la sociología como tal no le interesan los problemas económicos como t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interes en la economía radica en que esta es una de las manifestaciones de la acción social de los integrantes de un determinado grupo o socie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enfoque de dicho análisis no es estrictamente económico, aunque se alude a conceptos económic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, </a:t>
            </a:r>
            <a:br>
              <a:rPr sz="4400"/>
            </a:br>
            <a:r>
              <a:rPr b="0" lang="es-CL" sz="3600" spc="-1" strike="noStrike">
                <a:solidFill>
                  <a:srgbClr val="ffcc66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La sociología económica trata de analizar el marco de ciertas estructuras económicas, las relaciones dentro de cada estructura y las relaciones con las otras estructuras, pero haciendo siempre referencia a las relaciones que se manifiestan con los sectores socialmente involucrados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estructuras antes mencionada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duct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Ocup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ingre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consu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ceso tecnológ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a determinación es arbitraria, y su priorización depende de la significancia asociada a cada estructura a la hora de realizar un estudio en particular, pero serán los indicadores mas precisos para definir el desarrollo de una economía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Desarrollo y Subdesarroll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desarrollo está entendido como un progreso hacia una meta determinada de carácter ético donde confluye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político, el objetivo de la autodetermonación de los puebl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económico, el control efectivo de lo que produce cada comunidad para si misma, que se traduce en bienest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social, el imperio de la justi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subdesarrollo, se le considera como un fenómeno social complejo, contemporáneo y cuya existencia está ligada a un determinado esquema de relaciones internacionales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16002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cc66"/>
                </a:solidFill>
                <a:latin typeface="Times New Roman"/>
              </a:rPr>
              <a:t>Algo de historia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economía en el siglo pasado, una epoca de crisis y crecimient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2:00:03Z</dcterms:created>
  <dc:creator>DDPE2</dc:creator>
  <dc:description/>
  <dc:language>en-US</dc:language>
  <cp:lastModifiedBy>DDPE2</cp:lastModifiedBy>
  <dcterms:modified xsi:type="dcterms:W3CDTF">2005-01-11T04:34:13Z</dcterms:modified>
  <cp:revision>9</cp:revision>
  <dc:subject/>
  <dc:title>Sociología Económica “El Desarrollo Económico al servicio de la Sociedad”</dc:title>
</cp:coreProperties>
</file>