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490-BD1C-423D-94D4-C818B690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2E6-9ABA-4E5B-A29F-33B7E12F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A2E-3270-4CA8-A42B-E51C35AD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800-B88D-44F9-B2CF-FD1CA115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9C19-7F37-42A5-A416-49A75D37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0C09-00F8-47B3-BD74-35685C41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6496-B2B7-42C4-B86F-856F51CB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177-28C0-418F-B233-AB5F9B7B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2997-CEAA-42D5-A53F-D3EA9A1A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EC97-E98A-4AE9-89E2-5E0A3A0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C46-14A2-4A54-9805-8E3677B0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40C-26D8-4C8A-AA2A-97549FE4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341-B994-4A81-848A-CB87F3F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9D41-7D85-4D78-A4F7-B9001AC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BB0A-5961-4B9C-8D83-B8F196A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5058-931D-432C-92B5-CAB7B6EB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D8B-2FFA-4004-A67D-3E46A7D9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3F0-1327-4EC9-86A6-EF74715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672-F59C-4BAE-A326-8B52B4E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2E9-BC93-4B14-89EA-3ECF81D3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281-1DF4-4FF5-B7B6-F304F97F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66E-0B2F-4CB1-A4C5-9B9A31E8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F4F-AF66-45D7-8F31-48B8357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521-B11C-4560-AC7F-3418B00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B48-0DBD-4648-81CA-CC1AE5930DB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419A-C7B8-40C0-BE6B-7654E3C186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Sociolog</a:t>
            </a:r>
            <a:r>
              <a:rPr b="1" lang="es-CL" sz="6000" spc="-1" strike="noStrike">
                <a:solidFill>
                  <a:srgbClr val="ffcc66"/>
                </a:solidFill>
                <a:latin typeface="Times New Roman"/>
              </a:rPr>
              <a:t>ía Económica</a:t>
            </a:r>
            <a:br>
              <a:rPr sz="6000"/>
            </a:b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“El Desarrollo Económico al servicio de la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38480" y="56383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Juan Eduardo Faúndez 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onsultor CEPAL,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Modelo de desarrollo hacia fuera, que se manifiesta como proceso de sustitución de importanciones, lo cual implica industrialización, y como consecuencia una diversificación de la estructura product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e proceso se inicia en el momento de contacto de dos etapas sucesivas, la denominada de expansión y auge agro-exportador (Chile desde fines de los ochentas) y la carecterizadas por la crisis externa y sustitución de importaciones (ej, II Guerra Mundi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estado y su rol en 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signación de recursos para favorecer la industrializ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Calificación de la mano de obra mediante la modificación de las estructuras educacionales y de la orientación de la edu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bajas arancelarias para adquisición de tecnología en el exterior (maquinaria, insumo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rban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Proceso demográfico que se refleja en el crecimiento de la población asentada en ciudades acompañado por un decrecimiento de la asentada en áreas rurales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mérica Latina % Urban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5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26% Población Urb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7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41% Población Urbana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ón Rural – Urbano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na tendencia creci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311560"/>
          <a:ext cx="769608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11560"/>
                    <a:ext cx="7696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828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érica Latina: estimaciones de población juvenil y “migración” rural-urb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ones sus razon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xpulsivas, atractivas, políticas, religiosas, raciale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el caso de Latinoamérica durante el siglo XX, las razones radican fundamentalmente en las modificaciones de las estructuras productivas y del consum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migraciones durante el siglo XX, fue uno de los factores fundamentales en la generación de estructuras societales particulares desde 1950 a nuestros día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cc66"/>
                </a:solidFill>
                <a:latin typeface="Times New Roman"/>
              </a:rPr>
              <a:t>Chile,</a:t>
            </a: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los ciclos en la historia del crec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can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Reces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30, crisis internacional, quiebre financiero norteamericano. Chile economía monoproductiva (salitre), debil estructura industrial y financi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75, crisis internacional (petróleo), estado en quieb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82, crisis internacional (cesación de pagos mexicanos), quiebre de la ban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Tipo de cambio fijo 1 dólar=39 p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1983 PIB cae –12%, desempleo 30% re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Tasas de Desempl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Fuerzas productivas, inclusión o exclu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an0001" descr=""/>
          <p:cNvPicPr/>
          <p:nvPr/>
        </p:nvPicPr>
        <p:blipFill>
          <a:blip r:embed="rId1"/>
          <a:stretch/>
        </p:blipFill>
        <p:spPr>
          <a:xfrm>
            <a:off x="228600" y="79200"/>
            <a:ext cx="853452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Conducta Humana como punto de partida de esta discipl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estudia la interacción, esto es, la relación entre las acciones de un individuo con las de otro (las de un grupo y otro grupo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y el estudio científico de la cultura (y el derecho en particular) se ocupan del estudio de norm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Nuestra dificultad sisté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Desarrollo económico basado en la explotación intensiva de recursos natu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an0003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LA POBREZA Y DESIGUAL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superación, el desafío de los cientistas sociales para el siglo XX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sociólogo se interesa en el papel que ellas (LAS NORMAS) desempeñan tanto en la conducta individual como en el proceso de inter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conomía y Política, son disciplinas dedicadas a aspectos particulares de la interacción social y, como tales, deberían ser considerados como partes de la sociología mism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.-El desarrollo de Estado, que racionaliza la distribución del poder legítimo de un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2.-El desarrollo de sistemas económicos complejos, que distribuyen bienes escasos para usos altern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Ambas ciencias especializadas de la economía y de la política sean esenciales para sus propósitos práct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ógi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 la sociología como tal no le interesan los problemas económicos como t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interes en la economía radica en que esta es una de las manifestaciones de la acción social de los integrantes de un determinado grupo o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enfoque de dicho análisis no es estrictamente económico, aunque se alude a conceptos económ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, </a:t>
            </a:r>
            <a:br>
              <a:rPr sz="4400"/>
            </a:br>
            <a:r>
              <a:rPr b="0" lang="es-CL" sz="3600" spc="-1" strike="noStrike">
                <a:solidFill>
                  <a:srgbClr val="ffcc66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La sociología económica trata de analizar el marco de ciertas estructuras económicas, las relaciones dentro de cada estructura y las relaciones con las otras estructuras, pero haciendo siempre referencia a las relaciones que se manifiestan con los sectores socialmente involucrados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estructuras antes mencionada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duct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Ocup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in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ceso tecnológ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a determinación es arbitraria, y su priorización depende de la significancia asociada a cada estructura a la hora de realizar un estudio en particular, pero serán los indicadores mas precisos para definir el desarrollo de una economí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Desarrollo y Subdesarrol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desarrollo está entendido como un progreso hacia una meta determinada de carácter ético donde confluy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político, el objetivo de la autodetermonación de los puebl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económico, el control efectivo de lo que produce cada comunidad para si misma, que se traduce en bienest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social, el imperio de la justi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subdesarrollo, se le considera como un fenómeno social complejo, contemporáneo y cuya existencia está ligada a un determinado esquema de relaciones internacionales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cc66"/>
                </a:solidFill>
                <a:latin typeface="Times New Roman"/>
              </a:rPr>
              <a:t>Algo de historia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economía en el siglo pasado, una epoca de crisis y crecimien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2:00:03Z</dcterms:created>
  <dc:creator>DDPE2</dc:creator>
  <dc:description/>
  <dc:language>en-US</dc:language>
  <cp:lastModifiedBy>DDPE2</cp:lastModifiedBy>
  <dcterms:modified xsi:type="dcterms:W3CDTF">2005-01-11T04:34:13Z</dcterms:modified>
  <cp:revision>9</cp:revision>
  <dc:subject/>
  <dc:title>Sociología Económica “El Desarrollo Económico al servicio de la Sociedad”</dc:title>
</cp:coreProperties>
</file>