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213D-968C-468A-A299-938703FEA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8B81-E59D-4F02-A763-21AE4F1F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D413-128E-49C7-A5DF-D74B4686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0BA5-2024-40E0-ADAD-DCF33505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6917-11B0-4866-9441-23078ADB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81AF-AF46-4EFE-99D7-E16100CB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CA26-5B74-41A3-831C-AC4DBD73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6DB8-80F1-4318-9209-A7B482CB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A300-EF9E-4A0D-90F4-B60B4043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2289-0F5C-4D4A-ACB2-5F17012C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9318-655D-4FE3-A1CC-D8FEB372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4B44-8FAE-4E5B-AF4B-438D0D92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65E6-CF62-4F9F-A875-60BA13EB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F327-034A-4422-AABD-3E138E28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D753-E9EE-4865-BC26-310E044E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103E-86B8-4127-96F9-A29687A6B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2510-86FC-4EA6-A026-A09BC762E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1D35-54B0-4D7C-BE21-072647CB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86A8-4285-4342-B205-7E3D7771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341F-A4CE-40E1-81E2-E6E30995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8D7D-52E6-4EF4-8FAB-6D2507E0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B32F-5C51-4649-A2D3-C8565A65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F350-37E0-4042-9BD6-AC5B1A91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45CD-A5EF-4A8C-8EC1-480C1376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B907-0011-487F-95AF-7B1005D8F07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875A-1992-4476-A15C-457FB4CD37E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723888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Times New Roman"/>
              </a:rPr>
              <a:t>Sociolog</a:t>
            </a:r>
            <a:r>
              <a:rPr b="1" lang="es-CL" sz="6000" spc="-1" strike="noStrike">
                <a:solidFill>
                  <a:srgbClr val="ffcc66"/>
                </a:solidFill>
                <a:latin typeface="Times New Roman"/>
              </a:rPr>
              <a:t>ía Económica</a:t>
            </a:r>
            <a:br>
              <a:rPr sz="6000"/>
            </a:br>
            <a:r>
              <a:rPr b="1" lang="es-CL" sz="4400" spc="-1" strike="noStrike">
                <a:solidFill>
                  <a:srgbClr val="ffcc66"/>
                </a:solidFill>
                <a:latin typeface="Times New Roman"/>
              </a:rPr>
              <a:t>“El Desarrollo Económico al servicio de la Sociedad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038480" y="5638320"/>
            <a:ext cx="4724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Juan Eduardo Faúndez 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Times New Roman"/>
              </a:rPr>
              <a:t>Consultor CEPAL, Naciones Unid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El proceso de industrializació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Modelo de desarrollo hacia fuera, que se manifiesta como proceso de sustitución de importanciones, lo cual implica industrialización, y como consecuencia una diversificación de la estructura productiv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ste proceso se inicia en el momento de contacto de dos etapas sucesivas, la denominada de expansión y auge agro-exportador (Chile desde fines de los ochentas) y la carecterizadas por la crisis externa y sustitución de importaciones (ej, II Guerra Mundial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El estado y su rol en el proceso de industrializació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Asignación de recursos para favorecer la industrializa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Calificación de la mano de obra mediante la modificación de las estructuras educacionales y de la orientación de la educa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Rebajas arancelarias para adquisición de tecnología en el exterior (maquinaria, insumos, etc.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Urbanizació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“ 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Proceso demográfico que se refleja en el crecimiento de la población asentada en ciudades acompañado por un decrecimiento de la asentada en áreas rurales”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América Latina % Urbanizació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1950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26% Población Urban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1970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41% Población Urbana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Migración Rural – Urbano</a:t>
            </a:r>
            <a:br>
              <a:rPr sz="4400"/>
            </a:b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Una tendencia crecien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143000" y="2311560"/>
          <a:ext cx="7696080" cy="41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311560"/>
                    <a:ext cx="769608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1143000" y="18288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érica Latina: estimaciones de población juvenil y “migración” rural-urban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Migraciones sus razones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xpulsivas, atractivas, políticas, religiosas, raciales, 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n el caso de Latinoamérica durante el siglo XX, las razones radican fundamentalmente en las modificaciones de las estructuras productivas y del consum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   “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Las migraciones durante el siglo XX, fue uno de los factores fundamentales en la generación de estructuras societales particulares desde 1950 a nuestros días”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cc66"/>
                </a:solidFill>
                <a:latin typeface="Times New Roman"/>
              </a:rPr>
              <a:t>Chile,</a:t>
            </a: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los ciclos en la historia del crecimient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scan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Recesion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1930, crisis internacional, quiebre financiero norteamericano. Chile economía monoproductiva (salitre), debil estructura industrial y financier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1975, crisis internacional (petróleo), estado en quiebr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1982, crisis internacional (cesación de pagos mexicanos), quiebre de la banc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*Tipo de cambio fijo 1 dólar=39 pes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*1983 PIB cae –12%, desempleo 30% re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Tasas de Desemple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Fuerzas productivas, inclusión o exclus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scan0001" descr=""/>
          <p:cNvPicPr/>
          <p:nvPr/>
        </p:nvPicPr>
        <p:blipFill>
          <a:blip r:embed="rId1"/>
          <a:stretch/>
        </p:blipFill>
        <p:spPr>
          <a:xfrm>
            <a:off x="228600" y="79200"/>
            <a:ext cx="8534520" cy="682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Sociología en las Ciencias Socia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La Conducta Humana como punto de partida de esta disciplin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Sociología estudia la interacción, esto es, la relación entre las acciones de un individuo con las de otro (las de un grupo y otro grupo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Sociología y el estudio científico de la cultura (y el derecho en particular) se ocupan del estudio de norma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Nuestra dificultad sistémi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Desarrollo económico basado en la explotación intensiva de recursos natural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scan0003" descr=""/>
          <p:cNvPicPr/>
          <p:nvPr/>
        </p:nvPicPr>
        <p:blipFill>
          <a:blip r:embed="rId1"/>
          <a:stretch/>
        </p:blipFill>
        <p:spPr>
          <a:xfrm>
            <a:off x="228600" y="0"/>
            <a:ext cx="86104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cc66"/>
                </a:solidFill>
                <a:latin typeface="Times New Roman"/>
              </a:rPr>
              <a:t>LA POBREZA Y DESIGUALDA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Su superación, el desafío de los cientistas sociales para el siglo XX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0" y="0"/>
          <a:ext cx="9144000" cy="6821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2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Sociología en las Ciencias Sociales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El sociólogo se interesa en el papel que ellas (LAS NORMAS) desempeñan tanto en la conducta individual como en el proceso de interac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Sociología en las Ciencias Sociales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conomía y Política, son disciplinas dedicadas a aspectos particulares de la interacción social y, como tales, deberían ser considerados como partes de la sociología mism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1.-El desarrollo de Estado, que racionaliza la distribución del poder legítimo de una nació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2.-El desarrollo de sistemas económicos complejos, que distribuyen bienes escasos para usos alternativo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Ambas ciencias especializadas de la economía y de la política sean esenciales para sus propósitos práctico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Sociológia Económi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A la sociología como tal no le interesan los problemas económicos como tal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Su interes en la economía radica en que esta es una de las manifestaciones de la acción social de los integrantes de un determinado grupo o socieda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El enfoque de dicho análisis no es estrictamente económico, aunque se alude a conceptos económico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Sociología Económica, </a:t>
            </a:r>
            <a:br>
              <a:rPr sz="4400"/>
            </a:br>
            <a:r>
              <a:rPr b="0" lang="es-CL" sz="3600" spc="-1" strike="noStrike">
                <a:solidFill>
                  <a:srgbClr val="ffcc66"/>
                </a:solidFill>
                <a:latin typeface="Times New Roman"/>
              </a:rPr>
              <a:t>Definición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s-CL" sz="3600" spc="-1" strike="noStrike">
                <a:solidFill>
                  <a:srgbClr val="eaeaea"/>
                </a:solidFill>
                <a:latin typeface="Times New Roman"/>
              </a:rPr>
              <a:t>La sociología económica trata de analizar el marco de ciertas estructuras económicas, las relaciones dentro de cada estructura y las relaciones con las otras estructuras, pero haciendo siempre referencia a las relaciones que se manifiestan con los sectores socialmente involucrados”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Sociología Económi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Las estructuras antes mencionadas son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- Productiv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- Ocupacion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- Del ingres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- Del consum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- Proceso tecnológic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    “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sta determinación es arbitraria, y su priorización depende de la significancia asociada a cada estructura a la hora de realizar un estudio en particular, pero serán los indicadores mas precisos para definir el desarrollo de una economía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66"/>
                </a:solidFill>
                <a:latin typeface="Times New Roman"/>
              </a:rPr>
              <a:t>Desarrollo y Subdesarroll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l desarrollo está entendido como un progreso hacia una meta determinada de carácter ético donde confluyen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n lo político, el objetivo de la autodetermonación de los pueblo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n lo económico, el control efectivo de lo que produce cada comunidad para si misma, que se traduce en bienestar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n lo social, el imperio de la justici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    “</a:t>
            </a:r>
            <a:r>
              <a:rPr b="0" lang="es-CL" sz="2800" spc="-1" strike="noStrike">
                <a:solidFill>
                  <a:srgbClr val="eaeaea"/>
                </a:solidFill>
                <a:latin typeface="Times New Roman"/>
              </a:rPr>
              <a:t>El subdesarrollo, se le considera como un fenómeno social complejo, contemporáneo y cuya existencia está ligada a un determinado esquema de relaciones internacionales”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160020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ffcc66"/>
                </a:solidFill>
                <a:latin typeface="Times New Roman"/>
              </a:rPr>
              <a:t>Algo de historia...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</a:rPr>
              <a:t>La economía en el siglo pasado, una epoca de crisis y crecimiento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02:00:03Z</dcterms:created>
  <dc:creator>DDPE2</dc:creator>
  <dc:description/>
  <dc:language>en-US</dc:language>
  <cp:lastModifiedBy>DDPE2</cp:lastModifiedBy>
  <dcterms:modified xsi:type="dcterms:W3CDTF">2005-01-11T04:34:13Z</dcterms:modified>
  <cp:revision>9</cp:revision>
  <dc:subject/>
  <dc:title>Sociología Económica “El Desarrollo Económico al servicio de la Sociedad”</dc:title>
</cp:coreProperties>
</file>