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0FF-C76E-4563-9DD1-8571A816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ECD-A0A2-4C2D-B94C-6280B88C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CB0-C6CF-40E8-AD5D-E84CB6A2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D93-C022-46E8-9B0A-1EB1F0DF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0344-C2D3-4B59-ABC3-59724A21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1D49-B911-4D3D-A576-1418690C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3670-8E20-4DDD-83A0-6FEFFAF3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1888-48F2-4FE0-8755-3981ECB8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1244-CD85-4D53-B9A2-6F9D0B8A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03BE-3F3D-48A2-8DED-69CB4562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531C-A859-4C5D-BCFF-338281F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C88-AAD0-4CFC-8D01-26694259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237B-6F2A-41CA-86FA-78D11AB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3FD8-CB59-42C0-AE99-B757D903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1116-674F-474A-96E2-563AFFDD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73DB-D0CB-497A-BDE4-0E8299CA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D406-79CE-4D74-8194-4CAED30F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CC3-41FA-4035-90B9-B8C717FF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668-EE2D-4776-8F8D-E0C674A7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FDC-58FE-41D9-BA98-3F2E3F01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C32-D81D-441B-AC62-B796B525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271-7253-4DEE-9ED9-9EFC7704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ACA-B470-473D-9282-C5457E66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1B3-D925-4C98-A35A-FB4871AB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3288-0391-451C-BF63-CEB1F72C7A0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A49D-6E5A-4B4F-8C72-93CD0D3B4B5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7238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Sociolog</a:t>
            </a:r>
            <a:r>
              <a:rPr b="1" lang="es-CL" sz="6000" spc="-1" strike="noStrike">
                <a:solidFill>
                  <a:srgbClr val="ffcc66"/>
                </a:solidFill>
                <a:latin typeface="Times New Roman"/>
              </a:rPr>
              <a:t>ía Económica</a:t>
            </a:r>
            <a:br>
              <a:rPr sz="6000"/>
            </a:br>
            <a:r>
              <a:rPr b="1" lang="es-CL" sz="4400" spc="-1" strike="noStrike">
                <a:solidFill>
                  <a:srgbClr val="ffcc66"/>
                </a:solidFill>
                <a:latin typeface="Times New Roman"/>
              </a:rPr>
              <a:t>“El Desarrollo Económico al servicio de la Sociedad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038480" y="563832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Juan Eduardo Faúndez 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Consultor CEPAL,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El proceso de industrial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Modelo de desarrollo hacia fuera, que se manifiesta como proceso de sustitución de importanciones, lo cual implica industrialización, y como consecuencia una diversificación de la estructura producti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ste proceso se inicia en el momento de contacto de dos etapas sucesivas, la denominada de expansión y auge agro-exportador (Chile desde fines de los ochentas) y la carecterizadas por la crisis externa y sustitución de importaciones (ej, II Guerra Mundi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El estado y su rol en el proceso de industrial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signación de recursos para favorecer la industrializ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Calificación de la mano de obra mediante la modificación de las estructuras educacionales y de la orientación de la educ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Rebajas arancelarias para adquisición de tecnología en el exterior (maquinaria, insumos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Urban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Proceso demográfico que se refleja en el crecimiento de la población asentada en ciudades acompañado por un decrecimiento de la asentada en áreas rurales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mérica Latina % Urbaniz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1950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26% Población Urb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1970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41% Población Urbana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Migración Rural – Urbano</a:t>
            </a: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Una tendencia crecie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2311560"/>
          <a:ext cx="769608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11560"/>
                    <a:ext cx="769608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143000" y="1828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érica Latina: estimaciones de población juvenil y “migración” rural-urb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Migraciones sus razone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xpulsivas, atractivas, políticas, religiosas, raciale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el caso de Latinoamérica durante el siglo XX, las razones radican fundamentalmente en las modificaciones de las estructuras productivas y del consum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Las migraciones durante el siglo XX, fue uno de los factores fundamentales en la generación de estructuras societales particulares desde 1950 a nuestros días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cc66"/>
                </a:solidFill>
                <a:latin typeface="Times New Roman"/>
              </a:rPr>
              <a:t>Chile,</a:t>
            </a: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los ciclos en la historia del creci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can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Recesio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30, crisis internacional, quiebre financiero norteamericano. Chile economía monoproductiva (salitre), debil estructura industrial y financie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75, crisis internacional (petróleo), estado en quieb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82, crisis internacional (cesación de pagos mexicanos), quiebre de la ban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*Tipo de cambio fijo 1 dólar=39 pes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*1983 PIB cae –12%, desempleo 30% re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Tasas de Desemple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Fuerzas productivas, inclusión o exclus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can0001" descr=""/>
          <p:cNvPicPr/>
          <p:nvPr/>
        </p:nvPicPr>
        <p:blipFill>
          <a:blip r:embed="rId1"/>
          <a:stretch/>
        </p:blipFill>
        <p:spPr>
          <a:xfrm>
            <a:off x="228600" y="79200"/>
            <a:ext cx="853452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La Conducta Humana como punto de partida de esta disciplin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ociología estudia la interacción, esto es, la relación entre las acciones de un individuo con las de otro (las de un grupo y otro grupo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ociología y el estudio científico de la cultura (y el derecho en particular) se ocupan del estudio de norm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Nuestra dificultad sisté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Desarrollo económico basado en la explotación intensiva de recursos natur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can0003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66"/>
                </a:solidFill>
                <a:latin typeface="Times New Roman"/>
              </a:rPr>
              <a:t>LA POBREZA Y DESIGUALD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u superación, el desafío de los cientistas sociales para el siglo XX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0"/>
          <a:ext cx="9144000" cy="6821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El sociólogo se interesa en el papel que ellas (LAS NORMAS) desempeñan tanto en la conducta individual como en el proceso de interac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conomía y Política, son disciplinas dedicadas a aspectos particulares de la interacción social y, como tales, deberían ser considerados como partes de la sociología mism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.-El desarrollo de Estado, que racionaliza la distribución del poder legítimo de una n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2.-El desarrollo de sistemas económicos complejos, que distribuyen bienes escasos para usos alternativ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Ambas ciencias especializadas de la economía y de la política sean esenciales para sus propósitos práctic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ógia Econó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 la sociología como tal no le interesan los problemas económicos como t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u interes en la economía radica en que esta es una de las manifestaciones de la acción social de los integrantes de un determinado grupo o socie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El enfoque de dicho análisis no es estrictamente económico, aunque se alude a conceptos económic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conómica, </a:t>
            </a:r>
            <a:br>
              <a:rPr sz="4400"/>
            </a:br>
            <a:r>
              <a:rPr b="0" lang="es-CL" sz="3600" spc="-1" strike="noStrike">
                <a:solidFill>
                  <a:srgbClr val="ffcc66"/>
                </a:solidFill>
                <a:latin typeface="Times New Roman"/>
              </a:rPr>
              <a:t>Definició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CL" sz="3600" spc="-1" strike="noStrike">
                <a:solidFill>
                  <a:srgbClr val="eaeaea"/>
                </a:solidFill>
                <a:latin typeface="Times New Roman"/>
              </a:rPr>
              <a:t>La sociología económica trata de analizar el marco de ciertas estructuras económicas, las relaciones dentro de cada estructura y las relaciones con las otras estructuras, pero haciendo siempre referencia a las relaciones que se manifiestan con los sectores socialmente involucrados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conó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Las estructuras antes mencionadas s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Product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Ocup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Del ingre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Del consu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Proceso tecnológ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sta determinación es arbitraria, y su priorización depende de la significancia asociada a cada estructura a la hora de realizar un estudio en particular, pero serán los indicadores mas precisos para definir el desarrollo de una economía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Desarrollo y Subdesarroll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l desarrollo está entendido como un progreso hacia una meta determinada de carácter ético donde confluye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político, el objetivo de la autodetermonación de los puebl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económico, el control efectivo de lo que produce cada comunidad para si misma, que se traduce en bienest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social, el imperio de la justic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l subdesarrollo, se le considera como un fenómeno social complejo, contemporáneo y cuya existencia está ligada a un determinado esquema de relaciones internacionales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16002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cc66"/>
                </a:solidFill>
                <a:latin typeface="Times New Roman"/>
              </a:rPr>
              <a:t>Algo de historia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La economía en el siglo pasado, una epoca de crisis y crecimiento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02:00:03Z</dcterms:created>
  <dc:creator>DDPE2</dc:creator>
  <dc:description/>
  <dc:language>en-US</dc:language>
  <cp:lastModifiedBy>DDPE2</cp:lastModifiedBy>
  <dcterms:modified xsi:type="dcterms:W3CDTF">2005-01-11T04:34:13Z</dcterms:modified>
  <cp:revision>9</cp:revision>
  <dc:subject/>
  <dc:title>Sociología Económica “El Desarrollo Económico al servicio de la Sociedad”</dc:title>
</cp:coreProperties>
</file>