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48E-299E-47AD-BAC7-EFDB2E5C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78E-6251-4EFF-B642-60C51666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878-9C06-4256-B725-492F437B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B59-3495-4A28-B119-341F5387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994F-29C1-47AC-B8F7-71370BD5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01AC-B357-42A9-8AAF-E5C259DA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C861-4700-489E-8DE7-AB9F3D8E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1BA0-D1E4-4764-8BAC-70C43C6E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D0DF-2983-4FE0-ADFB-36C07109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79FC-F4B3-4444-BB11-0002FDDD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D058-AC0A-48D1-96AC-E833F96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558-DEB1-48F3-AE9C-54931722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0CD9-882F-465E-9424-A91F4CE5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D0FB-5017-44A8-92EA-EB1A7FE1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EFDC-7F2A-4ADF-9FC6-649AABA8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16B6-264C-4960-85A6-2B0F0533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CEEC-38B0-40AF-B645-3D31B8DB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470-5E80-4B91-8753-FACF73DE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32F-509F-4F3D-B7F9-32DF8BD9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C7F-F756-465B-AF9A-0A49B1E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952-3A83-48AA-81A1-926745D0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9B1-1B4B-461E-86D3-88FD38DB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1D8-1F4F-4D6F-BD16-2453B6B9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426-CCAC-4224-82BB-D35A26C2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FC74-2D2E-456C-929C-7E3C7D526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BAF5-7B61-4EAA-9D80-599340FC9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PROGRAMA_DE_PSIC_GENERAL__2002.htm" TargetMode="External"/><Relationship Id="rId2" Type="http://schemas.openxmlformats.org/officeDocument/2006/relationships/hyperlink" Target="http://rehue.csociales.uchile.cl/psicologia/fundamentos_sociologia_general.htm" TargetMode="External"/><Relationship Id="rId3" Type="http://schemas.openxmlformats.org/officeDocument/2006/relationships/hyperlink" Target="http://rehue.csociales.uchile.cl/psicologia/realidad_chilena.htm" TargetMode="External"/><Relationship Id="rId4" Type="http://schemas.openxmlformats.org/officeDocument/2006/relationships/hyperlink" Target="http://rehue.csociales.uchile.cl/psicologia/calendario_psicobiologia.htm" TargetMode="External"/><Relationship Id="rId5" Type="http://schemas.openxmlformats.org/officeDocument/2006/relationships/hyperlink" Target="http://rehue.csociales.uchile.cl/psicologia/calendario_psicobiologia.htm" TargetMode="External"/><Relationship Id="rId6" Type="http://schemas.openxmlformats.org/officeDocument/2006/relationships/hyperlink" Target="http://rehue.csociales.uchile.cl/psicologia/int_metdo_psiycsociales.htm" TargetMode="External"/><Relationship Id="rId7" Type="http://schemas.openxmlformats.org/officeDocument/2006/relationships/hyperlink" Target="http://rehue.csociales.uchile.cl/psicologia/filosofia.htm" TargetMode="External"/><Relationship Id="rId8" Type="http://schemas.openxmlformats.org/officeDocument/2006/relationships/hyperlink" Target="http://rehue.csociales.uchile.cl/psicologia/psic-evol.htm" TargetMode="External"/><Relationship Id="rId9" Type="http://schemas.openxmlformats.org/officeDocument/2006/relationships/hyperlink" Target="http://rehue.csociales.uchile.cl/psicologia/estadistica_I.htm" TargetMode="External"/><Relationship Id="rId10" Type="http://schemas.openxmlformats.org/officeDocument/2006/relationships/hyperlink" Target="http://sociales.uchile.cl/psaprendizaje/index.htm" TargetMode="External"/><Relationship Id="rId11" Type="http://schemas.openxmlformats.org/officeDocument/2006/relationships/hyperlink" Target="http://rehue.csociales.uchile.cl/psicologia/neuropsicofisiologia.htm" TargetMode="External"/><Relationship Id="rId12" Type="http://schemas.openxmlformats.org/officeDocument/2006/relationships/hyperlink" Target="http://rehue.csociales.uchile.cl/psicologia/psicolog%EDa_social_ii.htm" TargetMode="External"/><Relationship Id="rId13" Type="http://schemas.openxmlformats.org/officeDocument/2006/relationships/hyperlink" Target="http://rehue.csociales.uchile.cl/psicologia/Epistemologia2002.doc" TargetMode="External"/><Relationship Id="rId14" Type="http://schemas.openxmlformats.org/officeDocument/2006/relationships/hyperlink" Target="http://rehue.csociales.uchile.cl/psicologia/psicologia_social_iii.htm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Psicometrica.htm" TargetMode="External"/><Relationship Id="rId2" Type="http://schemas.openxmlformats.org/officeDocument/2006/relationships/hyperlink" Target="http://rehue.csociales.uchile.cl/psicologia/Psicometrica.htm" TargetMode="External"/><Relationship Id="rId3" Type="http://schemas.openxmlformats.org/officeDocument/2006/relationships/hyperlink" Target="http://rehue.csociales.uchile.cl/psicologia/epe/escolar_1.htm" TargetMode="External"/><Relationship Id="rId4" Type="http://schemas.openxmlformats.org/officeDocument/2006/relationships/hyperlink" Target="http://rehue.csociales.uchile.cl/psicologia/psicologia_anormal.htm" TargetMode="External"/><Relationship Id="rId5" Type="http://schemas.openxmlformats.org/officeDocument/2006/relationships/hyperlink" Target="http://rehue.csociales.uchile.cl/psicologia/neuropsicolog%EDa.htm" TargetMode="External"/><Relationship Id="rId6" Type="http://schemas.openxmlformats.org/officeDocument/2006/relationships/hyperlink" Target="http://rehue.csociales.uchile.cl/psicologia/interpretaci%F3n_pruebas_spicologica_II.htm" TargetMode="External"/><Relationship Id="rId7" Type="http://schemas.openxmlformats.org/officeDocument/2006/relationships/hyperlink" Target="http://rehue.csociales.uchile.cl/psicologia/area_laboral_organizacional.htm" TargetMode="External"/><Relationship Id="rId8" Type="http://schemas.openxmlformats.org/officeDocument/2006/relationships/hyperlink" Target="http://rehue.csociales.uchile.cl/psicologia/psicologia_comunitaria.htm" TargetMode="External"/><Relationship Id="rId9" Type="http://schemas.openxmlformats.org/officeDocument/2006/relationships/hyperlink" Target="http://rehue.csociales.uchile.cl/cursos/psi00004.htm" TargetMode="External"/><Relationship Id="rId10" Type="http://schemas.openxmlformats.org/officeDocument/2006/relationships/hyperlink" Target="http://rehue.csociales.uchile.cl/psicologia/epe/educacional.htm" TargetMode="External"/><Relationship Id="rId11" Type="http://schemas.openxmlformats.org/officeDocument/2006/relationships/hyperlink" Target="http://rehue.csociales.uchile.cl/psicologia/siquiatria.htm" TargetMode="External"/><Relationship Id="rId12" Type="http://schemas.openxmlformats.org/officeDocument/2006/relationships/hyperlink" Target="http://rehue.csociales.uchile.cl/psicologia/Evaluacion_tecnicas_proyectivas.htm" TargetMode="External"/><Relationship Id="rId13" Type="http://schemas.openxmlformats.org/officeDocument/2006/relationships/hyperlink" Target="http://rehue.csociales.uchile.cl/psicologia/psicoterapia_infanto.htm" TargetMode="External"/><Relationship Id="rId14" Type="http://schemas.openxmlformats.org/officeDocument/2006/relationships/hyperlink" Target="http://rehue.csociales.uchile.cl/psicologia/psicoterapia_infanto.htm" TargetMode="External"/><Relationship Id="rId15" Type="http://schemas.openxmlformats.org/officeDocument/2006/relationships/hyperlink" Target="http://rehue.csociales.uchile.cl/psicologia/psicoterapia_infanto.htm" TargetMode="External"/><Relationship Id="rId16" Type="http://schemas.openxmlformats.org/officeDocument/2006/relationships/hyperlink" Target="http://rehue.csociales.uchile.cl/psicologia/metodolog%EDa_de_la_investigaci%F3n_.htm" TargetMode="External"/><Relationship Id="rId17" Type="http://schemas.openxmlformats.org/officeDocument/2006/relationships/hyperlink" Target="http://rehue.csociales.uchile.cl/psicologia/area_laboral_organizacional.htm" TargetMode="External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area_laboral_organizacional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Especialidades de la Psicologí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759280" y="5516640"/>
            <a:ext cx="3384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. Francesca Cayazzo 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. Sebastián Vidal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Investigació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es la investigación en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ómo se investig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importancia de la formación de post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as áreas de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79280" y="189000"/>
          <a:ext cx="8713800" cy="5805360"/>
        </p:xfrm>
        <a:graphic>
          <a:graphicData uri="http://schemas.openxmlformats.org/drawingml/2006/table">
            <a:tbl>
              <a:tblPr/>
              <a:tblGrid>
                <a:gridCol w="2903760"/>
                <a:gridCol w="2906640"/>
                <a:gridCol w="290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Psicología General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Fundamentos de Sociología General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mentos de Antropología General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Realidad Chilena y Latinoamerican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Psicobiología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 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Introducción a la Metodología en Psicología y Ciencias Sociales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máticas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Filosofí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y Sistemas Psicológi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. Filosóficos de la Psic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ropología Socio Cultur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rop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ologí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biologí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Social I Introducción a la Compu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So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robi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formación gen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und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Psicología Evolutiv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Estadística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Psicología del Aprendizaje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de la Personalidad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Neuropsicofisiologí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Psicología Social I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Epistemología Psicológic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odología de las Ciencias 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lo Vital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bi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tura y Sociedad Latinoamerica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Psicología Social III</a:t>
                      </a: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dístic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todos de análisis de dat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lo Vital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as Psico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244440"/>
          <a:ext cx="8568720" cy="6218280"/>
        </p:xfrm>
        <a:graphic>
          <a:graphicData uri="http://schemas.openxmlformats.org/drawingml/2006/table">
            <a:tbl>
              <a:tblPr/>
              <a:tblGrid>
                <a:gridCol w="2855880"/>
                <a:gridCol w="2856960"/>
                <a:gridCol w="2855880"/>
              </a:tblGrid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c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s y Sistemas Psicológic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icación e Interpretación de Pruebas Psicológicas I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Metodología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Psicométrica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de la Comunicación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Psicología Escolar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Psicología Anormal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Neuropsicologí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i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Psicoanalítica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Conductual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Cognitiva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Humanista Existen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Aplicación e Interpretación de Pruebas Psicológicas II </a:t>
                      </a:r>
                      <a:br>
                        <a:rPr sz="1200"/>
                      </a:b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etodología de la Investigación Cualitativa Electiv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écnicas de Evaluación Psicológica Teoría Psicoanalítica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oría Cognitiva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oría Sistémica-Comuni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en Psic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r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Psicología del Trabajo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Psicología Comunitaria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Psicología Escolar I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Psicología Educaciona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Psiquiatrí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Aplicación e Interpretación de Pruebas Psicológicas Proyectiva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terapia Adultos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Psicoterapia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Infanto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5"/>
                        </a:rPr>
                        <a:t> Juveni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cnicas de Evaluación Psicológic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omunit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patología Gen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Laboral/ 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tiv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sicología Comunitaria 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66"/>
                          </a:solidFill>
                          <a:uFillTx/>
                          <a:latin typeface="Verdana"/>
                          <a:ea typeface="Times New Roman"/>
                          <a:hlinkClick r:id="rId16"/>
                        </a:rPr>
                        <a:t>Metodología de la Investigación Científic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66"/>
                          </a:solidFill>
                          <a:uFillTx/>
                          <a:latin typeface="Verdana"/>
                          <a:ea typeface="Times New Roman"/>
                          <a:hlinkClick r:id="rId17"/>
                        </a:rPr>
                        <a:t>Psicología Organizacion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quiatría Alum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patología Infanto-Juven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de las Organiz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476280"/>
          <a:ext cx="8496000" cy="6375240"/>
        </p:xfrm>
        <a:graphic>
          <a:graphicData uri="http://schemas.openxmlformats.org/drawingml/2006/table">
            <a:tbl>
              <a:tblPr/>
              <a:tblGrid>
                <a:gridCol w="2884320"/>
                <a:gridCol w="2670120"/>
                <a:gridCol w="294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n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Administración y Desarrollo de Recursos Human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línica de Adult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linica Infanto Juvenil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Jurídic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Psicologí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icas de Psicodiagnóst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diagnóstico Clín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mentos de Psicoterap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ategias de interve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2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o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inario de Investigació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ción Organizacion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Psicologí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álisis Psicosocial del sist. edu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endizaje en Sistemas Edu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y planificación Estrateg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 y Eval. De Prog. Edu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s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áctic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22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Profes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ia para optar al título de Psicólo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Laboral/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de recursos huma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ción de pers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ación de Recursos Huma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rrollo 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Especialidades en Psicología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rmación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24160" y="2631960"/>
            <a:ext cx="66852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psicología busca formar profesionales capaces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1.Comp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2. Evalu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 Predec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4. Interven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1680" y="354636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2004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40400" y="3200400"/>
            <a:ext cx="180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Cogni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Emo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Condu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0560" y="5257800"/>
            <a:ext cx="82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da una de las etapas del Ciclo V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los distintos ámbitos en los que se desenvuelve el individ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2760" y="380880"/>
            <a:ext cx="35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Times New Roman"/>
              </a:rPr>
              <a:t>Campo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9051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00"/>
                </a:solidFill>
                <a:latin typeface="Times New Roman"/>
              </a:rPr>
              <a:t>Los principales objetivos del trabajo psicológico son:</a:t>
            </a: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 Promover el desarrollo óptimo de las potencialidades del ser hum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 Prevenir y solucionar alteraciones y desajustes en distintos niveles de interv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4880" y="476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85680" y="457200"/>
            <a:ext cx="56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imes New Roman"/>
              </a:rPr>
              <a:t>Campo de Ejercicio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4640" y="2286000"/>
            <a:ext cx="4290840" cy="3993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 Investig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Doc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Educ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 Lab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 Comuni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 Jud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7. Clínica y salud 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8520" y="15228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Juríd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676520"/>
            <a:ext cx="7407360" cy="19227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ama de la Psicología en que la conducta humana se relaciona con algún proceso jud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nte entre la Psicología y el Der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76212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7960" y="3809880"/>
            <a:ext cx="546912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Áreas de acción de la Psicología Jur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2360" y="4419720"/>
            <a:ext cx="4693320" cy="2228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Jurídica Pol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Psicología Jurídica, el menor y la fam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Penitenci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de las Víct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cencia e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d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For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981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Educac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91440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4880" y="1870200"/>
            <a:ext cx="7711920" cy="1618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objetivo del psicólogo educacional es la reflexión e intervención sobre el comportamiento humano, en situaciones educativas, mediante el desarrollo de las capacidades de las personas, grupos e institucio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sí mismo interviene en todos los procesos psicológicos que afectan el aprendizaje, o que de este se deriv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5720" y="3657600"/>
            <a:ext cx="54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imes New Roman"/>
              </a:rPr>
              <a:t>FUNCIONES DEL PSICOLOGO EDUC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50840" y="4191120"/>
            <a:ext cx="7940880" cy="2533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Intervenir ante las necesidades educativas de los alum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Funciones ligadas a la orientación, asesoramiento Profesional y vo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Funciones preve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Intervención en el mejoramiento del acto educ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Formación y asesoramiento famil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Intervención Socioeduc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. Investigación y doc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46040" y="990720"/>
            <a:ext cx="48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ffff66"/>
                </a:solidFill>
                <a:latin typeface="Times New Roman"/>
              </a:rPr>
              <a:t>Disciplina puente entre la Psicología y la Educació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5040" y="22860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Organizacional/ Labo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91440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1480" y="201924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imes New Roman"/>
              </a:rPr>
              <a:t>¿CÓMO PLANIFICAR, DIRIGIR, EVALUAR Y ADMINISTRA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50840" y="2556000"/>
            <a:ext cx="794088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Psicología Organizacional estudia el efecto que causan en el individuo los procesos organizacionales                        Clima, Liderazgo, Motivación, Cultura, Comunicación, Conflic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2004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0520" y="41194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Rol Psicólogo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0680" y="4952880"/>
            <a:ext cx="520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lección de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laciones Laborales (Legislación, Negoci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 del rend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venciones Organiz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7242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7520" y="510552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EFICA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EFICI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343400"/>
            <a:ext cx="990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2840" y="419112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b7"/>
                </a:solidFill>
                <a:latin typeface="Times New Roman"/>
              </a:rPr>
              <a:t>Orientación pragmát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Psicología Social Comunitari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490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Importancia de la disti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utogestión v/s Representacione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jeto operando en interacción con ot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re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8880" y="8362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Psicología Clínic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olog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nómenos clínicos (Desde dónde miram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re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234936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565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oderar a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1:22:46Z</dcterms:created>
  <dc:creator>Sebastián Vidal</dc:creator>
  <dc:description/>
  <dc:language>en-US</dc:language>
  <cp:lastModifiedBy>Sebastián Vidal</cp:lastModifiedBy>
  <dcterms:modified xsi:type="dcterms:W3CDTF">2003-01-23T13:55:14Z</dcterms:modified>
  <cp:revision>6</cp:revision>
  <dc:subject/>
  <dc:title>Diapositiva 1</dc:title>
</cp:coreProperties>
</file>