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CA5-1941-4248-8EFA-178F8C06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926-0E5D-4506-B2B8-E802C979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9D4-6DE0-4D4C-A8BB-25E35F7F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197-D200-469E-BC7D-29A478C3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8DF2-9C34-4329-B6AA-56EDBB27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F4AF-1814-4278-AF86-146973B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BB5-58CD-44B8-A7D0-3F685B8C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6926-502B-4A60-82A4-681B7BF4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F6F4-C0F3-45D3-A2F8-47AD9B03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A13-50B9-446C-BC8D-C41A28C9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668-193F-4D92-BE50-1FC23CE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823-E740-4673-BF24-72DB3A2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1DF7-638C-4169-81B4-5921C80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4B8F-E315-4B81-BEC7-4E4655C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41E7-001F-4B6A-8F42-5FAB91AC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896-4227-4C59-A6D5-034F7329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14F8-54D9-48B7-8F5B-B33892FA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24B-6827-429D-8B16-D29D799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10-6786-44B3-8FC0-CB8878C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E82-7819-443B-BFA4-4CA0036F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884-EA96-49BE-A2C5-0AB8555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511-EFC7-4FC4-80A3-E9F194A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D53-12A9-479D-B7F7-9AD9AD96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31D-C73F-4D20-A8DC-CBEA71C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125F-951E-44D5-BF86-13B7D23DF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04E-060D-4958-9EC2-A5BC05C96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ROGRAMA_DE_PSIC_GENERAL__2002.htm" TargetMode="External"/><Relationship Id="rId2" Type="http://schemas.openxmlformats.org/officeDocument/2006/relationships/hyperlink" Target="http://rehue.csociales.uchile.cl/psicologia/fundamentos_sociologia_general.htm" TargetMode="External"/><Relationship Id="rId3" Type="http://schemas.openxmlformats.org/officeDocument/2006/relationships/hyperlink" Target="http://rehue.csociales.uchile.cl/psicologia/realidad_chilena.htm" TargetMode="External"/><Relationship Id="rId4" Type="http://schemas.openxmlformats.org/officeDocument/2006/relationships/hyperlink" Target="http://rehue.csociales.uchile.cl/psicologia/calendario_psicobiologia.htm" TargetMode="External"/><Relationship Id="rId5" Type="http://schemas.openxmlformats.org/officeDocument/2006/relationships/hyperlink" Target="http://rehue.csociales.uchile.cl/psicologia/calendario_psicobiologia.htm" TargetMode="External"/><Relationship Id="rId6" Type="http://schemas.openxmlformats.org/officeDocument/2006/relationships/hyperlink" Target="http://rehue.csociales.uchile.cl/psicologia/int_metdo_psiycsociales.htm" TargetMode="External"/><Relationship Id="rId7" Type="http://schemas.openxmlformats.org/officeDocument/2006/relationships/hyperlink" Target="http://rehue.csociales.uchile.cl/psicologia/filosofia.htm" TargetMode="External"/><Relationship Id="rId8" Type="http://schemas.openxmlformats.org/officeDocument/2006/relationships/hyperlink" Target="http://rehue.csociales.uchile.cl/psicologia/psic-evol.htm" TargetMode="External"/><Relationship Id="rId9" Type="http://schemas.openxmlformats.org/officeDocument/2006/relationships/hyperlink" Target="http://rehue.csociales.uchile.cl/psicologia/estadistica_I.htm" TargetMode="External"/><Relationship Id="rId10" Type="http://schemas.openxmlformats.org/officeDocument/2006/relationships/hyperlink" Target="http://sociales.uchile.cl/psaprendizaje/index.htm" TargetMode="External"/><Relationship Id="rId11" Type="http://schemas.openxmlformats.org/officeDocument/2006/relationships/hyperlink" Target="http://rehue.csociales.uchile.cl/psicologia/neuropsicofisiologia.htm" TargetMode="External"/><Relationship Id="rId12" Type="http://schemas.openxmlformats.org/officeDocument/2006/relationships/hyperlink" Target="http://rehue.csociales.uchile.cl/psicologia/psicolog%EDa_social_ii.htm" TargetMode="External"/><Relationship Id="rId13" Type="http://schemas.openxmlformats.org/officeDocument/2006/relationships/hyperlink" Target="http://rehue.csociales.uchile.cl/psicologia/Epistemologia2002.doc" TargetMode="External"/><Relationship Id="rId14" Type="http://schemas.openxmlformats.org/officeDocument/2006/relationships/hyperlink" Target="http://rehue.csociales.uchile.cl/psicologia/psicologia_social_iii.htm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sicometrica.htm" TargetMode="External"/><Relationship Id="rId2" Type="http://schemas.openxmlformats.org/officeDocument/2006/relationships/hyperlink" Target="http://rehue.csociales.uchile.cl/psicologia/Psicometrica.htm" TargetMode="External"/><Relationship Id="rId3" Type="http://schemas.openxmlformats.org/officeDocument/2006/relationships/hyperlink" Target="http://rehue.csociales.uchile.cl/psicologia/epe/escolar_1.htm" TargetMode="External"/><Relationship Id="rId4" Type="http://schemas.openxmlformats.org/officeDocument/2006/relationships/hyperlink" Target="http://rehue.csociales.uchile.cl/psicologia/psicologia_anormal.htm" TargetMode="External"/><Relationship Id="rId5" Type="http://schemas.openxmlformats.org/officeDocument/2006/relationships/hyperlink" Target="http://rehue.csociales.uchile.cl/psicologia/neuropsicolog%EDa.htm" TargetMode="External"/><Relationship Id="rId6" Type="http://schemas.openxmlformats.org/officeDocument/2006/relationships/hyperlink" Target="http://rehue.csociales.uchile.cl/psicologia/interpretaci%F3n_pruebas_spicologica_II.htm" TargetMode="External"/><Relationship Id="rId7" Type="http://schemas.openxmlformats.org/officeDocument/2006/relationships/hyperlink" Target="http://rehue.csociales.uchile.cl/psicologia/area_laboral_organizacional.htm" TargetMode="External"/><Relationship Id="rId8" Type="http://schemas.openxmlformats.org/officeDocument/2006/relationships/hyperlink" Target="http://rehue.csociales.uchile.cl/psicologia/psicologia_comunitaria.htm" TargetMode="External"/><Relationship Id="rId9" Type="http://schemas.openxmlformats.org/officeDocument/2006/relationships/hyperlink" Target="http://rehue.csociales.uchile.cl/cursos/psi00004.htm" TargetMode="External"/><Relationship Id="rId10" Type="http://schemas.openxmlformats.org/officeDocument/2006/relationships/hyperlink" Target="http://rehue.csociales.uchile.cl/psicologia/epe/educacional.htm" TargetMode="External"/><Relationship Id="rId11" Type="http://schemas.openxmlformats.org/officeDocument/2006/relationships/hyperlink" Target="http://rehue.csociales.uchile.cl/psicologia/siquiatria.htm" TargetMode="External"/><Relationship Id="rId12" Type="http://schemas.openxmlformats.org/officeDocument/2006/relationships/hyperlink" Target="http://rehue.csociales.uchile.cl/psicologia/Evaluacion_tecnicas_proyectivas.htm" TargetMode="External"/><Relationship Id="rId13" Type="http://schemas.openxmlformats.org/officeDocument/2006/relationships/hyperlink" Target="http://rehue.csociales.uchile.cl/psicologia/psicoterapia_infanto.htm" TargetMode="External"/><Relationship Id="rId14" Type="http://schemas.openxmlformats.org/officeDocument/2006/relationships/hyperlink" Target="http://rehue.csociales.uchile.cl/psicologia/psicoterapia_infanto.htm" TargetMode="External"/><Relationship Id="rId15" Type="http://schemas.openxmlformats.org/officeDocument/2006/relationships/hyperlink" Target="http://rehue.csociales.uchile.cl/psicologia/psicoterapia_infanto.htm" TargetMode="External"/><Relationship Id="rId16" Type="http://schemas.openxmlformats.org/officeDocument/2006/relationships/hyperlink" Target="http://rehue.csociales.uchile.cl/psicologia/metodolog%EDa_de_la_investigaci%F3n_.htm" TargetMode="External"/><Relationship Id="rId17" Type="http://schemas.openxmlformats.org/officeDocument/2006/relationships/hyperlink" Target="http://rehue.csociales.uchile.cl/psicologia/area_laboral_organizacional.htm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area_laboral_organizacional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Especialidades de la Psicologí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759280" y="551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Francesca Cayazzo 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Sebastián Vidal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Investigació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 la investigación en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mo se investi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formación de post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as áreas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189000"/>
          <a:ext cx="8713800" cy="5805360"/>
        </p:xfrm>
        <a:graphic>
          <a:graphicData uri="http://schemas.openxmlformats.org/drawingml/2006/table">
            <a:tbl>
              <a:tblPr/>
              <a:tblGrid>
                <a:gridCol w="2903760"/>
                <a:gridCol w="290664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Psicología Gener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Fundamentos de Sociología Genera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Antropología General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Realidad Chilena y Latinoamerican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biología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 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Introducción a la Metodología en Psicología y Ciencias Sociales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áticas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Filosof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y Sistemas Psicoló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. Filosóficos de la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 Socio Cultu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logí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 I Introducción a la Compu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r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formación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Evolutiv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Estadístic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del Aprendizaj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Personalidad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Neuropsicofisiolog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Psicología Social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Epistemología Psicológic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odología de las Ciencias 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a y Sociedad Latinoamer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Psicología Social III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íst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de análisis de d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as Psico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44440"/>
          <a:ext cx="8568720" cy="6218280"/>
        </p:xfrm>
        <a:graphic>
          <a:graphicData uri="http://schemas.openxmlformats.org/drawingml/2006/table">
            <a:tbl>
              <a:tblPr/>
              <a:tblGrid>
                <a:gridCol w="2855880"/>
                <a:gridCol w="2856960"/>
                <a:gridCol w="285588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c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s y Sistemas Psicológic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e Interpretación de Pruebas Psicológicas I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Metodologí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sicométrica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Comunicación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Psicología Escolar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logía Anorm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Neuropsicolog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Psicoanalític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nductu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gnitiv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Humanista Existen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Aplicación e Interpretación de Pruebas Psicológicas II 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todología de la Investigación Cualitativa 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écnicas de Evaluación Psicológica Teoría Psicoanalític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Cognitiv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Sistémica-Comuni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en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r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Psicología del Trabajo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Comunitari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Psicología Escolar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Educaciona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Psiquiatr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Aplicación e Interpretación de Pruebas Psicológicas Proyectiva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erapia Adultos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Psicoterapi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Infanto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 Juveni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 de Evaluación Psicológ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patología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Laboral/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ti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sicología Comunitaria 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Metodología de la Investigación Científ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Psicología Organizacio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quiatría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patología Infanto-Juven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de las Organiz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476280"/>
          <a:ext cx="8496000" cy="6375240"/>
        </p:xfrm>
        <a:graphic>
          <a:graphicData uri="http://schemas.openxmlformats.org/drawingml/2006/table">
            <a:tbl>
              <a:tblPr/>
              <a:tblGrid>
                <a:gridCol w="2884320"/>
                <a:gridCol w="2670120"/>
                <a:gridCol w="29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n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Administración y Desarrollo de Recursos Human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ínica de Adult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inica Infanto Juveni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Jurídic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icas de Psico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diagnóstico Clín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Psicoterap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ategias de inter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inario de Investigació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ción Organizacion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álisis Psicosocial del sist. edu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ndizaje en Sistemas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y planificación Estrateg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y Eval. De Prog.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s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ctic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Profes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 para optar al título de Psicól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Laboral/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ción de pers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rrollo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Especialidades en Psicologí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2631960"/>
            <a:ext cx="6685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busca formar profesionales capac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1.Comp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. Evalu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 Predec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4. Interve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1680" y="3546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2004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400" y="320040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Emo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0560" y="52578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da una de las etapas del Ciclo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istintos ámbitos en los que se desenvuelve el individ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2760" y="38088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Times New Roman"/>
              </a:rPr>
              <a:t>Camp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00"/>
                </a:solidFill>
                <a:latin typeface="Times New Roman"/>
              </a:rPr>
              <a:t>Los principales objetivos del trabajo psicológico son: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 Promover el desarrollo óptimo de las potencialidades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 Prevenir y solucionar alteraciones y desajustes en distintos niveles de inter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488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5680" y="45720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Campo de Ejercici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4640" y="2286000"/>
            <a:ext cx="4290840" cy="3993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Investig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o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duc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Comun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Jud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línica y salud 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8520" y="152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Juríd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76520"/>
            <a:ext cx="7407360" cy="1922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ma de la Psicología en que la conducta humana se relaciona con algún proceso jud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 entre la Psicología y 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76212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09880"/>
            <a:ext cx="546912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Áreas de acción de la Psicología Jur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360" y="4419720"/>
            <a:ext cx="4693320" cy="222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Jurídica Pol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Psicología Jurídica, el menor y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Penitenc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de las Víct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cencia 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For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81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Educac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1870200"/>
            <a:ext cx="771192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objetivo del psicólogo educacional es la reflexión e intervención sobre el comportamiento humano, en situaciones educativas, mediante el desarrollo de las capacidades de las personas, grupos e institu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sí mismo interviene en todos los procesos psicológicos que afectan el aprendizaje, o que de este se deriv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5720" y="365760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FUNCIONES DEL PSICOLOG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50840" y="4191120"/>
            <a:ext cx="7940880" cy="2533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Intervenir ante las necesidades educativas de los alum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Funciones ligadas a la orientación, asesoramiento Profesional y vo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Funcione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Intervención en el mejoramiento del act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Formación y asesoramiento famil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Intervención Socioeduc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. Investigación y doc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6040" y="990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Disciplina puente entre la Psicología y la Educ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504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Organizacional/ Lab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1480" y="201924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¿CÓMO PLANIFICAR, DIRIGIR, EVALUAR Y ADMINISTRA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2556000"/>
            <a:ext cx="7940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Organizacional estudia el efecto que causan en el individuo los procesos organizacionales                        Clima, Liderazgo, Motivación, Cultura, Comunicación, Conflic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200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0520" y="4119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ol Psicólogo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0680" y="495288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laciones Laborales (Legislación, Negoci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 del rend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venciones Organiz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724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7520" y="510552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2840" y="41911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Times New Roman"/>
              </a:rPr>
              <a:t>Orientación pragmá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Social Comunitari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Importancia de la disti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utogestión v/s Representacione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jeto operando en interacción con o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Clínic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nómenos clínicos (Desde dónde miram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34936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oderar a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1:22:46Z</dcterms:created>
  <dc:creator>Sebastián Vidal</dc:creator>
  <dc:description/>
  <dc:language>en-US</dc:language>
  <cp:lastModifiedBy>Sebastián Vidal</cp:lastModifiedBy>
  <dcterms:modified xsi:type="dcterms:W3CDTF">2003-01-23T13:55:14Z</dcterms:modified>
  <cp:revision>6</cp:revision>
  <dc:subject/>
  <dc:title>Diapositiva 1</dc:title>
</cp:coreProperties>
</file>