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166-03FC-4471-BD84-7B3268FF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A52-8998-4A7F-B0EF-6F18BAE1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410-A7DC-4E3D-BD5F-7CAF67FE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E45-6AE2-4CE1-B27F-2DC91A6D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BB30-DF1E-4BEC-9D79-51B6F14D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83E1-312B-40CA-B12F-2E166676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30E8-80BD-4189-93B5-473882C2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A349-2CD8-45FD-AEDE-335DDF6C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8258-9C35-4673-8A26-6506B4CE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6759-0091-48EE-BDB6-73A1951B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8BB-DC08-4B05-BE98-5B0F3030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C39-6785-45FE-9BEA-F6C591DE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62FF-1DE2-42A9-9529-606AB89A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7AFB-CF3C-4DEA-9009-D6E1104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454A-6A9F-49AF-8DEF-5ED1E1BD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1627-675D-4D98-84AB-52D3B7EB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EFCE-CEB9-473A-B639-567AA700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06C-CFBB-439D-B296-E02C1741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046-391A-47DE-AF74-B39EFDF4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6CC-4C18-4BFC-8D45-09105609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A89-147B-412E-95F5-F926BF3C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C82-BBA0-4699-8391-B603F1E6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0F1-900E-4C2C-B189-BDC6E2C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624-C1B1-4A47-9A3C-DF447FE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E91E-E0C0-4D6A-A251-1D902422E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7EBD-6980-49EB-A1D0-A57559A86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ROGRAMA_DE_PSIC_GENERAL__2002.htm" TargetMode="External"/><Relationship Id="rId2" Type="http://schemas.openxmlformats.org/officeDocument/2006/relationships/hyperlink" Target="http://rehue.csociales.uchile.cl/psicologia/fundamentos_sociologia_general.htm" TargetMode="External"/><Relationship Id="rId3" Type="http://schemas.openxmlformats.org/officeDocument/2006/relationships/hyperlink" Target="http://rehue.csociales.uchile.cl/psicologia/realidad_chilena.htm" TargetMode="External"/><Relationship Id="rId4" Type="http://schemas.openxmlformats.org/officeDocument/2006/relationships/hyperlink" Target="http://rehue.csociales.uchile.cl/psicologia/calendario_psicobiologia.htm" TargetMode="External"/><Relationship Id="rId5" Type="http://schemas.openxmlformats.org/officeDocument/2006/relationships/hyperlink" Target="http://rehue.csociales.uchile.cl/psicologia/calendario_psicobiologia.htm" TargetMode="External"/><Relationship Id="rId6" Type="http://schemas.openxmlformats.org/officeDocument/2006/relationships/hyperlink" Target="http://rehue.csociales.uchile.cl/psicologia/int_metdo_psiycsociales.htm" TargetMode="External"/><Relationship Id="rId7" Type="http://schemas.openxmlformats.org/officeDocument/2006/relationships/hyperlink" Target="http://rehue.csociales.uchile.cl/psicologia/filosofia.htm" TargetMode="External"/><Relationship Id="rId8" Type="http://schemas.openxmlformats.org/officeDocument/2006/relationships/hyperlink" Target="http://rehue.csociales.uchile.cl/psicologia/psic-evol.htm" TargetMode="External"/><Relationship Id="rId9" Type="http://schemas.openxmlformats.org/officeDocument/2006/relationships/hyperlink" Target="http://rehue.csociales.uchile.cl/psicologia/estadistica_I.htm" TargetMode="External"/><Relationship Id="rId10" Type="http://schemas.openxmlformats.org/officeDocument/2006/relationships/hyperlink" Target="http://sociales.uchile.cl/psaprendizaje/index.htm" TargetMode="External"/><Relationship Id="rId11" Type="http://schemas.openxmlformats.org/officeDocument/2006/relationships/hyperlink" Target="http://rehue.csociales.uchile.cl/psicologia/neuropsicofisiologia.htm" TargetMode="External"/><Relationship Id="rId12" Type="http://schemas.openxmlformats.org/officeDocument/2006/relationships/hyperlink" Target="http://rehue.csociales.uchile.cl/psicologia/psicolog%EDa_social_ii.htm" TargetMode="External"/><Relationship Id="rId13" Type="http://schemas.openxmlformats.org/officeDocument/2006/relationships/hyperlink" Target="http://rehue.csociales.uchile.cl/psicologia/Epistemologia2002.doc" TargetMode="External"/><Relationship Id="rId14" Type="http://schemas.openxmlformats.org/officeDocument/2006/relationships/hyperlink" Target="http://rehue.csociales.uchile.cl/psicologia/psicologia_social_iii.htm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Psicometrica.htm" TargetMode="External"/><Relationship Id="rId2" Type="http://schemas.openxmlformats.org/officeDocument/2006/relationships/hyperlink" Target="http://rehue.csociales.uchile.cl/psicologia/Psicometrica.htm" TargetMode="External"/><Relationship Id="rId3" Type="http://schemas.openxmlformats.org/officeDocument/2006/relationships/hyperlink" Target="http://rehue.csociales.uchile.cl/psicologia/epe/escolar_1.htm" TargetMode="External"/><Relationship Id="rId4" Type="http://schemas.openxmlformats.org/officeDocument/2006/relationships/hyperlink" Target="http://rehue.csociales.uchile.cl/psicologia/psicologia_anormal.htm" TargetMode="External"/><Relationship Id="rId5" Type="http://schemas.openxmlformats.org/officeDocument/2006/relationships/hyperlink" Target="http://rehue.csociales.uchile.cl/psicologia/neuropsicolog%EDa.htm" TargetMode="External"/><Relationship Id="rId6" Type="http://schemas.openxmlformats.org/officeDocument/2006/relationships/hyperlink" Target="http://rehue.csociales.uchile.cl/psicologia/interpretaci%F3n_pruebas_spicologica_II.htm" TargetMode="External"/><Relationship Id="rId7" Type="http://schemas.openxmlformats.org/officeDocument/2006/relationships/hyperlink" Target="http://rehue.csociales.uchile.cl/psicologia/area_laboral_organizacional.htm" TargetMode="External"/><Relationship Id="rId8" Type="http://schemas.openxmlformats.org/officeDocument/2006/relationships/hyperlink" Target="http://rehue.csociales.uchile.cl/psicologia/psicologia_comunitaria.htm" TargetMode="External"/><Relationship Id="rId9" Type="http://schemas.openxmlformats.org/officeDocument/2006/relationships/hyperlink" Target="http://rehue.csociales.uchile.cl/cursos/psi00004.htm" TargetMode="External"/><Relationship Id="rId10" Type="http://schemas.openxmlformats.org/officeDocument/2006/relationships/hyperlink" Target="http://rehue.csociales.uchile.cl/psicologia/epe/educacional.htm" TargetMode="External"/><Relationship Id="rId11" Type="http://schemas.openxmlformats.org/officeDocument/2006/relationships/hyperlink" Target="http://rehue.csociales.uchile.cl/psicologia/siquiatria.htm" TargetMode="External"/><Relationship Id="rId12" Type="http://schemas.openxmlformats.org/officeDocument/2006/relationships/hyperlink" Target="http://rehue.csociales.uchile.cl/psicologia/Evaluacion_tecnicas_proyectivas.htm" TargetMode="External"/><Relationship Id="rId13" Type="http://schemas.openxmlformats.org/officeDocument/2006/relationships/hyperlink" Target="http://rehue.csociales.uchile.cl/psicologia/psicoterapia_infanto.htm" TargetMode="External"/><Relationship Id="rId14" Type="http://schemas.openxmlformats.org/officeDocument/2006/relationships/hyperlink" Target="http://rehue.csociales.uchile.cl/psicologia/psicoterapia_infanto.htm" TargetMode="External"/><Relationship Id="rId15" Type="http://schemas.openxmlformats.org/officeDocument/2006/relationships/hyperlink" Target="http://rehue.csociales.uchile.cl/psicologia/psicoterapia_infanto.htm" TargetMode="External"/><Relationship Id="rId16" Type="http://schemas.openxmlformats.org/officeDocument/2006/relationships/hyperlink" Target="http://rehue.csociales.uchile.cl/psicologia/metodolog%EDa_de_la_investigaci%F3n_.htm" TargetMode="External"/><Relationship Id="rId17" Type="http://schemas.openxmlformats.org/officeDocument/2006/relationships/hyperlink" Target="http://rehue.csociales.uchile.cl/psicologia/area_laboral_organizacional.htm" TargetMode="Externa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hue.csociales.uchile.cl/psicologia/area_laboral_organizacional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Especialidades de la Psicologí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759280" y="5516640"/>
            <a:ext cx="3384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Francesca Cayazzo 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. Sebastián Vidal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Investigació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s la investigación en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ómo se investig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importancia de la formación de post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as áreas de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79280" y="189000"/>
          <a:ext cx="8713800" cy="5805360"/>
        </p:xfrm>
        <a:graphic>
          <a:graphicData uri="http://schemas.openxmlformats.org/drawingml/2006/table">
            <a:tbl>
              <a:tblPr/>
              <a:tblGrid>
                <a:gridCol w="2903760"/>
                <a:gridCol w="2906640"/>
                <a:gridCol w="290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Psicología Gener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Fundamentos de Sociología Genera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Antropología General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Realidad Chilena y Latinoamerican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biología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 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Introducción a la Metodología en Psicología y Ciencias Sociales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máticas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Filosof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y Sistemas Psicológi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. Filosóficos de la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 Socio Cultur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rop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ologí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 I Introducción a la Compu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So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r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formación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und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Evolutiv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Estadístic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del Aprendizaje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Personalidad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Neuropsicofisiolog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Psicología Social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Epistemología Psicológic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odología de las Ciencias 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bi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tura y Sociedad Latinoameric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Psicología Social III</a:t>
                      </a: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díst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todos de análisis de da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clo Vital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as Psicoso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44440"/>
          <a:ext cx="8568720" cy="6218280"/>
        </p:xfrm>
        <a:graphic>
          <a:graphicData uri="http://schemas.openxmlformats.org/drawingml/2006/table">
            <a:tbl>
              <a:tblPr/>
              <a:tblGrid>
                <a:gridCol w="2855880"/>
                <a:gridCol w="2856960"/>
                <a:gridCol w="2855880"/>
              </a:tblGrid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c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s y Sistemas Psicológic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icación e Interpretación de Pruebas Psicológicas I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Metodologí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/>
                        </a:rPr>
                        <a:t>Psicométrica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de la Comunicación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/>
                        </a:rPr>
                        <a:t>Psicología Escolar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/>
                        </a:rPr>
                        <a:t>Psicología Anormal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/>
                        </a:rPr>
                        <a:t>Neuropsicología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i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Psicoanalític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nductual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Cognitiva 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oría Humanista Existenc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/>
                        </a:rPr>
                        <a:t>Aplicación e Interpretación de Pruebas Psicológicas II </a:t>
                      </a:r>
                      <a:br>
                        <a:rPr sz="1200"/>
                      </a:b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todología de la Investigación Cualitativa Electiv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écnicas de Evaluación Psicológica Teoría Psicoanalític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Cognitiva 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oría Sistémica-Comuni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en Psicolog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r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/>
                        </a:rPr>
                        <a:t>Psicología del Trabajo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/>
                        </a:rPr>
                        <a:t>Psicología Comunitaria 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/>
                        </a:rPr>
                        <a:t>Psicología Escolar II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/>
                        </a:rPr>
                        <a:t>Psicología Educaciona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/>
                        </a:rPr>
                        <a:t>Psiquiatría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2"/>
                        </a:rPr>
                        <a:t>Aplicación e Interpretación de Pruebas Psicológicas Proyectiva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terapia Adultos</a:t>
                      </a:r>
                      <a:br>
                        <a:rPr sz="1200"/>
                      </a:b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3"/>
                        </a:rPr>
                        <a:t>Psicoterapia 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4"/>
                        </a:rPr>
                        <a:t>Infanto</a:t>
                      </a: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5"/>
                        </a:rPr>
                        <a:t> Juveni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cnicas de Evaluación Psicológica I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patología Gen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Laboral/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tiv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sicología Comunitaria I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6"/>
                        </a:rPr>
                        <a:t>Metodología de la Investigación Científic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ff66"/>
                          </a:solidFill>
                          <a:uFillTx/>
                          <a:latin typeface="Verdana"/>
                          <a:ea typeface="Times New Roman"/>
                          <a:hlinkClick r:id="rId17"/>
                        </a:rPr>
                        <a:t>Psicología Organizacion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quiatría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patología Infanto-Juven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icología de las Organiz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476280"/>
          <a:ext cx="8496000" cy="6375240"/>
        </p:xfrm>
        <a:graphic>
          <a:graphicData uri="http://schemas.openxmlformats.org/drawingml/2006/table">
            <a:tbl>
              <a:tblPr/>
              <a:tblGrid>
                <a:gridCol w="2884320"/>
                <a:gridCol w="2670120"/>
                <a:gridCol w="294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de 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dad Cató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n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/>
                        </a:rPr>
                        <a:t>Administración y Desarrollo de Recursos Human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ínica de Adultos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Clinica Infanto Juvenil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logía Jurídic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icas de Psicodiagnóst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codiagnóstico Clín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damentos de Psicoterap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ategias de inter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Clín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o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inario de Investigació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ción Organizacion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Psicologí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álisis Psicosocial del sist. edu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endizaje en Sistemas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y planificación Estrateg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 y Eval. De Prog. Edu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s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áctica Edu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22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t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Profes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a para optar al título de Psicólo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nción Laboral/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ción de pers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ación de Recursos Huma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rrollo Organiz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ativo de Profund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Especialidades en Psicología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rmación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24160" y="2631960"/>
            <a:ext cx="66852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busca formar profesionales capaces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1.Compr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. Evalu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 Predec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4. Interven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1680" y="354636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2004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40400" y="3200400"/>
            <a:ext cx="180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gni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Emo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Condu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0560" y="5257800"/>
            <a:ext cx="82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da una de las etapas del Ciclo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os distintos ámbitos en los que se desenvuelve el individ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2760" y="380880"/>
            <a:ext cx="35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Times New Roman"/>
              </a:rPr>
              <a:t>Camp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9051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00"/>
                </a:solidFill>
                <a:latin typeface="Times New Roman"/>
              </a:rPr>
              <a:t>Los principales objetivos del trabajo psicológico son: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 Promover el desarrollo óptimo de las potencialidades del ser hum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 Prevenir y solucionar alteraciones y desajustes en distintos niveles de interv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4880" y="476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85680" y="457200"/>
            <a:ext cx="56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imes New Roman"/>
              </a:rPr>
              <a:t>Campo de Ejercicio Profe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4640" y="2286000"/>
            <a:ext cx="4290840" cy="3993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Investig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Doc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Educ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 Lab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Comuni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Jud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7. Clínica y salud 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8520" y="15228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Juríd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676520"/>
            <a:ext cx="7407360" cy="19227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ama de la Psicología en que la conducta humana se relaciona con algún proceso jud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nte entre la Psicología y el Der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76212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3809880"/>
            <a:ext cx="546912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Áreas de acción de la Psicología Jur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2360" y="4419720"/>
            <a:ext cx="4693320" cy="2228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Jurídica Pol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Psicología Jurídica, el menor y la fam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Penitenci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de las Vícti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cencia e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d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sicología For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81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Educac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4880" y="1870200"/>
            <a:ext cx="7711920" cy="1618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objetivo del psicólogo educacional es la reflexión e intervención sobre el comportamiento humano, en situaciones educativas, mediante el desarrollo de las capacidades de las personas, grupos e institucion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sí mismo interviene en todos los procesos psicológicos que afectan el aprendizaje, o que de este se deriv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5720" y="3657600"/>
            <a:ext cx="54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FUNCIONES DEL PSICOLOG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50840" y="4191120"/>
            <a:ext cx="7940880" cy="2533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Intervenir ante las necesidades educativas de los alum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Funciones ligadas a la orientación, asesoramiento Profesional y vo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Funciones preve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Intervención en el mejoramiento del acto educ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Formación y asesoramiento famil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Intervención Socioeduc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. Investigación y doc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46040" y="990720"/>
            <a:ext cx="48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ffff66"/>
                </a:solidFill>
                <a:latin typeface="Times New Roman"/>
              </a:rPr>
              <a:t>Disciplina puente entre la Psicología y la Educació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5040" y="22860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Times New Roman"/>
              </a:rPr>
              <a:t>Psicología Organizacional/ Labo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914400"/>
            <a:ext cx="152388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1480" y="201924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imes New Roman"/>
              </a:rPr>
              <a:t>¿CÓMO PLANIFICAR, DIRIGIR, EVALUAR Y ADMINISTRA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50840" y="2556000"/>
            <a:ext cx="794088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Psicología Organizacional estudia el efecto que causan en el individuo los procesos organizacionales                        Clima, Liderazgo, Motivación, Cultura, Comunicación, Conflic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200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0520" y="41194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Rol Psicólogo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0680" y="4952880"/>
            <a:ext cx="520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lección de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paci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laciones Laborales (Legislación, Negoci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 del rend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venciones Organiza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7242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7520" y="510552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343400"/>
            <a:ext cx="990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2840" y="419112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b7"/>
                </a:solidFill>
                <a:latin typeface="Times New Roman"/>
              </a:rPr>
              <a:t>Orientación pragmát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Social Comunitari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490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Importancia de la disti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utogestión v/s Representacione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jeto operando en interacción con ot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8880" y="8362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Psicología Clínic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nómenos clínicos (Desde dónde miram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re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234936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65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oderar a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1:22:46Z</dcterms:created>
  <dc:creator>Sebastián Vidal</dc:creator>
  <dc:description/>
  <dc:language>en-US</dc:language>
  <cp:lastModifiedBy>Sebastián Vidal</cp:lastModifiedBy>
  <dcterms:modified xsi:type="dcterms:W3CDTF">2003-01-23T13:55:14Z</dcterms:modified>
  <cp:revision>6</cp:revision>
  <dc:subject/>
  <dc:title>Diapositiva 1</dc:title>
</cp:coreProperties>
</file>