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869-726B-4A1E-9714-975BEAC5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EAE-14EF-4CA5-A18C-F2EC8EDC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D00-E85D-4D56-9FF0-CB79ADB9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639-30F0-4180-8432-32E08B50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B9E-F277-4697-94C5-4C0E9351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0EBD-42FD-4E58-A98F-C4B107B1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676C-1939-4DE5-901C-F87D0330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A703-CD39-4DFF-AD7A-889CE076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61D6-E2AB-47EB-9C6A-6CEED73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6B20-A224-4DC0-A659-14368F8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D99A-1347-499D-99F0-3E25F7AD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C2E-998F-4BF0-A146-E84AA25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5C9E-F391-4645-AFB2-5709B4E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1FDE-99DE-4A70-A409-914714B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A1E1-DE5C-41DB-8507-9C08A3AD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B11A-8110-4A7B-9A38-C1B4A701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A0C5-A78C-4CFD-B510-C30C0CA2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A24-5A07-42D8-AE5F-3E94062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F52-1ACC-4EE6-A979-72881D3E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3D0-6C24-4019-8653-B994D34E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29B-5851-4D3B-AFE1-5A145F72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5B7-D2F2-4D50-8DFD-04F41D1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117-019B-4012-998F-00ED54BA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A87-CF3D-43AF-B118-9EB23CA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C9C4-A4CE-441D-8AC3-FB74C09BC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EA2-B75D-4BEA-8D8A-8B3B36958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ROGRAMA_DE_PSIC_GENERAL__2002.htm" TargetMode="External"/><Relationship Id="rId2" Type="http://schemas.openxmlformats.org/officeDocument/2006/relationships/hyperlink" Target="http://rehue.csociales.uchile.cl/psicologia/fundamentos_sociologia_general.htm" TargetMode="External"/><Relationship Id="rId3" Type="http://schemas.openxmlformats.org/officeDocument/2006/relationships/hyperlink" Target="http://rehue.csociales.uchile.cl/psicologia/realidad_chilena.htm" TargetMode="External"/><Relationship Id="rId4" Type="http://schemas.openxmlformats.org/officeDocument/2006/relationships/hyperlink" Target="http://rehue.csociales.uchile.cl/psicologia/calendario_psicobiologia.htm" TargetMode="External"/><Relationship Id="rId5" Type="http://schemas.openxmlformats.org/officeDocument/2006/relationships/hyperlink" Target="http://rehue.csociales.uchile.cl/psicologia/calendario_psicobiologia.htm" TargetMode="External"/><Relationship Id="rId6" Type="http://schemas.openxmlformats.org/officeDocument/2006/relationships/hyperlink" Target="http://rehue.csociales.uchile.cl/psicologia/int_metdo_psiycsociales.htm" TargetMode="External"/><Relationship Id="rId7" Type="http://schemas.openxmlformats.org/officeDocument/2006/relationships/hyperlink" Target="http://rehue.csociales.uchile.cl/psicologia/filosofia.htm" TargetMode="External"/><Relationship Id="rId8" Type="http://schemas.openxmlformats.org/officeDocument/2006/relationships/hyperlink" Target="http://rehue.csociales.uchile.cl/psicologia/psic-evol.htm" TargetMode="External"/><Relationship Id="rId9" Type="http://schemas.openxmlformats.org/officeDocument/2006/relationships/hyperlink" Target="http://rehue.csociales.uchile.cl/psicologia/estadistica_I.htm" TargetMode="External"/><Relationship Id="rId10" Type="http://schemas.openxmlformats.org/officeDocument/2006/relationships/hyperlink" Target="http://sociales.uchile.cl/psaprendizaje/index.htm" TargetMode="External"/><Relationship Id="rId11" Type="http://schemas.openxmlformats.org/officeDocument/2006/relationships/hyperlink" Target="http://rehue.csociales.uchile.cl/psicologia/neuropsicofisiologia.htm" TargetMode="External"/><Relationship Id="rId12" Type="http://schemas.openxmlformats.org/officeDocument/2006/relationships/hyperlink" Target="http://rehue.csociales.uchile.cl/psicologia/psicolog%EDa_social_ii.htm" TargetMode="External"/><Relationship Id="rId13" Type="http://schemas.openxmlformats.org/officeDocument/2006/relationships/hyperlink" Target="http://rehue.csociales.uchile.cl/psicologia/Epistemologia2002.doc" TargetMode="External"/><Relationship Id="rId14" Type="http://schemas.openxmlformats.org/officeDocument/2006/relationships/hyperlink" Target="http://rehue.csociales.uchile.cl/psicologia/psicologia_social_iii.htm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sicometrica.htm" TargetMode="External"/><Relationship Id="rId2" Type="http://schemas.openxmlformats.org/officeDocument/2006/relationships/hyperlink" Target="http://rehue.csociales.uchile.cl/psicologia/Psicometrica.htm" TargetMode="External"/><Relationship Id="rId3" Type="http://schemas.openxmlformats.org/officeDocument/2006/relationships/hyperlink" Target="http://rehue.csociales.uchile.cl/psicologia/epe/escolar_1.htm" TargetMode="External"/><Relationship Id="rId4" Type="http://schemas.openxmlformats.org/officeDocument/2006/relationships/hyperlink" Target="http://rehue.csociales.uchile.cl/psicologia/psicologia_anormal.htm" TargetMode="External"/><Relationship Id="rId5" Type="http://schemas.openxmlformats.org/officeDocument/2006/relationships/hyperlink" Target="http://rehue.csociales.uchile.cl/psicologia/neuropsicolog%EDa.htm" TargetMode="External"/><Relationship Id="rId6" Type="http://schemas.openxmlformats.org/officeDocument/2006/relationships/hyperlink" Target="http://rehue.csociales.uchile.cl/psicologia/interpretaci%F3n_pruebas_spicologica_II.htm" TargetMode="External"/><Relationship Id="rId7" Type="http://schemas.openxmlformats.org/officeDocument/2006/relationships/hyperlink" Target="http://rehue.csociales.uchile.cl/psicologia/area_laboral_organizacional.htm" TargetMode="External"/><Relationship Id="rId8" Type="http://schemas.openxmlformats.org/officeDocument/2006/relationships/hyperlink" Target="http://rehue.csociales.uchile.cl/psicologia/psicologia_comunitaria.htm" TargetMode="External"/><Relationship Id="rId9" Type="http://schemas.openxmlformats.org/officeDocument/2006/relationships/hyperlink" Target="http://rehue.csociales.uchile.cl/cursos/psi00004.htm" TargetMode="External"/><Relationship Id="rId10" Type="http://schemas.openxmlformats.org/officeDocument/2006/relationships/hyperlink" Target="http://rehue.csociales.uchile.cl/psicologia/epe/educacional.htm" TargetMode="External"/><Relationship Id="rId11" Type="http://schemas.openxmlformats.org/officeDocument/2006/relationships/hyperlink" Target="http://rehue.csociales.uchile.cl/psicologia/siquiatria.htm" TargetMode="External"/><Relationship Id="rId12" Type="http://schemas.openxmlformats.org/officeDocument/2006/relationships/hyperlink" Target="http://rehue.csociales.uchile.cl/psicologia/Evaluacion_tecnicas_proyectivas.htm" TargetMode="External"/><Relationship Id="rId13" Type="http://schemas.openxmlformats.org/officeDocument/2006/relationships/hyperlink" Target="http://rehue.csociales.uchile.cl/psicologia/psicoterapia_infanto.htm" TargetMode="External"/><Relationship Id="rId14" Type="http://schemas.openxmlformats.org/officeDocument/2006/relationships/hyperlink" Target="http://rehue.csociales.uchile.cl/psicologia/psicoterapia_infanto.htm" TargetMode="External"/><Relationship Id="rId15" Type="http://schemas.openxmlformats.org/officeDocument/2006/relationships/hyperlink" Target="http://rehue.csociales.uchile.cl/psicologia/psicoterapia_infanto.htm" TargetMode="External"/><Relationship Id="rId16" Type="http://schemas.openxmlformats.org/officeDocument/2006/relationships/hyperlink" Target="http://rehue.csociales.uchile.cl/psicologia/metodolog%EDa_de_la_investigaci%F3n_.htm" TargetMode="External"/><Relationship Id="rId17" Type="http://schemas.openxmlformats.org/officeDocument/2006/relationships/hyperlink" Target="http://rehue.csociales.uchile.cl/psicologia/area_laboral_organizacional.htm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area_laboral_organizacional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Especialidades de la Psicologí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759280" y="5516640"/>
            <a:ext cx="3384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Francesca Cayazzo 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Sebastián Vidal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Investigació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s la investigación en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ómo se investi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importancia de la formación de post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as áreas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189000"/>
          <a:ext cx="8713800" cy="5805360"/>
        </p:xfrm>
        <a:graphic>
          <a:graphicData uri="http://schemas.openxmlformats.org/drawingml/2006/table">
            <a:tbl>
              <a:tblPr/>
              <a:tblGrid>
                <a:gridCol w="2903760"/>
                <a:gridCol w="2906640"/>
                <a:gridCol w="290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Psicología Gener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Fundamentos de Sociología Genera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Antropología General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Realidad Chilena y Latinoamerican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biología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 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Introducción a la Metodología en Psicología y Ciencias Sociales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máticas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Filosof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y Sistemas Psicoló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. Filosóficos de la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 Socio Cultur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logí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 I Introducción a la Compu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r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formación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und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Evolutiv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Estadístic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del Aprendizaje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Personalidad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Neuropsicofisiolog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Psicología Social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Epistemología Psicológic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odología de las Ciencias 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tura y Sociedad Latinoameric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Psicología Social III</a:t>
                      </a: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díst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s de análisis de da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as Psico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44440"/>
          <a:ext cx="8568720" cy="6218280"/>
        </p:xfrm>
        <a:graphic>
          <a:graphicData uri="http://schemas.openxmlformats.org/drawingml/2006/table">
            <a:tbl>
              <a:tblPr/>
              <a:tblGrid>
                <a:gridCol w="2855880"/>
                <a:gridCol w="2856960"/>
                <a:gridCol w="2855880"/>
              </a:tblGrid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c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s y Sistemas Psicológic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icación e Interpretación de Pruebas Psicológicas I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Metodologí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Psicométrica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Comunicación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Psicología Escolar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logía Anorm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Neuropsicolog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Psicoanalític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nductu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gnitiv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Humanista Existen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Aplicación e Interpretación de Pruebas Psicológicas II </a:t>
                      </a:r>
                      <a:br>
                        <a:rPr sz="1200"/>
                      </a:b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todología de la Investigación Cualitativa 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écnicas de Evaluación Psicológica Teoría Psicoanalític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Cognitiv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Sistémica-Comuni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en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r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Psicología del Trabajo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Comunitari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Psicología Escolar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Educaciona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Psiquiatr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Aplicación e Interpretación de Pruebas Psicológicas Proyectiva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terapia Adultos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Psicoterapi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Infanto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5"/>
                        </a:rPr>
                        <a:t> Juveni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s de Evaluación Psicológ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patología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Laboral/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tiv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sicología Comunitaria 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6"/>
                        </a:rPr>
                        <a:t>Metodología de la Investigación Científi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7"/>
                        </a:rPr>
                        <a:t>Psicología Organizacion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quiatría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patología Infanto-Juven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de las Organiz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476280"/>
          <a:ext cx="8496000" cy="6375240"/>
        </p:xfrm>
        <a:graphic>
          <a:graphicData uri="http://schemas.openxmlformats.org/drawingml/2006/table">
            <a:tbl>
              <a:tblPr/>
              <a:tblGrid>
                <a:gridCol w="2884320"/>
                <a:gridCol w="2670120"/>
                <a:gridCol w="294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n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Administración y Desarrollo de Recursos Human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ínica de Adult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inica Infanto Juveni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Jurídic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icas de Psico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diagnóstico Clín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Psicoterap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ategias de inter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inario de Investigació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ción Organizacion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álisis Psicosocial del sist. edu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endizaje en Sistemas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y planificación Estrateg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 y Eval. De Prog.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s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ctic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2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Profes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 para optar al título de Psicól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Laboral/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ción de pers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ac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rrollo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Especialidades en Psicologí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24160" y="2631960"/>
            <a:ext cx="66852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busca formar profesionales capaces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1.Comp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. Evalu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 Predec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4. Interven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1680" y="354636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2004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40400" y="3200400"/>
            <a:ext cx="180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gn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Emo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ndu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0560" y="5257800"/>
            <a:ext cx="82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da una de las etapas del Ciclo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distintos ámbitos en los que se desenvuelve el individ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2760" y="380880"/>
            <a:ext cx="35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Times New Roman"/>
              </a:rPr>
              <a:t>Camp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9051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00"/>
                </a:solidFill>
                <a:latin typeface="Times New Roman"/>
              </a:rPr>
              <a:t>Los principales objetivos del trabajo psicológico son: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 Promover el desarrollo óptimo de las potencialidades del ser hum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 Prevenir y solucionar alteraciones y desajustes en distintos niveles de inter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4880" y="476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85680" y="457200"/>
            <a:ext cx="56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imes New Roman"/>
              </a:rPr>
              <a:t>Campo de Ejercici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4640" y="2286000"/>
            <a:ext cx="4290840" cy="3993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Investig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Doc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Educ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Lab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Comun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Jud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. Clínica y salud 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8520" y="1522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Juríd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76520"/>
            <a:ext cx="7407360" cy="19227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ama de la Psicología en que la conducta humana se relaciona con algún proceso jud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nte entre la Psicología y el Der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76212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3809880"/>
            <a:ext cx="546912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Áreas de acción de la Psicología Jur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360" y="4419720"/>
            <a:ext cx="4693320" cy="2228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Jurídica Pol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Psicología Jurídica, el menor y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Penitenci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de las Víct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cencia e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d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For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81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Educac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4880" y="1870200"/>
            <a:ext cx="7711920" cy="1618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objetivo del psicólogo educacional es la reflexión e intervención sobre el comportamiento humano, en situaciones educativas, mediante el desarrollo de las capacidades de las personas, grupos e institu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sí mismo interviene en todos los procesos psicológicos que afectan el aprendizaje, o que de este se deriv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5720" y="3657600"/>
            <a:ext cx="54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FUNCIONES DEL PSICOLOG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50840" y="4191120"/>
            <a:ext cx="7940880" cy="2533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Intervenir ante las necesidades educativas de los alum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Funciones ligadas a la orientación, asesoramiento Profesional y vo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Funciones preve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Intervención en el mejoramiento del act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Formación y asesoramiento famil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Intervención Socioeduc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. Investigación y doc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6040" y="990720"/>
            <a:ext cx="48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Disciplina puente entre la Psicología y la Educ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5040" y="2286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Organizacional/ Labo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1480" y="201924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¿CÓMO PLANIFICAR, DIRIGIR, EVALUAR Y ADMINISTRA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2556000"/>
            <a:ext cx="794088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Organizacional estudia el efecto que causan en el individuo los procesos organizacionales                        Clima, Liderazgo, Motivación, Cultura, Comunicación, Conflic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200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0520" y="4119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Rol Psicólogo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0680" y="4952880"/>
            <a:ext cx="52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lección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laciones Laborales (Legislación, Negoci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 del rend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venciones Organiz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7242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7520" y="510552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343400"/>
            <a:ext cx="990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2840" y="41911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b7"/>
                </a:solidFill>
                <a:latin typeface="Times New Roman"/>
              </a:rPr>
              <a:t>Orientación pragmá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Social Comunitari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Importancia de la disti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utogestión v/s Representacione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jeto operando en interacción con ot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8362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Clínic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nómenos clínicos (Desde dónde miram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234936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6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oderar a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1:22:46Z</dcterms:created>
  <dc:creator>Sebastián Vidal</dc:creator>
  <dc:description/>
  <dc:language>en-US</dc:language>
  <cp:lastModifiedBy>Sebastián Vidal</cp:lastModifiedBy>
  <dcterms:modified xsi:type="dcterms:W3CDTF">2003-01-23T13:55:14Z</dcterms:modified>
  <cp:revision>6</cp:revision>
  <dc:subject/>
  <dc:title>Diapositiva 1</dc:title>
</cp:coreProperties>
</file>