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8D7B-E7C3-4129-A114-4D5FC439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5973-5CBF-4100-9371-6EA709A9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1E1A-34F6-401D-9628-72E67E20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A97F-5A06-45C6-BBED-4E7AEB65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CC35-C727-42A2-85FE-53535B5C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4A7C-8EAE-4940-8D9E-05AD4320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225E-BCD0-4038-9651-34FF34E6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D0E2-3E2E-4C52-8821-BF47DD00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C241-81DD-4FE3-80D0-92E00CB4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019F-2D4B-43C3-A609-19DA84A2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8138-EEEC-4E9A-81A3-9CF6B2DE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70B-4134-4C18-89A2-A916B55C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F40A-5EE3-479D-B647-E0D19C67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83F1-8118-4F4D-BE26-FB2413DD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4C10-731D-4E45-9E7A-6DDBF978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2AB7-EABE-4AD7-ADF4-C54EE6C3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3683-6DFE-45AE-B2E3-4EC6D77E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B42D-5A48-4C44-8ACD-3F54B62C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C2E-7A51-4D44-BDF3-AEA08735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D8F-0B9B-4CD4-89FF-5FF22BED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1161-A6D9-438E-A4E5-36E87B79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4110-B6D6-4330-87D9-6DF98B1D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AED-576E-4D6A-B8DB-45B98D4B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725-95E3-49D3-B532-06D41D9E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6B0E-379F-48F5-998B-C2355C58E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6CCE-745D-46A8-B1D0-BFE8FDFD0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905120"/>
            <a:ext cx="81518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INTRODUCCIÓN A LA PSICOLOGÍA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6000" y="4724280"/>
            <a:ext cx="67816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47640" y="333360"/>
            <a:ext cx="6120000" cy="64944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FOQUES TERAPÉU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4000" y="1268280"/>
          <a:ext cx="8521560" cy="4137120"/>
        </p:xfrm>
        <a:graphic>
          <a:graphicData uri="http://schemas.openxmlformats.org/drawingml/2006/table">
            <a:tbl>
              <a:tblPr/>
              <a:tblGrid>
                <a:gridCol w="1368360"/>
                <a:gridCol w="1942920"/>
                <a:gridCol w="1873440"/>
                <a:gridCol w="1655640"/>
                <a:gridCol w="168120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ANALÍ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reud, Klein, Ju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vlov, Skinner, Beck, Ellis, Guida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yers, Per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É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unch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SA COMPORT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EN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causas tendrían relación con conflictos no resueltos del pasado y pulsiones in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encias, pensamientos, etc. Disfuncionales sobre el mundo, los otros y el mund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do con el aprendiz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apacidad de las personas para encontrarle sentido a la vida y a sus sentimientos de soledad y aisl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un síntoma de las redes de relaciones que establece el paciente índice y sus otros significa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24000" y="1268280"/>
            <a:ext cx="1368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11040" y="1628640"/>
          <a:ext cx="8508960" cy="4692960"/>
        </p:xfrm>
        <a:graphic>
          <a:graphicData uri="http://schemas.openxmlformats.org/drawingml/2006/table">
            <a:tbl>
              <a:tblPr/>
              <a:tblGrid>
                <a:gridCol w="1366920"/>
                <a:gridCol w="1940040"/>
                <a:gridCol w="1954080"/>
                <a:gridCol w="1569960"/>
                <a:gridCol w="1677960"/>
              </a:tblGrid>
              <a:tr h="262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cer cc. Lo incc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ente explore y comprenda su in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do en el síntom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estructuración del sistema de creenc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perar el control de su comportamiento y responsabilizarse por lo que puede hacer de e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embros del sistema asuman papeles y patrones de comportamiento nuevos y más construc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C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pre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e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uales (regidas por principios aprendizaje), cognitivos (confrontación lógic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jer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ire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jo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la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t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24000" y="333360"/>
          <a:ext cx="8508960" cy="1244520"/>
        </p:xfrm>
        <a:graphic>
          <a:graphicData uri="http://schemas.openxmlformats.org/drawingml/2006/table">
            <a:tbl>
              <a:tblPr/>
              <a:tblGrid>
                <a:gridCol w="1366560"/>
                <a:gridCol w="1940040"/>
                <a:gridCol w="1870200"/>
                <a:gridCol w="1652400"/>
                <a:gridCol w="167976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ANALÍ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reud, Klein, Ju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vlov, Skinner, Beck, Ellis, Guida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yers, Per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É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unch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95280" y="2276640"/>
          <a:ext cx="8508960" cy="1091880"/>
        </p:xfrm>
        <a:graphic>
          <a:graphicData uri="http://schemas.openxmlformats.org/drawingml/2006/table">
            <a:tbl>
              <a:tblPr/>
              <a:tblGrid>
                <a:gridCol w="1366920"/>
                <a:gridCol w="1939680"/>
                <a:gridCol w="1954440"/>
                <a:gridCol w="1569960"/>
                <a:gridCol w="1677960"/>
              </a:tblGrid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PEU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preta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resiste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ront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95280" y="1052640"/>
          <a:ext cx="8508960" cy="1244520"/>
        </p:xfrm>
        <a:graphic>
          <a:graphicData uri="http://schemas.openxmlformats.org/drawingml/2006/table">
            <a:tbl>
              <a:tblPr/>
              <a:tblGrid>
                <a:gridCol w="1366560"/>
                <a:gridCol w="1940040"/>
                <a:gridCol w="1870200"/>
                <a:gridCol w="1652400"/>
                <a:gridCol w="167976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ANALÍ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reud, Klein, Ju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vlov, Skinner, Beck, Ellis, Guida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yers, Per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É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unch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5:21:18Z</dcterms:created>
  <dc:creator>JUAN  ORLANDO </dc:creator>
  <dc:description/>
  <dc:language>en-US</dc:language>
  <cp:lastModifiedBy>TAMARA   HARCHA   KUSANOVIC</cp:lastModifiedBy>
  <dcterms:modified xsi:type="dcterms:W3CDTF">2004-12-30T15:54:54Z</dcterms:modified>
  <cp:revision>6</cp:revision>
  <dc:subject/>
  <dc:title>INTRODUCCIÓN A LA PSICOLOGÍA</dc:title>
</cp:coreProperties>
</file>