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EB5-790F-4E8E-8335-ACD56A5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4C0-9529-44B1-B33D-1DF1391E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27E-9D72-4081-87C4-9AC5BF1E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3EA-0552-4E44-8AA9-E8135401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E9BF-9F3D-46C4-B01B-E6D7FB88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BA8E-81F0-4BC2-8AD7-DAD84373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6EF2-58AD-40BE-8DBC-00FE268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4F9-C350-445E-B991-DD06609A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6F62-8F2E-4A8C-98D6-DE06B77B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83E-C8C8-4815-B4DC-410B9FD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BB3C-7070-4113-BFB9-A128A5D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F6C-357E-4DED-A8EA-891F1278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B362-1186-4A21-ADD1-0E77472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149B-C6C8-49D7-AC83-B077037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85F0-8D11-4F39-94AC-7E87133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4F5E-EF89-4ABE-B0E8-62016AC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D445-F488-474F-9B1A-7BD5D9F5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013-DFDC-432A-A2B2-C4D9A30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D50-14B1-45B4-AD0C-6FF0BCCC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D8C-75C1-48F5-8B47-741297A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929-A5C9-4500-AD61-C196A9E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307-7899-438C-A33B-8E2851A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8AE-6B25-47F3-BF1C-972C849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DA5-E2AF-4549-8D57-CBDB67A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4E5-C298-4A43-B998-8234A51F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D6C-4DD5-47DC-AD85-B233B251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INTRODUCCIÓN A LA PSICOLOGÍ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333360"/>
            <a:ext cx="6120000" cy="649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S TERAPÉU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1268280"/>
          <a:ext cx="8521560" cy="413712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873440"/>
                <a:gridCol w="1655640"/>
                <a:gridCol w="1681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COMPORT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causas tendrían relación con conflictos no resueltos del pasado y pulsiones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encias, pensamientos, etc. Disfuncionales sobre el mundo, los otros y el mun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con el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 de las personas para encontrarle sentido a la vida y a sus sentimientos de soledad y aisl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un síntoma de las redes de relaciones que establece el paciente índice y sus otros signific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4000" y="126828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11040" y="1628640"/>
          <a:ext cx="8508960" cy="4692960"/>
        </p:xfrm>
        <a:graphic>
          <a:graphicData uri="http://schemas.openxmlformats.org/drawingml/2006/table">
            <a:tbl>
              <a:tblPr/>
              <a:tblGrid>
                <a:gridCol w="1366920"/>
                <a:gridCol w="1940040"/>
                <a:gridCol w="1954080"/>
                <a:gridCol w="1569960"/>
                <a:gridCol w="1677960"/>
              </a:tblGrid>
              <a:tr h="26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cc. Lo incc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explore y comprenda su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 en el sínto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structuración del sistema de cree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perar el control de su comportamiento y responsabilizarse por lo que puede hacer de 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mbros del sistema asuman papeles y patrones de comportamiento nuevos y más constru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uales (regidas por principios aprendizaje), cognitivos (confrontación lóg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je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re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jo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t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4000" y="33336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2276640"/>
          <a:ext cx="8508960" cy="1091880"/>
        </p:xfrm>
        <a:graphic>
          <a:graphicData uri="http://schemas.openxmlformats.org/drawingml/2006/table">
            <a:tbl>
              <a:tblPr/>
              <a:tblGrid>
                <a:gridCol w="1366920"/>
                <a:gridCol w="1939680"/>
                <a:gridCol w="1954440"/>
                <a:gridCol w="1569960"/>
                <a:gridCol w="167796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PE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resis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ron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5280" y="105264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5:21:18Z</dcterms:created>
  <dc:creator>JUAN  ORLANDO </dc:creator>
  <dc:description/>
  <dc:language>en-US</dc:language>
  <cp:lastModifiedBy>TAMARA   HARCHA   KUSANOVIC</cp:lastModifiedBy>
  <dcterms:modified xsi:type="dcterms:W3CDTF">2004-12-30T15:54:54Z</dcterms:modified>
  <cp:revision>6</cp:revision>
  <dc:subject/>
  <dc:title>INTRODUCCIÓN A LA PSICOLOGÍA</dc:title>
</cp:coreProperties>
</file>