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FC53-9E92-4B8D-96EB-6D9DAF38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7A74-ABCA-4C83-8F56-01741ADB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1B2C-8ADE-485E-917F-E87E053FB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0CA6-5143-4EE6-81F5-34A8A813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60B9-2917-409C-B06E-66B698850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9461-0FA0-4201-BEC7-83EE803B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00A1-4A9F-41D1-9610-8DA251A1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37F8-CF7B-4AED-8A7B-43AF9F73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7EC5-EA30-408E-8752-0E03D6FA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D2A5-27A7-4648-8AF2-3E623B95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B7D3-C056-4705-90B8-DB6EDBC7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D053-1EF9-4B86-B2BE-7D4C7FDF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808F-21C7-467F-856B-BF38AF32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0ABC-BAEF-47C6-B537-E3B29AFE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2975-80A3-4E5D-BCB5-EA5C2CA5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6B30-090C-439B-98E6-81F2142CB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C4A3-152B-477D-B282-4851AE43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4780-EB9A-4AB3-8292-BF2D0FA1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3387-CD2C-4DAF-94DA-F24D4EF7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48CF-99DD-490C-B81E-9F55D293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AB75-6722-477B-94FE-0F5F4712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B473-5898-4EC4-B16F-ED8DEB82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5FCB-FABA-406F-A5A1-3568941C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062F-3BE9-468C-AE6B-38D5AE0A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9B6B-4A68-4044-B54A-2175E9D3C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ED6F-09CD-4770-A3E2-0D059D0AE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1905120"/>
            <a:ext cx="81518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INTRODUCCIÓN A LA PSICOLOGÍA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16000" y="4724280"/>
            <a:ext cx="67816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CUELA DE VERANO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47640" y="333360"/>
            <a:ext cx="6120000" cy="64944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FOQUES TERAPÉU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24000" y="1268280"/>
          <a:ext cx="8521560" cy="4137120"/>
        </p:xfrm>
        <a:graphic>
          <a:graphicData uri="http://schemas.openxmlformats.org/drawingml/2006/table">
            <a:tbl>
              <a:tblPr/>
              <a:tblGrid>
                <a:gridCol w="1368360"/>
                <a:gridCol w="1942920"/>
                <a:gridCol w="1873440"/>
                <a:gridCol w="1655640"/>
                <a:gridCol w="1681200"/>
              </a:tblGrid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O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ICOANALÍ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reud, Klein, Ju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GNI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avlov, Skinner, Beck, Ellis, Guida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oyers, Perl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ÉM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unch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SA COMPORT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EN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 causas tendrían relación con conflictos no resueltos del pasado y pulsiones inc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encias, pensamientos, etc. Disfuncionales sobre el mundo, los otros y el mund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do con el aprendiz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apacidad de las personas para encontrarle sentido a la vida y a sus sentimientos de soledad y aislami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un síntoma de las redes de relaciones que establece el paciente índice y sus otros significat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324000" y="1268280"/>
            <a:ext cx="136836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11040" y="1628640"/>
          <a:ext cx="8508960" cy="4692960"/>
        </p:xfrm>
        <a:graphic>
          <a:graphicData uri="http://schemas.openxmlformats.org/drawingml/2006/table">
            <a:tbl>
              <a:tblPr/>
              <a:tblGrid>
                <a:gridCol w="1366920"/>
                <a:gridCol w="1940040"/>
                <a:gridCol w="1954080"/>
                <a:gridCol w="1569960"/>
                <a:gridCol w="1677960"/>
              </a:tblGrid>
              <a:tr h="262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cer cc. Lo incc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iente explore y comprenda su inc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do en el síntom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estructuración del sistema de creenci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uperar el control de su comportamiento y responsabilizarse por lo que puede hacer de e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embros del sistema asuman papeles y patrones de comportamiento nuevos y más construct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CN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ociación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pret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e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uales (regidas por principios aprendizaje), cognitivos (confrontación lógic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jer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dire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lejo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lar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tu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24000" y="333360"/>
          <a:ext cx="8508960" cy="1244520"/>
        </p:xfrm>
        <a:graphic>
          <a:graphicData uri="http://schemas.openxmlformats.org/drawingml/2006/table">
            <a:tbl>
              <a:tblPr/>
              <a:tblGrid>
                <a:gridCol w="1366560"/>
                <a:gridCol w="1940040"/>
                <a:gridCol w="1870200"/>
                <a:gridCol w="1652400"/>
                <a:gridCol w="1679760"/>
              </a:tblGrid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O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ICOANALÍ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reud, Klein, Ju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GNI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avlov, Skinner, Beck, Ellis, Guida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oyers, Perl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ÉM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unch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95280" y="2276640"/>
          <a:ext cx="8508960" cy="1091880"/>
        </p:xfrm>
        <a:graphic>
          <a:graphicData uri="http://schemas.openxmlformats.org/drawingml/2006/table">
            <a:tbl>
              <a:tblPr/>
              <a:tblGrid>
                <a:gridCol w="1366920"/>
                <a:gridCol w="1939680"/>
                <a:gridCol w="1954440"/>
                <a:gridCol w="1569960"/>
                <a:gridCol w="1677960"/>
              </a:tblGrid>
              <a:tr h="109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APEU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preta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resistenc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t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i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66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ront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95280" y="1052640"/>
          <a:ext cx="8508960" cy="1244520"/>
        </p:xfrm>
        <a:graphic>
          <a:graphicData uri="http://schemas.openxmlformats.org/drawingml/2006/table">
            <a:tbl>
              <a:tblPr/>
              <a:tblGrid>
                <a:gridCol w="1366560"/>
                <a:gridCol w="1940040"/>
                <a:gridCol w="1870200"/>
                <a:gridCol w="1652400"/>
                <a:gridCol w="1679760"/>
              </a:tblGrid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O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ICOANALÍ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reud, Klein, Ju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GNI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avlov, Skinner, Beck, Ellis, Guida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oyers, Perl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ÉM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unch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5:21:18Z</dcterms:created>
  <dc:creator>JUAN  ORLANDO </dc:creator>
  <dc:description/>
  <dc:language>en-US</dc:language>
  <cp:lastModifiedBy>TAMARA   HARCHA   KUSANOVIC</cp:lastModifiedBy>
  <dcterms:modified xsi:type="dcterms:W3CDTF">2004-12-30T15:54:54Z</dcterms:modified>
  <cp:revision>6</cp:revision>
  <dc:subject/>
  <dc:title>INTRODUCCIÓN A LA PSICOLOGÍA</dc:title>
</cp:coreProperties>
</file>