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5311-B262-47D0-9D6A-556399B8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A4BE-B94F-4EB4-B99B-4D0B9E3E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DDDA-2300-466C-B505-2FFE2376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3C18-382A-44E5-8560-5FFEF5F1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FBCD-588F-4A7D-A9A0-4DD45B98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6DE2-3697-4FA7-BC1A-FC1E0296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A51F-8D63-4180-A3A6-0DEA25D5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23A6-4682-4789-A310-8B9B1AC6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6712-35CE-4746-90AC-48BCCEAF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9275-86DC-438C-929E-F0F40FA4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79D7-0C63-495D-8532-34C44553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4B1D-3583-47B5-ABF9-DDC14B43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5D2F-7C9D-4117-8B84-424A49B2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BF89-61EC-4883-88EB-C21CDED0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15B2-964B-4887-AF95-9B27F2BB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6FC7-C765-4826-BA3A-5B097935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F9E4-D1AB-4F10-B81C-70EAEC66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E44B-50F4-4410-BDC1-81134557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228D-5A19-4158-B7FF-6273CB49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F83B-1535-4932-B10B-FDD7351C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64FD-F8FF-4A59-BCD8-8D9098CD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680A-CD8E-48A0-8D06-D9DFBF14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2205-9D16-4941-9238-4FC22A48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C7AF-55D9-4FE3-B308-70704F2A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D60C-6662-4F93-B5E1-7D89103D6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986A-AEE7-48E9-968C-BE77ECDA0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1905120"/>
            <a:ext cx="81518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INTRODUCCIÓN A LA PSICOLOGÍA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16000" y="4724280"/>
            <a:ext cx="67816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CUELA DE VERANO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47640" y="333360"/>
            <a:ext cx="6120000" cy="64944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FOQUES TERAPÉU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24000" y="1268280"/>
          <a:ext cx="8521560" cy="4137120"/>
        </p:xfrm>
        <a:graphic>
          <a:graphicData uri="http://schemas.openxmlformats.org/drawingml/2006/table">
            <a:tbl>
              <a:tblPr/>
              <a:tblGrid>
                <a:gridCol w="1368360"/>
                <a:gridCol w="1942920"/>
                <a:gridCol w="1873440"/>
                <a:gridCol w="1655640"/>
                <a:gridCol w="168120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O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ANALÍ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reud, Klein, Ju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GNI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avlov, Skinner, Beck, Ellis, Guida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oyers, Perl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ÉM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unch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SA COMPORT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EN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causas tendrían relación con conflictos no resueltos del pasado y pulsiones inc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encias, pensamientos, etc. Disfuncionales sobre el mundo, los otros y el mund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do con el aprendiz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apacidad de las personas para encontrarle sentido a la vida y a sus sentimientos de soledad y aisla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un síntoma de las redes de relaciones que establece el paciente índice y sus otros significa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324000" y="1268280"/>
            <a:ext cx="136836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11040" y="1628640"/>
          <a:ext cx="8508960" cy="4692960"/>
        </p:xfrm>
        <a:graphic>
          <a:graphicData uri="http://schemas.openxmlformats.org/drawingml/2006/table">
            <a:tbl>
              <a:tblPr/>
              <a:tblGrid>
                <a:gridCol w="1366920"/>
                <a:gridCol w="1940040"/>
                <a:gridCol w="1954080"/>
                <a:gridCol w="1569960"/>
                <a:gridCol w="1677960"/>
              </a:tblGrid>
              <a:tr h="262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cer cc. Lo incc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ente explore y comprenda su inc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do en el síntom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estructuración del sistema de creenci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perar el control de su comportamiento y responsabilizarse por lo que puede hacer de e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embros del sistema asuman papeles y patrones de comportamiento nuevos y más construc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C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ciació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pre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e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uales (regidas por principios aprendizaje), cognitivos (confrontación lógic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jer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ire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jo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lar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t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24000" y="333360"/>
          <a:ext cx="8508960" cy="1244520"/>
        </p:xfrm>
        <a:graphic>
          <a:graphicData uri="http://schemas.openxmlformats.org/drawingml/2006/table">
            <a:tbl>
              <a:tblPr/>
              <a:tblGrid>
                <a:gridCol w="1366560"/>
                <a:gridCol w="1940040"/>
                <a:gridCol w="1870200"/>
                <a:gridCol w="1652400"/>
                <a:gridCol w="167976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O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ANALÍ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reud, Klein, Ju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GNI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avlov, Skinner, Beck, Ellis, Guida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oyers, Perl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ÉM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unch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95280" y="2276640"/>
          <a:ext cx="8508960" cy="1091880"/>
        </p:xfrm>
        <a:graphic>
          <a:graphicData uri="http://schemas.openxmlformats.org/drawingml/2006/table">
            <a:tbl>
              <a:tblPr/>
              <a:tblGrid>
                <a:gridCol w="1366920"/>
                <a:gridCol w="1939680"/>
                <a:gridCol w="1954440"/>
                <a:gridCol w="1569960"/>
                <a:gridCol w="1677960"/>
              </a:tblGrid>
              <a:tr h="109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APEU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preta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resistenc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i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ront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95280" y="1052640"/>
          <a:ext cx="8508960" cy="1244520"/>
        </p:xfrm>
        <a:graphic>
          <a:graphicData uri="http://schemas.openxmlformats.org/drawingml/2006/table">
            <a:tbl>
              <a:tblPr/>
              <a:tblGrid>
                <a:gridCol w="1366560"/>
                <a:gridCol w="1940040"/>
                <a:gridCol w="1870200"/>
                <a:gridCol w="1652400"/>
                <a:gridCol w="167976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O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ANALÍ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reud, Klein, Ju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GNI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avlov, Skinner, Beck, Ellis, Guida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oyers, Perl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ÉM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unch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5:21:18Z</dcterms:created>
  <dc:creator>JUAN  ORLANDO </dc:creator>
  <dc:description/>
  <dc:language>en-US</dc:language>
  <cp:lastModifiedBy>TAMARA   HARCHA   KUSANOVIC</cp:lastModifiedBy>
  <dcterms:modified xsi:type="dcterms:W3CDTF">2004-12-30T15:54:54Z</dcterms:modified>
  <cp:revision>6</cp:revision>
  <dc:subject/>
  <dc:title>INTRODUCCIÓN A LA PSICOLOGÍA</dc:title>
</cp:coreProperties>
</file>