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3B3-2A8F-4F23-873D-D94E10C4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35A3-A5A0-4452-9354-7F01C24A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47D-3856-4FC0-A5B5-740EB24B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DFE-A583-4E3B-9ED7-4D7EAC24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88EF-863D-44A0-86B0-339A5EB0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D531-B8A9-4A34-A3A2-9C921B57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856F-22EE-4858-A508-30D169D9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5564-6D17-4F68-9160-7B64614B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BC20-3977-4996-B2B1-1FA52DF8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F5B6-E1FF-47B3-B904-9E38C6A8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B5E2-2134-4009-BB9F-148E6517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EE9-B4D0-426D-808B-3E6D3770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A326-8D90-44CB-BEE3-95AF0404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2D15-6F9E-44F2-9571-266801FB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5A24-D4FC-4A24-9334-49170EC8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347F-96E1-42D7-901C-92C882B6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CF4A-B0A0-432B-81F4-7C34E6E5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E81-C41B-4A6E-9CAE-58F95F79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10D-F10C-47F3-9F87-53CA335D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10B-804E-4A0A-A2F6-1D483976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0FA-19A6-4F87-A05E-D1D7CEDC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407-ED61-48AB-BD6B-CBF77792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789-0608-4502-AC72-EFC37E3A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C22-3546-405D-AB35-9E69C443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9372-3263-442D-88BF-658AB7A457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8A24-EE6B-4F74-B4DD-5DD4E96A90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0099"/>
                </a:solidFill>
                <a:latin typeface="Times New Roman"/>
              </a:rPr>
              <a:t>Aprendizaje y Memori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96960" y="5410080"/>
            <a:ext cx="39466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Ps. Sebastián Vidal To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9933"/>
                </a:solidFill>
                <a:latin typeface="Times New Roman"/>
              </a:rPr>
              <a:t>Sinopsis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3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¿Que es aprender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Distintas propuestas sobre los mecanismos de aprendiz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La propuesta de Vygotski sobre el aprendiz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La memoria: VIDEO RECORDAR OLVID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Distintas nociones de la memoria (relación con el pensamient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La importancia del olv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845820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I. ¿Qué es el aprendizaje?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0099"/>
                </a:solidFill>
                <a:latin typeface="Times New Roman"/>
              </a:rPr>
              <a:t>La necesidad evolutiva del aprendizaje</a:t>
            </a: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0200" indent="-443160">
              <a:lnSpc>
                <a:spcPct val="80000"/>
              </a:lnSpc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Importancia de la información exter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0200" indent="-443160">
              <a:lnSpc>
                <a:spcPct val="80000"/>
              </a:lnSpc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A mayor complejidad de la especie mayor necesidad de aprendizaj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0099"/>
                </a:solidFill>
                <a:latin typeface="Times New Roman"/>
              </a:rPr>
              <a:t>¿Que es aprender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0200" indent="-443160">
              <a:lnSpc>
                <a:spcPct val="80000"/>
              </a:lnSpc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Implica un cambio de conducta, actitud o conocimiento, relativamente estable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generado por la experienci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0099"/>
                </a:solidFill>
                <a:latin typeface="Times New Roman"/>
              </a:rPr>
              <a:t>Aprendizaje y procesos ment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0200" indent="-443160">
              <a:lnSpc>
                <a:spcPct val="80000"/>
              </a:lnSpc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Signific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0200" indent="-443160">
              <a:lnSpc>
                <a:spcPct val="80000"/>
              </a:lnSpc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Relación con la memo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0099"/>
                </a:solidFill>
                <a:latin typeface="Times New Roman"/>
              </a:rPr>
              <a:t>¿Existe un aprendizaje eminentemente human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II. Distintas propuestas sobre los mecanismos de aprendizaje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33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El conductism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>
              <a:lnSpc>
                <a:spcPct val="80000"/>
              </a:lnSpc>
              <a:spcBef>
                <a:spcPts val="400"/>
              </a:spcBef>
              <a:buClr>
                <a:srgbClr val="33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La noción de Condicionamiento Clásico (Pavlov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>
              <a:lnSpc>
                <a:spcPct val="80000"/>
              </a:lnSpc>
              <a:spcBef>
                <a:spcPts val="400"/>
              </a:spcBef>
              <a:buClr>
                <a:srgbClr val="33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El Condicionamiento Operante (Skinn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>
              <a:lnSpc>
                <a:spcPct val="80000"/>
              </a:lnSpc>
              <a:spcBef>
                <a:spcPts val="400"/>
              </a:spcBef>
              <a:buClr>
                <a:srgbClr val="33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El aprendizaje por observación (Bandur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330099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El Innatismo: (Chomsk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3)</a:t>
            </a:r>
            <a:r>
              <a:rPr b="0" lang="es-E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Propuestas Constructivistas (Vygotski, Piage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III. La propuesta de Vygotski sobre el aprendizaje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El aprendizaje y los procesos de Desarrol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La noción de Zona de Desarrollo Próxim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Presupone una naturaleza soc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y un proceso específ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48000" y="2781360"/>
            <a:ext cx="4104000" cy="295272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24360" y="3646440"/>
            <a:ext cx="1944720" cy="217440"/>
          </a:xfrm>
          <a:prstGeom prst="rightArrow">
            <a:avLst>
              <a:gd name="adj1" fmla="val 50000"/>
              <a:gd name="adj2" fmla="val 223593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53080" y="4510080"/>
            <a:ext cx="3168720" cy="217440"/>
          </a:xfrm>
          <a:prstGeom prst="rightArrow">
            <a:avLst>
              <a:gd name="adj1" fmla="val 50000"/>
              <a:gd name="adj2" fmla="val 364321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21080" y="35733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21080" y="44388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rot="5400000">
            <a:off x="5543280" y="3213720"/>
            <a:ext cx="324000" cy="1763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45720 h 1763640"/>
              <a:gd name="textAreaBottom" fmla="*/ 1717920 h 17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5400000">
            <a:off x="6211080" y="3556800"/>
            <a:ext cx="324000" cy="2951280"/>
          </a:xfrm>
          <a:custGeom>
            <a:avLst/>
            <a:gdLst>
              <a:gd name="textAreaLeft" fmla="*/ 207000 w 324000"/>
              <a:gd name="textAreaRight" fmla="*/ 324360 w 32400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00720" y="4222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Z.d.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48360" y="5230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Z.d.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69080" y="357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1800" y="4438800"/>
            <a:ext cx="5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21440" y="3214800"/>
            <a:ext cx="57636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c8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73800" y="4078440"/>
            <a:ext cx="57636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c8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05440" y="292572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1414"/>
                </a:solidFill>
                <a:latin typeface="Times New Roman"/>
              </a:rPr>
              <a:t>AYUDA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81414"/>
                </a:solidFill>
                <a:latin typeface="Times New Roman"/>
              </a:rPr>
              <a:t>EXTE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85080" y="378936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1414"/>
                </a:solidFill>
                <a:latin typeface="Times New Roman"/>
              </a:rPr>
              <a:t>AYUDA EXTE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IV. La memoria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Distintas Nociones de Memo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Propuesta Computacional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0099"/>
                </a:solidFill>
                <a:latin typeface="Times New Roman"/>
              </a:rPr>
              <a:t>Memoria de corto plaz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0099"/>
                </a:solidFill>
                <a:latin typeface="Times New Roman"/>
              </a:rPr>
              <a:t>Memomoria de largo plaz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0099"/>
                </a:solidFill>
                <a:latin typeface="Times New Roman"/>
              </a:rPr>
              <a:t>Secuencia: codificar, almacen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330099"/>
                </a:solidFill>
                <a:latin typeface="Times New Roman"/>
              </a:rPr>
              <a:t>recuper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Propuesta Intera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0099"/>
                </a:solidFill>
                <a:latin typeface="Times New Roman"/>
              </a:rPr>
              <a:t>Noción de memoria extendi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2708280"/>
            <a:ext cx="216000" cy="122544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2924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es concep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V. La importancia del olvido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Relación entre la memoria y el pens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“</a:t>
            </a: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Funes” el memorios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Richard Nolan en “Mement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Importancia de la memoria en la constitución de la mism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Importancia de la memoria y el olvido en la terapia psicoló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Revivir v/s record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4:29:39Z</dcterms:created>
  <dc:creator>Sebastián Vidal</dc:creator>
  <dc:description/>
  <dc:language>en-US</dc:language>
  <cp:lastModifiedBy>Sebastián Vidal</cp:lastModifiedBy>
  <dcterms:modified xsi:type="dcterms:W3CDTF">2003-01-14T03:30:02Z</dcterms:modified>
  <cp:revision>28</cp:revision>
  <dc:subject/>
  <dc:title>Nuevas Perspectivas en Constructivismo para la Clínica Cognitiva</dc:title>
</cp:coreProperties>
</file>