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27DE-CDFE-4978-9DB8-B07482EB6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8AAC-558C-4F84-A254-F8943D356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EFE6-995D-406A-A192-9B0AB0FAF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CBDA-D2A8-41B3-BA8F-A19EB9CDE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25E45-AE93-4CEB-A839-DA9AA685B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747E6-C595-4972-AB82-52CAB0AD6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0215C-A505-46D9-B840-0099B72EA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AACC7-5E42-4EAE-A326-77DB84534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55BA4-4BA9-43F1-9C30-0BB5FD07B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02C9D-94BF-45D7-B25B-0CEA835A1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C6DCA-D8DE-4B45-9A6B-38393C31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40B3-0E0F-463C-AF74-028D86806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FFAE2-6E2B-44F4-935B-19BE8164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CCE3C-CD7C-4697-9283-6D6E917C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66C27-E637-4B04-AC19-A201593F5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5AC90-1465-43EB-B853-8EADB59C7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E4789-E45F-45AB-B50A-9BE6A978F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7FCE-4563-48D7-A50E-D15ABD8FD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151E-E33B-4179-BEFC-FE1F1A20B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73AF-A3D7-418A-BAFD-3626E41C5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D610-6586-4CB5-ABC2-5F88A9054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7CB4-DAB9-4FAE-A56D-18F66459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EAA7-6559-43EF-9E88-6C8D9EBE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3E0A-F21C-4D0B-A9CD-454DFE1C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d572d"/>
                </a:gs>
                <a:gs pos="100000">
                  <a:srgbClr val="00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2d572d"/>
                </a:gs>
                <a:gs pos="100000">
                  <a:srgbClr val="00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BF04F-EDB6-4388-9019-D085A579EABE}" type="slidenum">
              <a:rPr b="0" lang="es-C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d572d"/>
                </a:gs>
                <a:gs pos="100000">
                  <a:srgbClr val="00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2d572d"/>
                </a:gs>
                <a:gs pos="100000">
                  <a:srgbClr val="00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99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59AE3-BFCF-4F3B-8191-F815EC1372FA}" type="slidenum">
              <a:rPr b="0" lang="es-C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603160" y="404640"/>
            <a:ext cx="38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ahoma"/>
              </a:rPr>
              <a:t>O.S.P. OBSESIV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03640" y="1125360"/>
            <a:ext cx="3168720" cy="1151280"/>
          </a:xfrm>
          <a:prstGeom prst="downArrow">
            <a:avLst>
              <a:gd name="adj1" fmla="val 56111"/>
              <a:gd name="adj2" fmla="val 69380"/>
            </a:avLst>
          </a:prstGeom>
          <a:solidFill>
            <a:srgbClr val="ff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ahoma"/>
              </a:rPr>
              <a:t>ASPEC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ahoma"/>
              </a:rPr>
              <a:t>GENER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9640" y="2421000"/>
            <a:ext cx="8280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00"/>
                </a:solidFill>
                <a:latin typeface="Tahoma"/>
              </a:rPr>
              <a:t>“</a:t>
            </a:r>
            <a:r>
              <a:rPr b="1" lang="es-MX" sz="2400" spc="-1" strike="noStrike">
                <a:solidFill>
                  <a:srgbClr val="003300"/>
                </a:solidFill>
                <a:latin typeface="Tahoma"/>
              </a:rPr>
              <a:t>NO ES LA DUDA, SINO LA CERTIDUMBRE LA QUE CONDUCE A LA LOCURA” (MUSI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00"/>
                </a:solidFill>
                <a:latin typeface="Tahoma"/>
              </a:rPr>
              <a:t>Sujetos que buscan constantemente tener las</a:t>
            </a:r>
            <a:r>
              <a:rPr b="1" lang="es-MX" sz="2400" spc="-1" strike="noStrike">
                <a:solidFill>
                  <a:srgbClr val="003300"/>
                </a:solidFill>
                <a:latin typeface="Tahoma"/>
              </a:rPr>
              <a:t> “</a:t>
            </a:r>
            <a:r>
              <a:rPr b="1" lang="es-MX" sz="2800" spc="-1" strike="noStrike">
                <a:solidFill>
                  <a:srgbClr val="003300"/>
                </a:solidFill>
                <a:latin typeface="Tahoma"/>
              </a:rPr>
              <a:t>certezas de las cosa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3800" y="4076640"/>
            <a:ext cx="86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ahoma"/>
              </a:rPr>
              <a:t>Frecuente es la reflexión en torno a lo JUSTO / LO INJUSTO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ahoma"/>
              </a:rPr>
              <a:t>LO BUENO / LO MALO, LO MO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76720" y="4869000"/>
            <a:ext cx="2879640" cy="792000"/>
          </a:xfrm>
          <a:prstGeom prst="downArrow">
            <a:avLst>
              <a:gd name="adj1" fmla="val 58213"/>
              <a:gd name="adj2" fmla="val 58495"/>
            </a:avLst>
          </a:prstGeom>
          <a:solidFill>
            <a:srgbClr val="ff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00"/>
                </a:solidFill>
                <a:latin typeface="Tahoma"/>
              </a:rPr>
              <a:t>SENSAC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00"/>
                </a:solidFill>
                <a:latin typeface="Tahoma"/>
              </a:rPr>
              <a:t>INTER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76720" y="566100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00"/>
                </a:solidFill>
                <a:latin typeface="Tahoma"/>
              </a:rPr>
              <a:t>AMBIVALENC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UCTIVISMO COGNITIVO UNIVERSIDAD DE CHIL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40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900"/>
                            </p:stCondLst>
                            <p:childTnLst>
                              <p:par>
                                <p:cTn id="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400"/>
                            </p:stCondLst>
                            <p:childTnLst>
                              <p:par>
                                <p:cTn id="2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275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124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0,-3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124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0,-3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403280" y="5790960"/>
            <a:ext cx="774072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00"/>
                </a:solidFill>
                <a:latin typeface="Tahoma"/>
              </a:rPr>
              <a:t>No toleran la rabia, la sensualidad y las emociones en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00"/>
                </a:solidFill>
                <a:latin typeface="Tahoma"/>
              </a:rPr>
              <a:t>gene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1403280" y="404640"/>
            <a:ext cx="6408720" cy="1008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30107"/>
                </a:solidFill>
                <a:latin typeface="Tahoma"/>
              </a:rPr>
              <a:t>CARACTERÍSTICAS FAMILIA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11280" y="1557360"/>
            <a:ext cx="503280" cy="360360"/>
          </a:xfrm>
          <a:custGeom>
            <a:avLst/>
            <a:gdLst>
              <a:gd name="textAreaLeft" fmla="*/ 78480 w 503280"/>
              <a:gd name="textAreaRight" fmla="*/ 440640 w 5032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66480" y="1557360"/>
            <a:ext cx="705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00"/>
                </a:solidFill>
                <a:latin typeface="Tahoma"/>
              </a:rPr>
              <a:t>Padres dedicados a la formación y templanza del carác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00"/>
                </a:solidFill>
                <a:latin typeface="Tahoma"/>
              </a:rPr>
              <a:t>de los hij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9640" y="2205000"/>
            <a:ext cx="503280" cy="360360"/>
          </a:xfrm>
          <a:custGeom>
            <a:avLst/>
            <a:gdLst>
              <a:gd name="textAreaLeft" fmla="*/ 78480 w 503280"/>
              <a:gd name="textAreaRight" fmla="*/ 440640 w 5032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45680" y="2276640"/>
            <a:ext cx="372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00"/>
                </a:solidFill>
                <a:latin typeface="Tahoma"/>
              </a:rPr>
              <a:t>Poseen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2000" spc="-1" strike="noStrike">
                <a:solidFill>
                  <a:srgbClr val="003300"/>
                </a:solidFill>
                <a:latin typeface="Tahoma"/>
              </a:rPr>
              <a:t>una ideología famili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9640" y="2852640"/>
            <a:ext cx="503280" cy="360360"/>
          </a:xfrm>
          <a:custGeom>
            <a:avLst/>
            <a:gdLst>
              <a:gd name="textAreaLeft" fmla="*/ 78480 w 503280"/>
              <a:gd name="textAreaRight" fmla="*/ 440640 w 5032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41280" y="2708280"/>
            <a:ext cx="703116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00"/>
                </a:solidFill>
                <a:latin typeface="Tahoma"/>
              </a:rPr>
              <a:t>Organizados y preocupados por los aspectos formales 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00"/>
                </a:solidFill>
                <a:latin typeface="Tahoma"/>
              </a:rPr>
              <a:t>la crianza y aspectos extern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85920" y="3429000"/>
            <a:ext cx="599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00"/>
                </a:solidFill>
                <a:latin typeface="Tahoma"/>
              </a:rPr>
              <a:t>Primacía de lo intelectual por sobre lo emoc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47120" y="3860640"/>
            <a:ext cx="42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00"/>
                </a:solidFill>
                <a:latin typeface="Tahoma"/>
              </a:rPr>
              <a:t>Dedicados enteramente a los hij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09320" y="4292640"/>
            <a:ext cx="472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00"/>
                </a:solidFill>
                <a:latin typeface="Tahoma"/>
              </a:rPr>
              <a:t>Padres contradictorios, inconsiste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30560" y="4653000"/>
            <a:ext cx="487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00"/>
                </a:solidFill>
                <a:latin typeface="Tahoma"/>
              </a:rPr>
              <a:t>Explican y piden explicaciones por to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50280" y="5084640"/>
            <a:ext cx="7268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00"/>
                </a:solidFill>
                <a:latin typeface="Tahoma"/>
              </a:rPr>
              <a:t>Padres no violentos físicamente (pero torturadores frente 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00"/>
                </a:solidFill>
                <a:latin typeface="Tahoma"/>
              </a:rPr>
              <a:t>los errores, lo negativo y el descontrol emociona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9640" y="3429000"/>
            <a:ext cx="503280" cy="360360"/>
          </a:xfrm>
          <a:custGeom>
            <a:avLst/>
            <a:gdLst>
              <a:gd name="textAreaLeft" fmla="*/ 78480 w 503280"/>
              <a:gd name="textAreaRight" fmla="*/ 440640 w 5032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9640" y="3933720"/>
            <a:ext cx="503280" cy="360360"/>
          </a:xfrm>
          <a:custGeom>
            <a:avLst/>
            <a:gdLst>
              <a:gd name="textAreaLeft" fmla="*/ 78480 w 503280"/>
              <a:gd name="textAreaRight" fmla="*/ 440640 w 5032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9640" y="4365720"/>
            <a:ext cx="503280" cy="360360"/>
          </a:xfrm>
          <a:custGeom>
            <a:avLst/>
            <a:gdLst>
              <a:gd name="textAreaLeft" fmla="*/ 78480 w 503280"/>
              <a:gd name="textAreaRight" fmla="*/ 440640 w 5032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9640" y="4797360"/>
            <a:ext cx="503280" cy="360360"/>
          </a:xfrm>
          <a:custGeom>
            <a:avLst/>
            <a:gdLst>
              <a:gd name="textAreaLeft" fmla="*/ 78480 w 503280"/>
              <a:gd name="textAreaRight" fmla="*/ 440640 w 5032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9640" y="5373720"/>
            <a:ext cx="503280" cy="360360"/>
          </a:xfrm>
          <a:custGeom>
            <a:avLst/>
            <a:gdLst>
              <a:gd name="textAreaLeft" fmla="*/ 78480 w 503280"/>
              <a:gd name="textAreaRight" fmla="*/ 440640 w 5032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9640" y="5950080"/>
            <a:ext cx="503280" cy="360360"/>
          </a:xfrm>
          <a:custGeom>
            <a:avLst/>
            <a:gdLst>
              <a:gd name="textAreaLeft" fmla="*/ 78480 w 503280"/>
              <a:gd name="textAreaRight" fmla="*/ 440640 w 5032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UCTIVISMO COGNITIVO UNIVERSIDAD DE CHIL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500"/>
                            </p:stCondLst>
                            <p:childTnLst>
                              <p:par>
                                <p:cTn id="6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500"/>
                            </p:stCondLst>
                            <p:childTnLst>
                              <p:par>
                                <p:cTn id="7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4500"/>
                            </p:stCondLst>
                            <p:childTnLst>
                              <p:par>
                                <p:cTn id="8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0"/>
                            </p:stCondLst>
                            <p:childTnLst>
                              <p:par>
                                <p:cTn id="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500"/>
                            </p:stCondLst>
                            <p:childTnLst>
                              <p:par>
                                <p:cTn id="9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6000"/>
                            </p:stCondLst>
                            <p:childTnLst>
                              <p:par>
                                <p:cTn id="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6500"/>
                            </p:stCondLst>
                            <p:childTnLst>
                              <p:par>
                                <p:cTn id="10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7000"/>
                            </p:stCondLst>
                            <p:childTnLst>
                              <p:par>
                                <p:cTn id="1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7500"/>
                            </p:stCondLst>
                            <p:childTnLst>
                              <p:par>
                                <p:cTn id="10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8000"/>
                            </p:stCondLst>
                            <p:childTnLst>
                              <p:par>
                                <p:cTn id="1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8500"/>
                            </p:stCondLst>
                            <p:childTnLst>
                              <p:par>
                                <p:cTn id="11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9000"/>
                            </p:stCondLst>
                            <p:childTnLst>
                              <p:par>
                                <p:cTn id="1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9500"/>
                            </p:stCondLst>
                            <p:childTnLst>
                              <p:par>
                                <p:cTn id="1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627280" y="333360"/>
            <a:ext cx="3959280" cy="7207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30107"/>
                </a:solidFill>
                <a:latin typeface="Tahoma"/>
              </a:rPr>
              <a:t>EL SUJE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68360" y="4797360"/>
            <a:ext cx="503280" cy="360360"/>
          </a:xfrm>
          <a:custGeom>
            <a:avLst/>
            <a:gdLst>
              <a:gd name="textAreaLeft" fmla="*/ 78480 w 503280"/>
              <a:gd name="textAreaRight" fmla="*/ 440640 w 5032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9640" y="2708280"/>
            <a:ext cx="503280" cy="360360"/>
          </a:xfrm>
          <a:custGeom>
            <a:avLst/>
            <a:gdLst>
              <a:gd name="textAreaLeft" fmla="*/ 78480 w 503280"/>
              <a:gd name="textAreaRight" fmla="*/ 440640 w 5032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9640" y="2060640"/>
            <a:ext cx="503280" cy="360360"/>
          </a:xfrm>
          <a:custGeom>
            <a:avLst/>
            <a:gdLst>
              <a:gd name="textAreaLeft" fmla="*/ 78480 w 503280"/>
              <a:gd name="textAreaRight" fmla="*/ 440640 w 5032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9640" y="1341360"/>
            <a:ext cx="503280" cy="360360"/>
          </a:xfrm>
          <a:custGeom>
            <a:avLst/>
            <a:gdLst>
              <a:gd name="textAreaLeft" fmla="*/ 78480 w 503280"/>
              <a:gd name="textAreaRight" fmla="*/ 440640 w 5032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108800" y="1197000"/>
            <a:ext cx="690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ahoma"/>
              </a:rPr>
              <a:t>Desarrolla un control emocional que le permite obtene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ahoma"/>
              </a:rPr>
              <a:t>el reconocimiento y aceptación de sus pad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21760" y="1916280"/>
            <a:ext cx="718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ahoma"/>
              </a:rPr>
              <a:t>Control emocional a través de la incapacidad imaginativa 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ahoma"/>
              </a:rPr>
              <a:t>con el control total de los even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32920" y="2565360"/>
            <a:ext cx="672120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ahoma"/>
              </a:rPr>
              <a:t>Las relaciones interpersonales se caracterizan p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ddd8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es-MX" sz="2000" spc="-1" strike="noStrike">
                <a:solidFill>
                  <a:srgbClr val="003300"/>
                </a:solidFill>
                <a:latin typeface="Tahoma"/>
              </a:rPr>
              <a:t>Ser sujetos solitar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ddd8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es-MX" sz="2000" spc="-1" strike="noStrike">
                <a:solidFill>
                  <a:srgbClr val="003300"/>
                </a:solidFill>
                <a:latin typeface="Tahoma"/>
              </a:rPr>
              <a:t>Una baja presencia afectiva y emoc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ddd8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es-MX" sz="2000" spc="-1" strike="noStrike">
                <a:solidFill>
                  <a:srgbClr val="003300"/>
                </a:solidFill>
                <a:latin typeface="Tahoma"/>
              </a:rPr>
              <a:t>Centrado en los aspectos form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ddd8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es-MX" sz="2000" spc="-1" strike="noStrike">
                <a:solidFill>
                  <a:srgbClr val="003300"/>
                </a:solidFill>
                <a:latin typeface="Tahoma"/>
              </a:rPr>
              <a:t>Primacía del dominio intelectual, de las explica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ddd8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es-MX" sz="2000" spc="-1" strike="noStrike">
                <a:solidFill>
                  <a:srgbClr val="003300"/>
                </a:solidFill>
                <a:latin typeface="Tahoma"/>
              </a:rPr>
              <a:t>Tendencia a las relaciones prácticas y funcion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98280" y="4724280"/>
            <a:ext cx="792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ahoma"/>
              </a:rPr>
              <a:t>Grandes capacidades intelectuales, hábiles para el razona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ahoma"/>
              </a:rPr>
              <a:t>y el pensamiento lógic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8360" y="5661000"/>
            <a:ext cx="503280" cy="360360"/>
          </a:xfrm>
          <a:custGeom>
            <a:avLst/>
            <a:gdLst>
              <a:gd name="textAreaLeft" fmla="*/ 78480 w 503280"/>
              <a:gd name="textAreaRight" fmla="*/ 440640 w 5032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86640" y="5589720"/>
            <a:ext cx="496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ahoma"/>
              </a:rPr>
              <a:t>Temor: DUDA</a:t>
            </a:r>
            <a:r>
              <a:rPr b="0" lang="es-ES_tradnl" sz="20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3300"/>
                </a:solidFill>
                <a:latin typeface="Tahoma"/>
              </a:rPr>
              <a:t>INCERTIDUMB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76720" y="5734080"/>
            <a:ext cx="576000" cy="144360"/>
          </a:xfrm>
          <a:prstGeom prst="rightArrow">
            <a:avLst>
              <a:gd name="adj1" fmla="val 50000"/>
              <a:gd name="adj2" fmla="val 99751"/>
            </a:avLst>
          </a:prstGeom>
          <a:solidFill>
            <a:srgbClr val="ff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UCTIVISMO COGNITIVO UNIVERSIDAD DE CHIL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500"/>
                            </p:stCondLst>
                            <p:childTnLst>
                              <p:par>
                                <p:cTn id="17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71600" y="30492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s-MX" sz="1800" spc="-1" strike="noStrike">
                <a:solidFill>
                  <a:srgbClr val="ccff99"/>
                </a:solidFill>
                <a:latin typeface="Tahoma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187280" y="2852640"/>
            <a:ext cx="19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72360" y="2625840"/>
            <a:ext cx="43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492360" y="83664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00"/>
                </a:solidFill>
                <a:latin typeface="Tahoma"/>
              </a:rPr>
              <a:t>OSCIL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4000" y="620640"/>
            <a:ext cx="2305080" cy="3357720"/>
          </a:xfrm>
          <a:custGeom>
            <a:avLst/>
            <a:gdLst>
              <a:gd name="textAreaLeft" fmla="*/ 308520 w 2305080"/>
              <a:gd name="textAreaRight" fmla="*/ 1996560 w 2305080"/>
              <a:gd name="textAreaTop" fmla="*/ 611640 h 3357720"/>
              <a:gd name="textAreaBottom" fmla="*/ 2627280 h 3357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69" stAng="-5400000" swAng="-5400000"/>
                <a:lnTo>
                  <a:pt x="0" y="12965"/>
                </a:lnTo>
                <a:arcTo wR="21600" hR="7869" stAng="10800000" swAng="-2751487"/>
                <a:lnTo>
                  <a:pt x="14400" y="21150"/>
                </a:lnTo>
                <a:lnTo>
                  <a:pt x="21600" y="18286"/>
                </a:lnTo>
                <a:lnTo>
                  <a:pt x="14400" y="14522"/>
                </a:lnTo>
                <a:lnTo>
                  <a:pt x="14400" y="15288"/>
                </a:lnTo>
                <a:arcTo wR="21600" hR="7869" stAng="8048513" swAng="2325069"/>
                <a:lnTo>
                  <a:pt x="1164" y="10417"/>
                </a:lnTo>
                <a:arcTo wR="21600" hR="7869" stAng="-10373582" swAng="4973582"/>
                <a:close/>
              </a:path>
              <a:path fill="darkenLess" w="21600" h="21600">
                <a:moveTo>
                  <a:pt x="21600" y="0"/>
                </a:moveTo>
                <a:arcTo wR="21600" hR="7869" stAng="-5400000" swAng="-5400000"/>
                <a:lnTo>
                  <a:pt x="0" y="7869"/>
                </a:lnTo>
                <a:arcTo wR="21600" hR="7869" stAng="10800000" swAng="-426418"/>
                <a:lnTo>
                  <a:pt x="1164" y="10417"/>
                </a:lnTo>
                <a:arcTo wR="21600" hR="7869" stAng="-10373582" swAng="4973582"/>
                <a:close/>
              </a:path>
            </a:pathLst>
          </a:custGeom>
          <a:solidFill>
            <a:srgbClr val="ff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77080" y="907920"/>
            <a:ext cx="1908000" cy="3284640"/>
          </a:xfrm>
          <a:custGeom>
            <a:avLst/>
            <a:gdLst>
              <a:gd name="textAreaLeft" fmla="*/ 255600 w 1908000"/>
              <a:gd name="textAreaRight" fmla="*/ 1652400 w 1908000"/>
              <a:gd name="textAreaTop" fmla="*/ 574560 h 3284640"/>
              <a:gd name="textAreaBottom" fmla="*/ 2381400 h 328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26920" y="1989000"/>
            <a:ext cx="2592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00"/>
                </a:solidFill>
                <a:latin typeface="Tahoma"/>
              </a:rPr>
              <a:t>SER BUENO / JUS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00"/>
                </a:solidFill>
                <a:latin typeface="Tahoma"/>
              </a:rPr>
              <a:t>“</a:t>
            </a:r>
            <a:r>
              <a:rPr b="0" lang="es-MX" sz="2000" spc="-1" strike="noStrike">
                <a:solidFill>
                  <a:srgbClr val="003300"/>
                </a:solidFill>
                <a:latin typeface="Tahoma"/>
              </a:rPr>
              <a:t>RAZÓN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35640" y="2060640"/>
            <a:ext cx="273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00"/>
                </a:solidFill>
                <a:latin typeface="Tahoma"/>
              </a:rPr>
              <a:t>SER MALO / INJUSTO “EMOCIÓN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4428720" y="1844280"/>
            <a:ext cx="360360" cy="4249800"/>
          </a:xfrm>
          <a:custGeom>
            <a:avLst/>
            <a:gdLst>
              <a:gd name="textAreaLeft" fmla="*/ 0 w 360360"/>
              <a:gd name="textAreaRight" fmla="*/ 129960 w 360360"/>
              <a:gd name="textAreaTop" fmla="*/ 110520 h 4249800"/>
              <a:gd name="textAreaBottom" fmla="*/ 4139280 h 424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3708360" y="2205000"/>
            <a:ext cx="1584360" cy="1008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095920" y="4292640"/>
            <a:ext cx="524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ahoma"/>
              </a:rPr>
              <a:t>BUSQUEDA DE UN SENTIDO DE UNIC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96280" y="5661000"/>
            <a:ext cx="60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00"/>
                </a:solidFill>
                <a:latin typeface="Tahoma"/>
              </a:rPr>
              <a:t>SORPRESA </a:t>
            </a:r>
            <a:r>
              <a:rPr b="1" lang="es-ES_tradnl" sz="28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003300"/>
                </a:solidFill>
                <a:latin typeface="Tahoma"/>
              </a:rPr>
              <a:t> VERGÜENZ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43280" y="4941720"/>
            <a:ext cx="3744720" cy="50508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30107"/>
                </a:solidFill>
                <a:latin typeface="Tahoma"/>
              </a:rPr>
              <a:t>EMOCIONES FRECUE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5661000"/>
            <a:ext cx="792000" cy="432000"/>
          </a:xfrm>
          <a:prstGeom prst="leftRightArrow">
            <a:avLst>
              <a:gd name="adj1" fmla="val 38972"/>
              <a:gd name="adj2" fmla="val 40783"/>
            </a:avLst>
          </a:prstGeom>
          <a:solidFill>
            <a:srgbClr val="ff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UCTIVISMO COGNITIVO UNIVERSIDAD DE CHIL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30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500"/>
                            </p:stCondLst>
                            <p:childTnLst>
                              <p:par>
                                <p:cTn id="20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5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6000"/>
                            </p:stCondLst>
                            <p:childTnLst>
                              <p:par>
                                <p:cTn id="21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8000"/>
                            </p:stCondLst>
                            <p:childTnLst>
                              <p:par>
                                <p:cTn id="2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9000"/>
                            </p:stCondLst>
                            <p:childTnLst>
                              <p:par>
                                <p:cTn id="2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124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0,-3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124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0,-3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900"/>
                            </p:stCondLst>
                            <p:childTnLst>
                              <p:par>
                                <p:cTn id="2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6T21:54:25Z</dcterms:created>
  <dc:creator>JUAN  ORLANDO </dc:creator>
  <dc:description/>
  <dc:language>en-US</dc:language>
  <cp:lastModifiedBy>jorge</cp:lastModifiedBy>
  <dcterms:modified xsi:type="dcterms:W3CDTF">2004-04-03T09:56:51Z</dcterms:modified>
  <cp:revision>64</cp:revision>
  <dc:subject/>
  <dc:title>Presentación de PowerPoint</dc:title>
</cp:coreProperties>
</file>