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2DBD-F69F-4559-AD6E-1F65F1EC5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4689-6373-4081-B8BB-EB30B460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981F-96EF-4AFB-BF1E-04EABC13C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B941-FD93-40BC-BF6F-A99FE6362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ABD5-0849-4951-BD3E-685CEDC78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C35F-19F7-4D99-9C9C-D3E52A4C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AFCD-E85A-4FEA-9F2A-FD56D555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69E8-3447-4302-BD4C-5183D0C2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B905-BEDB-4F02-87EE-5306E242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E2BB-F39D-4807-AE6A-907731D5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2D6B-252B-4E6C-9690-BE357B5D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1F0B-409E-457A-9CEA-BA1B220F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BD1D-CC12-4666-BBCC-24B32D28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ADE2-A3E4-4FCB-A8AE-51D97A14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8300-51EC-457A-9342-CBD75733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3BF9-C00D-4DA6-99C0-DF58816E1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79E8-F2C8-4000-96F7-EC000AC22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8C5C-78EE-483B-B2F3-D1338FEA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95B5-F7A6-4A5C-9AC5-9DC26256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3675-5DCD-400C-B52D-EE70B739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6492-9D0F-4E0D-9E40-6A8AB8E0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4118-BEB9-4252-9C45-39F2A3A5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0AAD-0592-40D0-BE88-47463A38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C69F-66BE-485E-99F7-3FEBD69A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572d"/>
                </a:gs>
                <a:gs pos="100000">
                  <a:srgbClr val="00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d572d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A3DB-1BB3-45E4-AA7A-B800E6E5D442}" type="slidenum">
              <a:rPr b="0" lang="es-C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572d"/>
                </a:gs>
                <a:gs pos="100000">
                  <a:srgbClr val="00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d572d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ED3A-1CEA-481A-8985-66509429B797}" type="slidenum">
              <a:rPr b="0" lang="es-C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603160" y="404640"/>
            <a:ext cx="38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ahoma"/>
              </a:rPr>
              <a:t>O.S.P. OBSESIV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3640" y="1125360"/>
            <a:ext cx="3168720" cy="1151280"/>
          </a:xfrm>
          <a:prstGeom prst="downArrow">
            <a:avLst>
              <a:gd name="adj1" fmla="val 56111"/>
              <a:gd name="adj2" fmla="val 69380"/>
            </a:avLst>
          </a:pr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ahoma"/>
              </a:rPr>
              <a:t>ASPEC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ahoma"/>
              </a:rPr>
              <a:t>GENE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2421000"/>
            <a:ext cx="828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Tahoma"/>
              </a:rPr>
              <a:t>“</a:t>
            </a:r>
            <a:r>
              <a:rPr b="1" lang="es-MX" sz="2400" spc="-1" strike="noStrike">
                <a:solidFill>
                  <a:srgbClr val="003300"/>
                </a:solidFill>
                <a:latin typeface="Tahoma"/>
              </a:rPr>
              <a:t>NO ES LA DUDA, SINO LA CERTIDUMBRE LA QUE CONDUCE A LA LOCURA” (MUSI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00"/>
                </a:solidFill>
                <a:latin typeface="Tahoma"/>
              </a:rPr>
              <a:t>Sujetos que buscan constantemente tener las</a:t>
            </a:r>
            <a:r>
              <a:rPr b="1" lang="es-MX" sz="2400" spc="-1" strike="noStrike">
                <a:solidFill>
                  <a:srgbClr val="003300"/>
                </a:solidFill>
                <a:latin typeface="Tahoma"/>
              </a:rPr>
              <a:t> “</a:t>
            </a:r>
            <a:r>
              <a:rPr b="1" lang="es-MX" sz="2800" spc="-1" strike="noStrike">
                <a:solidFill>
                  <a:srgbClr val="003300"/>
                </a:solidFill>
                <a:latin typeface="Tahoma"/>
              </a:rPr>
              <a:t>certezas de las cosa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3800" y="4076640"/>
            <a:ext cx="86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ahoma"/>
              </a:rPr>
              <a:t>Frecuente es la reflexión en torno a lo JUSTO / LO INJUSTO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ahoma"/>
              </a:rPr>
              <a:t>LO BUENO / LO MALO, LO MO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4869000"/>
            <a:ext cx="2879640" cy="792000"/>
          </a:xfrm>
          <a:prstGeom prst="downArrow">
            <a:avLst>
              <a:gd name="adj1" fmla="val 58213"/>
              <a:gd name="adj2" fmla="val 58495"/>
            </a:avLst>
          </a:pr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00"/>
                </a:solidFill>
                <a:latin typeface="Tahoma"/>
              </a:rPr>
              <a:t>SENS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00"/>
                </a:solidFill>
                <a:latin typeface="Tahoma"/>
              </a:rPr>
              <a:t>INTER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566100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ahoma"/>
              </a:rPr>
              <a:t>AMBIVALE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4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90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400"/>
                            </p:stCondLst>
                            <p:childTnLst>
                              <p:par>
                                <p:cTn id="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275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124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0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124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0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403280" y="5790960"/>
            <a:ext cx="77407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No toleran la rabia, la sensualidad y las emociones e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gene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1403280" y="404640"/>
            <a:ext cx="6408720" cy="1008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30107"/>
                </a:solidFill>
                <a:latin typeface="Tahoma"/>
              </a:rPr>
              <a:t>CARACTERÍSTICAS FAMILIA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1557360"/>
            <a:ext cx="503280" cy="360360"/>
          </a:xfrm>
          <a:custGeom>
            <a:avLst/>
            <a:gdLst>
              <a:gd name="textAreaLeft" fmla="*/ 78480 w 503280"/>
              <a:gd name="textAreaRight" fmla="*/ 440640 w 503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66480" y="1557360"/>
            <a:ext cx="705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Padres dedicados a la formación y templanza del carác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de los hij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2205000"/>
            <a:ext cx="503280" cy="360360"/>
          </a:xfrm>
          <a:custGeom>
            <a:avLst/>
            <a:gdLst>
              <a:gd name="textAreaLeft" fmla="*/ 78480 w 503280"/>
              <a:gd name="textAreaRight" fmla="*/ 440640 w 503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45680" y="2276640"/>
            <a:ext cx="372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00"/>
                </a:solidFill>
                <a:latin typeface="Tahoma"/>
              </a:rPr>
              <a:t>Poseen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000" spc="-1" strike="noStrike">
                <a:solidFill>
                  <a:srgbClr val="003300"/>
                </a:solidFill>
                <a:latin typeface="Tahoma"/>
              </a:rPr>
              <a:t>una ideología famili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2852640"/>
            <a:ext cx="503280" cy="360360"/>
          </a:xfrm>
          <a:custGeom>
            <a:avLst/>
            <a:gdLst>
              <a:gd name="textAreaLeft" fmla="*/ 78480 w 503280"/>
              <a:gd name="textAreaRight" fmla="*/ 440640 w 503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41280" y="2708280"/>
            <a:ext cx="703116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Organizados y preocupados por los aspectos formales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la crianza y aspectos exter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85920" y="3429000"/>
            <a:ext cx="599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Primacía de lo intelectual por sobre lo emo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47120" y="3860640"/>
            <a:ext cx="42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Dedicados enteramente a los hij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09320" y="4292640"/>
            <a:ext cx="472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Padres contradictorios, inconsist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30560" y="4653000"/>
            <a:ext cx="48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Explican y piden explicaciones por to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50280" y="5084640"/>
            <a:ext cx="726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Padres no violentos físicamente (pero torturadores frente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los errores, lo negativo y el descontrol emociona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3429000"/>
            <a:ext cx="503280" cy="360360"/>
          </a:xfrm>
          <a:custGeom>
            <a:avLst/>
            <a:gdLst>
              <a:gd name="textAreaLeft" fmla="*/ 78480 w 503280"/>
              <a:gd name="textAreaRight" fmla="*/ 440640 w 503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9640" y="3933720"/>
            <a:ext cx="503280" cy="360360"/>
          </a:xfrm>
          <a:custGeom>
            <a:avLst/>
            <a:gdLst>
              <a:gd name="textAreaLeft" fmla="*/ 78480 w 503280"/>
              <a:gd name="textAreaRight" fmla="*/ 440640 w 503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4365720"/>
            <a:ext cx="503280" cy="360360"/>
          </a:xfrm>
          <a:custGeom>
            <a:avLst/>
            <a:gdLst>
              <a:gd name="textAreaLeft" fmla="*/ 78480 w 503280"/>
              <a:gd name="textAreaRight" fmla="*/ 440640 w 503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9640" y="4797360"/>
            <a:ext cx="503280" cy="360360"/>
          </a:xfrm>
          <a:custGeom>
            <a:avLst/>
            <a:gdLst>
              <a:gd name="textAreaLeft" fmla="*/ 78480 w 503280"/>
              <a:gd name="textAreaRight" fmla="*/ 440640 w 503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9640" y="5373720"/>
            <a:ext cx="503280" cy="360360"/>
          </a:xfrm>
          <a:custGeom>
            <a:avLst/>
            <a:gdLst>
              <a:gd name="textAreaLeft" fmla="*/ 78480 w 503280"/>
              <a:gd name="textAreaRight" fmla="*/ 440640 w 503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5950080"/>
            <a:ext cx="503280" cy="360360"/>
          </a:xfrm>
          <a:custGeom>
            <a:avLst/>
            <a:gdLst>
              <a:gd name="textAreaLeft" fmla="*/ 78480 w 503280"/>
              <a:gd name="textAreaRight" fmla="*/ 440640 w 503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500"/>
                            </p:stCondLst>
                            <p:childTnLst>
                              <p:par>
                                <p:cTn id="8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500"/>
                            </p:stCondLst>
                            <p:childTnLst>
                              <p:par>
                                <p:cTn id="9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000"/>
                            </p:stCondLst>
                            <p:childTnLst>
                              <p:par>
                                <p:cTn id="1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7500"/>
                            </p:stCondLst>
                            <p:childTnLst>
                              <p:par>
                                <p:cTn id="10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500"/>
                            </p:stCondLst>
                            <p:childTnLst>
                              <p:par>
                                <p:cTn id="11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9000"/>
                            </p:stCondLst>
                            <p:childTnLst>
                              <p:par>
                                <p:cTn id="1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9500"/>
                            </p:stCondLst>
                            <p:childTnLst>
                              <p:par>
                                <p:cTn id="1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627280" y="333360"/>
            <a:ext cx="3959280" cy="7207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30107"/>
                </a:solidFill>
                <a:latin typeface="Tahoma"/>
              </a:rPr>
              <a:t>EL SUJ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4797360"/>
            <a:ext cx="503280" cy="360360"/>
          </a:xfrm>
          <a:custGeom>
            <a:avLst/>
            <a:gdLst>
              <a:gd name="textAreaLeft" fmla="*/ 78480 w 503280"/>
              <a:gd name="textAreaRight" fmla="*/ 440640 w 503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2708280"/>
            <a:ext cx="503280" cy="360360"/>
          </a:xfrm>
          <a:custGeom>
            <a:avLst/>
            <a:gdLst>
              <a:gd name="textAreaLeft" fmla="*/ 78480 w 503280"/>
              <a:gd name="textAreaRight" fmla="*/ 440640 w 503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2060640"/>
            <a:ext cx="503280" cy="360360"/>
          </a:xfrm>
          <a:custGeom>
            <a:avLst/>
            <a:gdLst>
              <a:gd name="textAreaLeft" fmla="*/ 78480 w 503280"/>
              <a:gd name="textAreaRight" fmla="*/ 440640 w 503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1341360"/>
            <a:ext cx="503280" cy="360360"/>
          </a:xfrm>
          <a:custGeom>
            <a:avLst/>
            <a:gdLst>
              <a:gd name="textAreaLeft" fmla="*/ 78480 w 503280"/>
              <a:gd name="textAreaRight" fmla="*/ 440640 w 503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08800" y="1197000"/>
            <a:ext cx="690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ahoma"/>
              </a:rPr>
              <a:t>Desarrolla un control emocional que le permite obten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ahoma"/>
              </a:rPr>
              <a:t>el reconocimiento y aceptación de sus pad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21760" y="1916280"/>
            <a:ext cx="718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ahoma"/>
              </a:rPr>
              <a:t>Control emocional a través de la incapacidad imaginativa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ahoma"/>
              </a:rPr>
              <a:t>con el control total de los even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32920" y="2565360"/>
            <a:ext cx="672120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ahoma"/>
              </a:rPr>
              <a:t>Las relaciones interpersonales se caracterizan p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ddd8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Ser sujetos solitar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ddd8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Una baja presencia afectiva y emo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ddd8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Centrado en los aspectos form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ddd8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Primacía del dominio intelectual, de las explic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ddd8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Tendencia a las relaciones prácticas y funcion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8280" y="4724280"/>
            <a:ext cx="792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ahoma"/>
              </a:rPr>
              <a:t>Grandes capacidades intelectuales, hábiles para el razon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ahoma"/>
              </a:rPr>
              <a:t>y el pensamiento lógic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5661000"/>
            <a:ext cx="503280" cy="360360"/>
          </a:xfrm>
          <a:custGeom>
            <a:avLst/>
            <a:gdLst>
              <a:gd name="textAreaLeft" fmla="*/ 78480 w 503280"/>
              <a:gd name="textAreaRight" fmla="*/ 440640 w 503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86640" y="5589720"/>
            <a:ext cx="496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ahoma"/>
              </a:rPr>
              <a:t>Temor: DUDA</a:t>
            </a:r>
            <a:r>
              <a:rPr b="0" lang="es-ES_tradnl" sz="20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3300"/>
                </a:solidFill>
                <a:latin typeface="Tahoma"/>
              </a:rPr>
              <a:t>INCERTIDUMB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5734080"/>
            <a:ext cx="576000" cy="144360"/>
          </a:xfrm>
          <a:prstGeom prst="rightArrow">
            <a:avLst>
              <a:gd name="adj1" fmla="val 50000"/>
              <a:gd name="adj2" fmla="val 99751"/>
            </a:avLst>
          </a:pr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71600" y="3049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ccff99"/>
                </a:solidFill>
                <a:latin typeface="Tahoma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2852640"/>
            <a:ext cx="19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72360" y="2625840"/>
            <a:ext cx="43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92360" y="83664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00"/>
                </a:solidFill>
                <a:latin typeface="Tahoma"/>
              </a:rPr>
              <a:t>OSCIL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620640"/>
            <a:ext cx="2305080" cy="3357720"/>
          </a:xfrm>
          <a:custGeom>
            <a:avLst/>
            <a:gdLst>
              <a:gd name="textAreaLeft" fmla="*/ 308520 w 2305080"/>
              <a:gd name="textAreaRight" fmla="*/ 1996560 w 2305080"/>
              <a:gd name="textAreaTop" fmla="*/ 611640 h 3357720"/>
              <a:gd name="textAreaBottom" fmla="*/ 2627280 h 335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69" stAng="-5400000" swAng="-5400000"/>
                <a:lnTo>
                  <a:pt x="0" y="12965"/>
                </a:lnTo>
                <a:arcTo wR="21600" hR="7869" stAng="10800000" swAng="-2751487"/>
                <a:lnTo>
                  <a:pt x="14400" y="21150"/>
                </a:lnTo>
                <a:lnTo>
                  <a:pt x="21600" y="18286"/>
                </a:lnTo>
                <a:lnTo>
                  <a:pt x="14400" y="14522"/>
                </a:lnTo>
                <a:lnTo>
                  <a:pt x="14400" y="15288"/>
                </a:lnTo>
                <a:arcTo wR="21600" hR="7869" stAng="8048513" swAng="2325069"/>
                <a:lnTo>
                  <a:pt x="1164" y="10417"/>
                </a:lnTo>
                <a:arcTo wR="21600" hR="7869" stAng="-10373582" swAng="4973582"/>
                <a:close/>
              </a:path>
              <a:path fill="darkenLess" w="21600" h="21600">
                <a:moveTo>
                  <a:pt x="21600" y="0"/>
                </a:moveTo>
                <a:arcTo wR="21600" hR="7869" stAng="-5400000" swAng="-5400000"/>
                <a:lnTo>
                  <a:pt x="0" y="7869"/>
                </a:lnTo>
                <a:arcTo wR="21600" hR="7869" stAng="10800000" swAng="-426418"/>
                <a:lnTo>
                  <a:pt x="1164" y="10417"/>
                </a:lnTo>
                <a:arcTo wR="21600" hR="7869" stAng="-10373582" swAng="4973582"/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77080" y="907920"/>
            <a:ext cx="1908000" cy="3284640"/>
          </a:xfrm>
          <a:custGeom>
            <a:avLst/>
            <a:gdLst>
              <a:gd name="textAreaLeft" fmla="*/ 255600 w 1908000"/>
              <a:gd name="textAreaRight" fmla="*/ 1652400 w 1908000"/>
              <a:gd name="textAreaTop" fmla="*/ 574560 h 3284640"/>
              <a:gd name="textAreaBottom" fmla="*/ 2381400 h 328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6920" y="1989000"/>
            <a:ext cx="2592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SER BUENO / JUS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“</a:t>
            </a: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RAZÓN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35640" y="206064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SER MALO / INJUSTO “EMOCIÓN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4428720" y="1844280"/>
            <a:ext cx="360360" cy="4249800"/>
          </a:xfrm>
          <a:custGeom>
            <a:avLst/>
            <a:gdLst>
              <a:gd name="textAreaLeft" fmla="*/ 0 w 360360"/>
              <a:gd name="textAreaRight" fmla="*/ 129960 w 360360"/>
              <a:gd name="textAreaTop" fmla="*/ 110520 h 4249800"/>
              <a:gd name="textAreaBottom" fmla="*/ 4139280 h 424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708360" y="2205000"/>
            <a:ext cx="1584360" cy="100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095920" y="4292640"/>
            <a:ext cx="524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ahoma"/>
              </a:rPr>
              <a:t>BUSQUEDA DE UN SENTIDO DE UNIC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96280" y="5661000"/>
            <a:ext cx="60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ahoma"/>
              </a:rPr>
              <a:t>SORPRESA </a:t>
            </a:r>
            <a:r>
              <a:rPr b="1" lang="es-ES_tradnl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003300"/>
                </a:solidFill>
                <a:latin typeface="Tahoma"/>
              </a:rPr>
              <a:t> VERGÜEN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43280" y="4941720"/>
            <a:ext cx="3744720" cy="50508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30107"/>
                </a:solidFill>
                <a:latin typeface="Tahoma"/>
              </a:rPr>
              <a:t>EMOCIONES FRECU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5661000"/>
            <a:ext cx="792000" cy="432000"/>
          </a:xfrm>
          <a:prstGeom prst="leftRightArrow">
            <a:avLst>
              <a:gd name="adj1" fmla="val 38972"/>
              <a:gd name="adj2" fmla="val 40783"/>
            </a:avLst>
          </a:pr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500"/>
                            </p:stCondLst>
                            <p:childTnLst>
                              <p:par>
                                <p:cTn id="2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9000"/>
                            </p:stCondLst>
                            <p:childTnLst>
                              <p:par>
                                <p:cTn id="2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124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0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124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0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90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6T21:54:25Z</dcterms:created>
  <dc:creator>JUAN  ORLANDO </dc:creator>
  <dc:description/>
  <dc:language>en-US</dc:language>
  <cp:lastModifiedBy>jorge</cp:lastModifiedBy>
  <dcterms:modified xsi:type="dcterms:W3CDTF">2004-04-03T09:56:51Z</dcterms:modified>
  <cp:revision>64</cp:revision>
  <dc:subject/>
  <dc:title>Presentación de PowerPoint</dc:title>
</cp:coreProperties>
</file>