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857-3F69-4BDB-8EF7-05F2CA19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9FA-A2BA-4571-8ED4-9862BF40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E9A-F3BE-44AB-BDE1-121720E7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590-DA2A-421F-91CD-66A746C6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F08E-959F-4C56-BFC1-106A8930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E30B-B82A-4C46-A1CA-43F38E2D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4F10-6C0A-408E-B4F2-3095C408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E800-1B9D-4147-B5FF-5C5D45E1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F4B8-9F07-419E-A023-E9497D98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B608-1D6B-4BD4-B455-5DFD824E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80E0-7BAC-4A13-BB67-6CF2C75B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30B-E92B-464B-9E30-6FDA1C99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9014-88BE-4F0F-9441-852502D4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C128-B352-43CD-B0C6-6BD46481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EE2A-5E6F-4A74-973B-7BC8831D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AC9A-E608-43F0-A650-6E3358F4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5111-4A2A-4093-B890-5EEC4E51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351-AED6-4193-94C5-706F3A97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8CD-90A8-4369-ACAE-12D55901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7F5-EED5-440A-AD72-42BE82F2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52E-E147-45A1-80A3-6478A3F6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CF2-7A87-4A89-BD22-25E8D56E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7EE-51FB-40BC-88A7-49F9A5C9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9C7-9B7A-4BF4-82E6-F8B2A461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606E-AEEF-4D14-B417-A675A9A56433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1761-6402-408F-82FD-B13A5FF13B26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603160" y="404640"/>
            <a:ext cx="38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ahoma"/>
              </a:rPr>
              <a:t>O.S.P. OBSESIV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1125360"/>
            <a:ext cx="3168720" cy="1151280"/>
          </a:xfrm>
          <a:prstGeom prst="downArrow">
            <a:avLst>
              <a:gd name="adj1" fmla="val 56111"/>
              <a:gd name="adj2" fmla="val 69380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ahoma"/>
              </a:rPr>
              <a:t>ASPE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ahoma"/>
              </a:rPr>
              <a:t>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242100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Tahoma"/>
              </a:rPr>
              <a:t>“</a:t>
            </a:r>
            <a:r>
              <a:rPr b="1" lang="es-MX" sz="2400" spc="-1" strike="noStrike">
                <a:solidFill>
                  <a:srgbClr val="003300"/>
                </a:solidFill>
                <a:latin typeface="Tahoma"/>
              </a:rPr>
              <a:t>NO ES LA DUDA, SINO LA CERTIDUMBRE LA QUE CONDUCE A LA LOCURA” (MUSI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00"/>
                </a:solidFill>
                <a:latin typeface="Tahoma"/>
              </a:rPr>
              <a:t>Sujetos que buscan constantemente tener las</a:t>
            </a:r>
            <a:r>
              <a:rPr b="1" lang="es-MX" sz="2400" spc="-1" strike="noStrike">
                <a:solidFill>
                  <a:srgbClr val="003300"/>
                </a:solidFill>
                <a:latin typeface="Tahoma"/>
              </a:rPr>
              <a:t> “</a:t>
            </a:r>
            <a:r>
              <a:rPr b="1" lang="es-MX" sz="2800" spc="-1" strike="noStrike">
                <a:solidFill>
                  <a:srgbClr val="003300"/>
                </a:solidFill>
                <a:latin typeface="Tahoma"/>
              </a:rPr>
              <a:t>certezas de las cosa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3800" y="4076640"/>
            <a:ext cx="86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ahoma"/>
              </a:rPr>
              <a:t>Frecuente es la reflexión en torno a lo JUSTO / LO INJUST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ahoma"/>
              </a:rPr>
              <a:t>LO BUENO / LO MALO, LO M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4869000"/>
            <a:ext cx="2879640" cy="792000"/>
          </a:xfrm>
          <a:prstGeom prst="downArrow">
            <a:avLst>
              <a:gd name="adj1" fmla="val 58213"/>
              <a:gd name="adj2" fmla="val 58495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00"/>
                </a:solidFill>
                <a:latin typeface="Tahoma"/>
              </a:rPr>
              <a:t>SENS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00"/>
                </a:solidFill>
                <a:latin typeface="Tahoma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566100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ahoma"/>
              </a:rPr>
              <a:t>AMBIVAL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9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40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275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403280" y="5790960"/>
            <a:ext cx="7740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No toleran la rabia, la sensualidad y las emociones e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gene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404640"/>
            <a:ext cx="6408720" cy="1008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30107"/>
                </a:solidFill>
                <a:latin typeface="Tahoma"/>
              </a:rPr>
              <a:t>CARACTERÍSTICAS FAMILI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55736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66480" y="1557360"/>
            <a:ext cx="70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Padres dedicados a la formación y templanza del carác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de los hij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220500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45680" y="2276640"/>
            <a:ext cx="37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00"/>
                </a:solidFill>
                <a:latin typeface="Tahoma"/>
              </a:rPr>
              <a:t>Poseen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003300"/>
                </a:solidFill>
                <a:latin typeface="Tahoma"/>
              </a:rPr>
              <a:t>una ideología famili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285264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41280" y="2708280"/>
            <a:ext cx="703116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Organizados y preocupados por los aspectos formal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la crianza y aspectos ex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85920" y="3429000"/>
            <a:ext cx="599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Primacía de lo intelectual por sobre lo emo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47120" y="3860640"/>
            <a:ext cx="42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Dedicados enteramente a los hij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09320" y="4292640"/>
            <a:ext cx="47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Padres contradictorios, inconsis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0560" y="4653000"/>
            <a:ext cx="48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Explican y piden explicaciones por t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0280" y="5084640"/>
            <a:ext cx="726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Padres no violentos físicamente (pero torturadores frente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los errores, lo negativo y el descontrol emocion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42900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393372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436572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479736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537372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595008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627280" y="333360"/>
            <a:ext cx="3959280" cy="720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30107"/>
                </a:solidFill>
                <a:latin typeface="Tahoma"/>
              </a:rPr>
              <a:t>EL SU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479736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70828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206064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34136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08800" y="1197000"/>
            <a:ext cx="690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Desarrolla un control emocional que le permite obten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el reconocimiento y aceptación de sus pad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1760" y="1916280"/>
            <a:ext cx="718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Control emocional a través de la incapacidad imaginativ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con el control total de los ev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32920" y="2565360"/>
            <a:ext cx="67212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Las relaciones interpersonales se caracterizan p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Ser sujetos solita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Una baja presencia afectiva y emo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Centrado en los aspectos for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Primacía del dominio intelectual, de las explic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dd8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Tendencia a las relaciones prácticas y fun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8280" y="4724280"/>
            <a:ext cx="79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Grandes capacidades intelectuales, hábiles para el razo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y el pensamiento lóg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5661000"/>
            <a:ext cx="503280" cy="360360"/>
          </a:xfrm>
          <a:custGeom>
            <a:avLst/>
            <a:gdLst>
              <a:gd name="textAreaLeft" fmla="*/ 78480 w 503280"/>
              <a:gd name="textAreaRight" fmla="*/ 440640 w 50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86640" y="5589720"/>
            <a:ext cx="49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Temor: DUDA</a:t>
            </a: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INCERTIDUM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5734080"/>
            <a:ext cx="576000" cy="144360"/>
          </a:xfrm>
          <a:prstGeom prst="rightArrow">
            <a:avLst>
              <a:gd name="adj1" fmla="val 50000"/>
              <a:gd name="adj2" fmla="val 99751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71600" y="3049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ccff99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85264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2625840"/>
            <a:ext cx="43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92360" y="836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Tahoma"/>
              </a:rPr>
              <a:t>OSCI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620640"/>
            <a:ext cx="2305080" cy="3357720"/>
          </a:xfrm>
          <a:custGeom>
            <a:avLst/>
            <a:gdLst>
              <a:gd name="textAreaLeft" fmla="*/ 308520 w 2305080"/>
              <a:gd name="textAreaRight" fmla="*/ 1996560 w 2305080"/>
              <a:gd name="textAreaTop" fmla="*/ 611640 h 3357720"/>
              <a:gd name="textAreaBottom" fmla="*/ 262728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69" stAng="-5400000" swAng="-5400000"/>
                <a:lnTo>
                  <a:pt x="0" y="12965"/>
                </a:lnTo>
                <a:arcTo wR="21600" hR="7869" stAng="10800000" swAng="-2751487"/>
                <a:lnTo>
                  <a:pt x="14400" y="21150"/>
                </a:lnTo>
                <a:lnTo>
                  <a:pt x="21600" y="18286"/>
                </a:lnTo>
                <a:lnTo>
                  <a:pt x="14400" y="14522"/>
                </a:lnTo>
                <a:lnTo>
                  <a:pt x="14400" y="15288"/>
                </a:lnTo>
                <a:arcTo wR="21600" hR="7869" stAng="8048513" swAng="2325069"/>
                <a:lnTo>
                  <a:pt x="1164" y="10417"/>
                </a:lnTo>
                <a:arcTo wR="21600" hR="7869" stAng="-10373582" swAng="4973582"/>
                <a:close/>
              </a:path>
              <a:path fill="darkenLess" w="21600" h="21600">
                <a:moveTo>
                  <a:pt x="21600" y="0"/>
                </a:moveTo>
                <a:arcTo wR="21600" hR="7869" stAng="-5400000" swAng="-5400000"/>
                <a:lnTo>
                  <a:pt x="0" y="7869"/>
                </a:lnTo>
                <a:arcTo wR="21600" hR="7869" stAng="10800000" swAng="-426418"/>
                <a:lnTo>
                  <a:pt x="1164" y="10417"/>
                </a:lnTo>
                <a:arcTo wR="21600" hR="7869" stAng="-10373582" swAng="4973582"/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77080" y="907920"/>
            <a:ext cx="1908000" cy="3284640"/>
          </a:xfrm>
          <a:custGeom>
            <a:avLst/>
            <a:gdLst>
              <a:gd name="textAreaLeft" fmla="*/ 255600 w 1908000"/>
              <a:gd name="textAreaRight" fmla="*/ 1652400 w 1908000"/>
              <a:gd name="textAreaTop" fmla="*/ 574560 h 3284640"/>
              <a:gd name="textAreaBottom" fmla="*/ 2381400 h 328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1989000"/>
            <a:ext cx="259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SER BUENO / JU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RAZÓN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35640" y="206064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Tahoma"/>
              </a:rPr>
              <a:t>SER MALO / INJUSTO “EMOCIÓN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428720" y="1844280"/>
            <a:ext cx="360360" cy="4249800"/>
          </a:xfrm>
          <a:custGeom>
            <a:avLst/>
            <a:gdLst>
              <a:gd name="textAreaLeft" fmla="*/ 0 w 360360"/>
              <a:gd name="textAreaRight" fmla="*/ 129960 w 360360"/>
              <a:gd name="textAreaTop" fmla="*/ 110520 h 4249800"/>
              <a:gd name="textAreaBottom" fmla="*/ 413928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08360" y="2205000"/>
            <a:ext cx="1584360" cy="100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95920" y="4292640"/>
            <a:ext cx="52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ahoma"/>
              </a:rPr>
              <a:t>BUSQUEDA DE UN SENTIDO DE UNIC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96280" y="5661000"/>
            <a:ext cx="60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ahoma"/>
              </a:rPr>
              <a:t>SORPRESA </a:t>
            </a:r>
            <a:r>
              <a:rPr b="1" lang="es-ES_tradnl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00"/>
                </a:solidFill>
                <a:latin typeface="Tahoma"/>
              </a:rPr>
              <a:t> VERGÜEN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4941720"/>
            <a:ext cx="3744720" cy="5050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30107"/>
                </a:solidFill>
                <a:latin typeface="Tahoma"/>
              </a:rPr>
              <a:t>EMOCIONES FRECU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661000"/>
            <a:ext cx="792000" cy="432000"/>
          </a:xfrm>
          <a:prstGeom prst="leftRightArrow">
            <a:avLst>
              <a:gd name="adj1" fmla="val 38972"/>
              <a:gd name="adj2" fmla="val 40783"/>
            </a:avLst>
          </a:prstGeom>
          <a:solidFill>
            <a:srgbClr val="ff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9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6T21:54:25Z</dcterms:created>
  <dc:creator>JUAN  ORLANDO </dc:creator>
  <dc:description/>
  <dc:language>en-US</dc:language>
  <cp:lastModifiedBy>jorge</cp:lastModifiedBy>
  <dcterms:modified xsi:type="dcterms:W3CDTF">2004-04-03T09:56:51Z</dcterms:modified>
  <cp:revision>64</cp:revision>
  <dc:subject/>
  <dc:title>Presentación de PowerPoint</dc:title>
</cp:coreProperties>
</file>