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E8D-74AB-4BE8-A066-5F80DA97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6424-259C-44A7-B045-D5E87566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2B1-A33B-468E-B132-87F7E79C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FB1-BF03-4684-AAC7-22B7E45C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F6F53-A798-440C-AC55-53BB56F5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AC428-47E8-4AF8-8516-5B2679AA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9D84E-9399-4309-965C-42FA5428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68C69-D8EE-4661-8E13-E0A39888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173BC-D490-4FA0-A5AA-AE88397C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90F85-C988-4C59-ACAC-D968AF92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B19C9-43C3-4411-B0B5-2895E64B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E8A-BEE7-4C2A-9F15-9036CB40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8DF7B-B63B-4BAA-8C48-C1BAC152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4AEEF-087F-4209-B6A5-9EC7BBA1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4BE72-D43C-4D6A-BAB9-DEFD7CFE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5AE4E-9D51-4704-8339-FF70358C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A1493-9179-43FA-90D4-3CC0DD8E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E81-978D-4FD8-A29D-472154D2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1F1-2618-434F-9D24-27B3ECB7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0BE-BF37-4692-B9DC-60FE92A7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12ED-A045-4885-88CE-A9AD5A44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4C06-15AE-4C3F-986F-28442E0E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46E-ED49-4B16-9C2E-AA646951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2B5-45DB-4599-8FA2-44DBC553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6BAA-8A13-42AB-932C-C8C13A1894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1723-E44F-421B-A3BA-D303E5C378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27280" y="47628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O.S.P.  FÓB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162864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551664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RAGILIDAD  FÍS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5229360"/>
            <a:ext cx="33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77080" y="5632560"/>
            <a:ext cx="1944720" cy="122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87640" y="4581360"/>
            <a:ext cx="2362320" cy="936720"/>
          </a:xfrm>
          <a:prstGeom prst="downArrow">
            <a:avLst>
              <a:gd name="adj1" fmla="val 59407"/>
              <a:gd name="adj2" fmla="val 5551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ns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te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1197000"/>
            <a:ext cx="2361960" cy="936720"/>
          </a:xfrm>
          <a:prstGeom prst="downArrow">
            <a:avLst>
              <a:gd name="adj1" fmla="val 59407"/>
              <a:gd name="adj2" fmla="val 5551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pec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ene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61440" y="2276640"/>
            <a:ext cx="71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MIEDO TIENE UNA VISTA AGUDA, Y PUEDE VER COS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ERRÁNEAS, Y MUCHO MÁS EN LOS CIELOS” (Cervante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3284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menaza constante de que algo malo pudiera suceder (accidentes, daño físico, catástro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8840" y="414972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a autoestima pero vulnerables a los acontecimi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98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48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050920" y="549360"/>
            <a:ext cx="5834160" cy="9144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ACTERÍSTICAS  FAMILI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56536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xagerada preocupación por dolencias fís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26840" y="3141720"/>
            <a:ext cx="714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ecesidad constante de protección y control de la conducta del niñ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dres aprehensivos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1989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dres temerosos de: daño físico, catástrofes o accident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27560" y="4076640"/>
            <a:ext cx="65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uestran al niño que la realidad es peligrosa, constituyéndo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llos en salv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26840" y="4941720"/>
            <a:ext cx="51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loquean indirectamente la exploración con am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98900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263700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328464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407664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86900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76720" y="476280"/>
            <a:ext cx="2735280" cy="9144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SU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3645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stantemente buscan protección y apoyo en los ot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7800" y="5157720"/>
            <a:ext cx="29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mor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SPROT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84280" y="4149720"/>
            <a:ext cx="68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elen mostrar polarmente  dominio o sumisión en sus rel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83200" y="314172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encia a las relaciones estables y signific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84640" y="4653000"/>
            <a:ext cx="67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breprotectores o dependientes de sus relaciones signific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242100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364500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414972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72428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522936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314172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177336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76360" y="1700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jetos centrados en la seguridad física, sobreatención  por el contexto físico y el estado del cuer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421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ta autoestima, seductores y eficientes en el manejo de las relaciones interperson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04000" y="587700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948360" y="5632560"/>
            <a:ext cx="1944720" cy="1225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59280" y="333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OSCIL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260280"/>
            <a:ext cx="2519280" cy="3240000"/>
          </a:xfrm>
          <a:custGeom>
            <a:avLst/>
            <a:gdLst>
              <a:gd name="textAreaLeft" fmla="*/ 337320 w 2519280"/>
              <a:gd name="textAreaRight" fmla="*/ 2181960 w 2519280"/>
              <a:gd name="textAreaTop" fmla="*/ 567000 h 3240000"/>
              <a:gd name="textAreaBottom" fmla="*/ 234900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260280"/>
            <a:ext cx="2916360" cy="3456000"/>
          </a:xfrm>
          <a:custGeom>
            <a:avLst/>
            <a:gdLst>
              <a:gd name="textAreaLeft" fmla="*/ 390600 w 2916360"/>
              <a:gd name="textAreaRight" fmla="*/ 2525760 w 2916360"/>
              <a:gd name="textAreaTop" fmla="*/ 604800 h 3456000"/>
              <a:gd name="textAreaBottom" fmla="*/ 25056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112536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PE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IDO SEGUR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1268280"/>
            <a:ext cx="223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EJ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IBERTA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3213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3141720"/>
            <a:ext cx="41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BUSQUEDA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501336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EDO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AB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5013360"/>
            <a:ext cx="574560" cy="288720"/>
          </a:xfrm>
          <a:prstGeom prst="leftRightArrow">
            <a:avLst>
              <a:gd name="adj1" fmla="val 50000"/>
              <a:gd name="adj2" fmla="val 3961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3933720"/>
            <a:ext cx="352872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MOCIONES FRECU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60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rge</cp:lastModifiedBy>
  <dcterms:modified xsi:type="dcterms:W3CDTF">2004-04-03T09:26:34Z</dcterms:modified>
  <cp:revision>14</cp:revision>
  <dc:subject/>
  <dc:title>Diapositiva 1</dc:title>
</cp:coreProperties>
</file>