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B67-A6D5-49CB-AAD2-E2394E2E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38F-8C1F-42D3-8A67-359066EC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AB1-2296-48E0-9546-16C8C7DE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061-2987-44F5-A501-619572E3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E9088-062A-4ECE-A64B-97117388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BF4F8-3854-4B9E-A493-2C29662C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44EB1-2304-44ED-9BBC-F49D8516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40CDF-8975-4703-A1ED-35B0D538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7C2B0-0B78-4529-BE7D-0E6ECB0A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6B3A5-3DB1-45D7-94C0-99261849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CAF42-3BED-424B-97E8-ED79519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4EE-244B-49D9-9334-DEA79E96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3C542-CFCD-408A-85C7-82715DE9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DDD79-EC80-4C54-BCB1-DFF40B9A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EC00F-9E0B-44A4-99B0-BE1C6997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4560B-4CC4-444C-9ABA-F1AF107A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FD1D9-DF44-4062-A134-682355EF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050-D6C3-47C6-A256-C88B40E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EE6-9ED5-4473-B661-14077C5D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845-F159-4E52-8CEB-8240C29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75F-DB5E-4246-A74F-10E00F6B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E68-CED4-470A-8F1B-19B49D3B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7E0-7CD4-4351-B631-94811B29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DD4-51B9-4B70-9A10-1E3B449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04D3-6510-42EF-8232-4C438BCE04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B598-CE0D-4675-A86E-0361B8A60A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27280" y="47628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O.S.P.  FÓB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628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516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RAGILIDAD  FÍS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22936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7708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640" y="4581360"/>
            <a:ext cx="236232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1197000"/>
            <a:ext cx="236196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p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1440" y="227664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MIEDO TIENE UNA VISTA AGUDA, Y PUEDE VER CO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ERRÁNEAS, Y MUCHO MÁS EN LOS CIELOS” (Cervante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328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menaza constante de que algo malo pudiera suceder (accidentes, daño físico, catástro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8840" y="414972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a autoestima pero vulnerables a los acontecimi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98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48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50920" y="549360"/>
            <a:ext cx="583416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ACTERÍSTICAS  FAMILI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565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agerada preocupación por dolencias fís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26840" y="3141720"/>
            <a:ext cx="71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cesidad constante de protección y control de la conducta del niñ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aprehensivo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989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temerosos de: daño físico, catástrofes o acciden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7560" y="407664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uestran al niño que la realidad es peligrosa, constituyénd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los en salv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6840" y="494172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loquean indirectamente la exploración con a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8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637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284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076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86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76720" y="476280"/>
            <a:ext cx="273528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645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stantemente buscan protección y apoyo en los o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7800" y="515772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or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PROT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4280" y="414972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elen mostrar polarmente  dominio o sumisión en sus re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83200" y="314172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a las relaciones estables y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84640" y="465300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breprotectores o dependientes de sus relaciones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421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3645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149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72428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5229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3141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773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jetos centrados en la seguridad física, sobreatención  por el contexto físico y el estado del cuer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ta autoestima, seductores y eficientes en el manejo de las relaciones interperso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04000" y="587700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4836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59280" y="333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SCI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60280"/>
            <a:ext cx="2519280" cy="3240000"/>
          </a:xfrm>
          <a:custGeom>
            <a:avLst/>
            <a:gdLst>
              <a:gd name="textAreaLeft" fmla="*/ 337320 w 2519280"/>
              <a:gd name="textAreaRight" fmla="*/ 2181960 w 2519280"/>
              <a:gd name="textAreaTop" fmla="*/ 567000 h 3240000"/>
              <a:gd name="textAreaBottom" fmla="*/ 2349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260280"/>
            <a:ext cx="2916360" cy="3456000"/>
          </a:xfrm>
          <a:custGeom>
            <a:avLst/>
            <a:gdLst>
              <a:gd name="textAreaLeft" fmla="*/ 390600 w 2916360"/>
              <a:gd name="textAreaRight" fmla="*/ 2525760 w 291636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12536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IDO SEGU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126828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213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3141720"/>
            <a:ext cx="41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USQUEDA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01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EDO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AB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5013360"/>
            <a:ext cx="574560" cy="288720"/>
          </a:xfrm>
          <a:prstGeom prst="leftRightArrow">
            <a:avLst>
              <a:gd name="adj1" fmla="val 50000"/>
              <a:gd name="adj2" fmla="val 396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933720"/>
            <a:ext cx="352872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MOCIONES FRECU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6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ge</cp:lastModifiedBy>
  <dcterms:modified xsi:type="dcterms:W3CDTF">2004-04-03T09:26:34Z</dcterms:modified>
  <cp:revision>14</cp:revision>
  <dc:subject/>
  <dc:title>Diapositiva 1</dc:title>
</cp:coreProperties>
</file>