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BC1-50C4-4D1C-83D2-4043F95BC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87E-D88D-419B-B7A2-A11F08C8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21A3-D939-4D5C-A396-28B6C87D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D5B-7839-4CBB-B0EC-03242574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757EA-CAB4-4174-828B-05877E73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030C8-6674-4ACB-A526-29AF272D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4DC9F-374B-4ABB-B541-D94AA1C7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19907-2A16-496C-B98D-FE39E42A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2918F-5F8E-490A-9332-77E685A0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250CF-DCEF-4EC6-8928-D4B2515E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DC75C-475F-434C-9FDD-931250EC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CF9-87CA-4B35-849E-70BFAD33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D36A7-A9F1-409D-B40E-E97C0A12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BACA9-4E9D-457F-B4F4-A6AC88BC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AFFFF-2D31-4356-9C36-BB0585E0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58EF96-5490-47C1-BD4E-1145F410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56967-08FE-4FEF-927A-60622042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1B68-19C2-4270-94A2-29D8234D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644-8B59-405A-B760-5C4823D4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F6C9-A9D9-4C90-ABD7-015241F6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A272-0B25-4A81-A9DD-E22A668B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1DE-0BEA-42DB-BBC4-1021EBE2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F8C-96AE-4A10-AD5F-66483FC8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99EB-605A-4958-8503-1EB0485E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1AE5-C29C-4C1E-96CE-1CFCBBDE5F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4BE5-C98B-4F7E-ACD9-B3520EAB79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27280" y="47628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O.S.P.  FÓB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628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551664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RAGILIDAD  FÍS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5229360"/>
            <a:ext cx="33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77080" y="5632560"/>
            <a:ext cx="1944720" cy="122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7640" y="4581360"/>
            <a:ext cx="2362320" cy="936720"/>
          </a:xfrm>
          <a:prstGeom prst="downArrow">
            <a:avLst>
              <a:gd name="adj1" fmla="val 59407"/>
              <a:gd name="adj2" fmla="val 5551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ns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1197000"/>
            <a:ext cx="2361960" cy="936720"/>
          </a:xfrm>
          <a:prstGeom prst="downArrow">
            <a:avLst>
              <a:gd name="adj1" fmla="val 59407"/>
              <a:gd name="adj2" fmla="val 5551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p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1440" y="227664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MIEDO TIENE UNA VISTA AGUDA, Y PUEDE VER COS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ERRÁNEAS, Y MUCHO MÁS EN LOS CIELOS” (Cervante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328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menaza constante de que algo malo pudiera suceder (accidentes, daño físico, catástro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8840" y="414972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a autoestima pero vulnerables a los acontecimi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98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48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50920" y="549360"/>
            <a:ext cx="5834160" cy="9144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ACTERÍSTICAS  FAMILI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56536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agerada preocupación por dolencias fís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26840" y="3141720"/>
            <a:ext cx="71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cesidad constante de protección y control de la conducta del niñ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dres aprehensivo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989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dres temerosos de: daño físico, catástrofes o accident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27560" y="4076640"/>
            <a:ext cx="65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uestran al niño que la realidad es peligrosa, constituyéndo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los en salv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26840" y="494172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loquean indirectamente la exploración con a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989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637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328464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07664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869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76720" y="476280"/>
            <a:ext cx="2735280" cy="9144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3645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stantemente buscan protección y apoyo en los o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7800" y="5157720"/>
            <a:ext cx="29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mor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PROT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4280" y="414972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elen mostrar polarmente  dominio o sumisión en sus rel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83200" y="314172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encia a las relaciones estables y signific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84640" y="465300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breprotectores o dependientes de sus relaciones signific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42100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364500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414972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72428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522936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314172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77336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jetos centrados en la seguridad física, sobreatención  por el contexto físico y el estado del cuer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42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ta autoestima, seductores y eficientes en el manejo de las relaciones interperson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04000" y="587700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948360" y="5632560"/>
            <a:ext cx="1944720" cy="1225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59280" y="333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OSCIL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60280"/>
            <a:ext cx="2519280" cy="3240000"/>
          </a:xfrm>
          <a:custGeom>
            <a:avLst/>
            <a:gdLst>
              <a:gd name="textAreaLeft" fmla="*/ 337320 w 2519280"/>
              <a:gd name="textAreaRight" fmla="*/ 2181960 w 2519280"/>
              <a:gd name="textAreaTop" fmla="*/ 567000 h 3240000"/>
              <a:gd name="textAreaBottom" fmla="*/ 2349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260280"/>
            <a:ext cx="2916360" cy="3456000"/>
          </a:xfrm>
          <a:custGeom>
            <a:avLst/>
            <a:gdLst>
              <a:gd name="textAreaLeft" fmla="*/ 390600 w 2916360"/>
              <a:gd name="textAreaRight" fmla="*/ 2525760 w 2916360"/>
              <a:gd name="textAreaTop" fmla="*/ 604800 h 3456000"/>
              <a:gd name="textAreaBottom" fmla="*/ 25056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112536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P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IDO SEGUR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1268280"/>
            <a:ext cx="22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EJ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IBERTA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3213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3141720"/>
            <a:ext cx="41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BUSQUEDA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5013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EDO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AB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5013360"/>
            <a:ext cx="574560" cy="288720"/>
          </a:xfrm>
          <a:prstGeom prst="leftRightArrow">
            <a:avLst>
              <a:gd name="adj1" fmla="val 50000"/>
              <a:gd name="adj2" fmla="val 3961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933720"/>
            <a:ext cx="352872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MOCIONES FRECU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6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rge</cp:lastModifiedBy>
  <dcterms:modified xsi:type="dcterms:W3CDTF">2004-04-03T09:26:34Z</dcterms:modified>
  <cp:revision>14</cp:revision>
  <dc:subject/>
  <dc:title>Diapositiva 1</dc:title>
</cp:coreProperties>
</file>