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0DA8-8A2E-47C9-B96F-47564BC91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E353-2EFE-4F8F-BC28-CC35F4DF5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3D41-6E7F-40BB-ADC1-3DD469E16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8308-6E27-425D-A044-6190CB49C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771A40-45A5-4EA0-B8DC-215BE040C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A305F6-4A67-45F0-A034-3C800362F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5922ED-308A-4CE5-8663-65D69BA57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426024-B92C-4BD5-9625-6CD61ADB6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31C2E1-449F-4611-921D-077C7052C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EDA7C5-1583-4E25-A11D-02C14AE73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36CD52-0689-424F-944D-B556D52D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C65F-CD00-4483-B2E2-FC9BE9147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68F634-6681-4584-AF57-800D3399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E47A85-CFDF-44C4-93FC-B3C50A32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33464C-07AB-4D75-9D2A-00B2D4B9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5A0771-C0F3-4FE3-8BA6-284251DAD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B2FACD-4BBC-4374-BA31-E31382C08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3CE6-761A-42CD-89C1-8B93FDDDA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0232-65CA-4E89-AC7E-41A20F707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6559-503B-4BFF-B229-43286DAFC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E34B-5ABD-445B-8A76-7E3670865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5239-F771-438E-B943-38E05AD8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D724-B747-419C-844E-6D6D89A4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872F-BA63-4D40-B38E-683B7B83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c5eb"/>
            </a:gs>
            <a:gs pos="100000">
              <a:srgbClr val="33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F19F8-63D8-46B1-844A-36C6473E0FE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c5eb"/>
            </a:gs>
            <a:gs pos="100000">
              <a:srgbClr val="33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A22FD-AFB0-4D30-9DDF-9CF8C40483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c5eb"/>
            </a:gs>
            <a:gs pos="100000">
              <a:srgbClr val="33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627280" y="476280"/>
            <a:ext cx="38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O.S.P.  FÓBIC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340000" y="1628640"/>
            <a:ext cx="50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56000" y="5516640"/>
            <a:ext cx="35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FRAGILIDAD  FÍS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916360" y="5229360"/>
            <a:ext cx="331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877080" y="5632560"/>
            <a:ext cx="1944720" cy="1225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987640" y="4581360"/>
            <a:ext cx="2362320" cy="936720"/>
          </a:xfrm>
          <a:prstGeom prst="downArrow">
            <a:avLst>
              <a:gd name="adj1" fmla="val 59407"/>
              <a:gd name="adj2" fmla="val 55514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ens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nte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59280" y="1197000"/>
            <a:ext cx="2361960" cy="936720"/>
          </a:xfrm>
          <a:prstGeom prst="downArrow">
            <a:avLst>
              <a:gd name="adj1" fmla="val 59407"/>
              <a:gd name="adj2" fmla="val 55514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spect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Gener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61440" y="2276640"/>
            <a:ext cx="718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 MIEDO TIENE UNA VISTA AGUDA, Y PUEDE VER COS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BTERRÁNEAS, Y MUCHO MÁS EN LOS CIELOS” (Cervantes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58920" y="328464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Amenaza constante de que algo malo pudiera suceder (accidentes, daño físico, catástrof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38840" y="4149720"/>
            <a:ext cx="57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ta autoestima pero vulnerables a los acontecimien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UCTIVISMO COGNITIVO UNIVERSIDAD DE CHILE 2003'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500"/>
                            </p:stCondLst>
                            <p:childTnLst>
                              <p:par>
                                <p:cTn id="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980"/>
                            </p:stCondLst>
                            <p:childTnLst>
                              <p:par>
                                <p:cTn id="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7480"/>
                            </p:stCondLst>
                            <p:childTnLst>
                              <p:par>
                                <p:cTn id="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c5eb"/>
            </a:gs>
            <a:gs pos="100000">
              <a:srgbClr val="33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050920" y="549360"/>
            <a:ext cx="5834160" cy="91440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RACTERÍSTICAS  FAMILIA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19280" y="2565360"/>
            <a:ext cx="61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Exagerada preocupación por dolencias físi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26840" y="3141720"/>
            <a:ext cx="714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Necesidad constante de protección y control de la conducta del niñ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dres aprehensivos”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19280" y="198900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dres temerosos de: daño físico, catástrofes o accident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27560" y="4076640"/>
            <a:ext cx="655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Muestran al niño que la realidad es peligrosa, constituyéndos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ellos en salvad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26840" y="4941720"/>
            <a:ext cx="518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Bloquean indirectamente la exploración con am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9640" y="1989000"/>
            <a:ext cx="574920" cy="360360"/>
          </a:xfrm>
          <a:custGeom>
            <a:avLst/>
            <a:gdLst>
              <a:gd name="textAreaLeft" fmla="*/ 89640 w 574920"/>
              <a:gd name="textAreaRight" fmla="*/ 503280 w 57492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9640" y="2637000"/>
            <a:ext cx="574920" cy="360360"/>
          </a:xfrm>
          <a:custGeom>
            <a:avLst/>
            <a:gdLst>
              <a:gd name="textAreaLeft" fmla="*/ 89640 w 574920"/>
              <a:gd name="textAreaRight" fmla="*/ 503280 w 57492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3284640"/>
            <a:ext cx="574920" cy="360360"/>
          </a:xfrm>
          <a:custGeom>
            <a:avLst/>
            <a:gdLst>
              <a:gd name="textAreaLeft" fmla="*/ 89640 w 574920"/>
              <a:gd name="textAreaRight" fmla="*/ 503280 w 57492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4076640"/>
            <a:ext cx="574920" cy="360360"/>
          </a:xfrm>
          <a:custGeom>
            <a:avLst/>
            <a:gdLst>
              <a:gd name="textAreaLeft" fmla="*/ 89640 w 574920"/>
              <a:gd name="textAreaRight" fmla="*/ 503280 w 57492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4869000"/>
            <a:ext cx="574920" cy="360360"/>
          </a:xfrm>
          <a:custGeom>
            <a:avLst/>
            <a:gdLst>
              <a:gd name="textAreaLeft" fmla="*/ 89640 w 574920"/>
              <a:gd name="textAreaRight" fmla="*/ 503280 w 57492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UCTIVISMO COGNITIVO UNIVERSIDAD DE CHILE 2003'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0"/>
                            </p:stCondLst>
                            <p:childTnLst>
                              <p:par>
                                <p:cTn id="7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6000"/>
                            </p:stCondLst>
                            <p:childTnLst>
                              <p:par>
                                <p:cTn id="8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c5eb"/>
            </a:gs>
            <a:gs pos="100000">
              <a:srgbClr val="33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276720" y="476280"/>
            <a:ext cx="2735280" cy="91440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L SUJE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76360" y="3645000"/>
            <a:ext cx="64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Constantemente buscan protección y apoyo en los otr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477800" y="5157720"/>
            <a:ext cx="296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emor: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DESPROTEC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484280" y="4149720"/>
            <a:ext cx="684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elen mostrar polarmente  dominio o sumisión en sus rela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5120" y="4600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483200" y="3141720"/>
            <a:ext cx="533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dencia a las relaciones estables y significativ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84640" y="4653000"/>
            <a:ext cx="674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breprotectores o dependientes de sus relaciones significativ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1280" y="2421000"/>
            <a:ext cx="504720" cy="287280"/>
          </a:xfrm>
          <a:custGeom>
            <a:avLst/>
            <a:gdLst>
              <a:gd name="textAreaLeft" fmla="*/ 78840 w 504720"/>
              <a:gd name="textAreaRight" fmla="*/ 441720 w 504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1280" y="3645000"/>
            <a:ext cx="504720" cy="287280"/>
          </a:xfrm>
          <a:custGeom>
            <a:avLst/>
            <a:gdLst>
              <a:gd name="textAreaLeft" fmla="*/ 78840 w 504720"/>
              <a:gd name="textAreaRight" fmla="*/ 441720 w 504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1280" y="4149720"/>
            <a:ext cx="504720" cy="287280"/>
          </a:xfrm>
          <a:custGeom>
            <a:avLst/>
            <a:gdLst>
              <a:gd name="textAreaLeft" fmla="*/ 78840 w 504720"/>
              <a:gd name="textAreaRight" fmla="*/ 441720 w 504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1280" y="4724280"/>
            <a:ext cx="504720" cy="287280"/>
          </a:xfrm>
          <a:custGeom>
            <a:avLst/>
            <a:gdLst>
              <a:gd name="textAreaLeft" fmla="*/ 78840 w 504720"/>
              <a:gd name="textAreaRight" fmla="*/ 441720 w 504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11280" y="5229360"/>
            <a:ext cx="504720" cy="287280"/>
          </a:xfrm>
          <a:custGeom>
            <a:avLst/>
            <a:gdLst>
              <a:gd name="textAreaLeft" fmla="*/ 78840 w 504720"/>
              <a:gd name="textAreaRight" fmla="*/ 441720 w 504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1280" y="3141720"/>
            <a:ext cx="504720" cy="287280"/>
          </a:xfrm>
          <a:custGeom>
            <a:avLst/>
            <a:gdLst>
              <a:gd name="textAreaLeft" fmla="*/ 78840 w 504720"/>
              <a:gd name="textAreaRight" fmla="*/ 441720 w 504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1280" y="1773360"/>
            <a:ext cx="504720" cy="287280"/>
          </a:xfrm>
          <a:custGeom>
            <a:avLst/>
            <a:gdLst>
              <a:gd name="textAreaLeft" fmla="*/ 78840 w 504720"/>
              <a:gd name="textAreaRight" fmla="*/ 441720 w 504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476360" y="170028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jetos centrados en la seguridad física, sobreatención  por el contexto físico y el estado del cuerp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76360" y="24210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Alta autoestima, seductores y eficientes en el manejo de las relaciones interpersonal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UCTIVISMO COGNITIVO UNIVERSIDAD DE CHILE 2003'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500"/>
                            </p:stCondLst>
                            <p:childTnLst>
                              <p:par>
                                <p:cTn id="12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500"/>
                            </p:stCondLst>
                            <p:childTnLst>
                              <p:par>
                                <p:cTn id="13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500"/>
                            </p:stCondLst>
                            <p:childTnLst>
                              <p:par>
                                <p:cTn id="14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6500"/>
                            </p:stCondLst>
                            <p:childTnLst>
                              <p:par>
                                <p:cTn id="15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c5eb"/>
            </a:gs>
            <a:gs pos="100000">
              <a:srgbClr val="33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804000" y="5877000"/>
            <a:ext cx="23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948360" y="5632560"/>
            <a:ext cx="1944720" cy="12254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059280" y="33336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OSCIL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4000" y="260280"/>
            <a:ext cx="2519280" cy="3240000"/>
          </a:xfrm>
          <a:custGeom>
            <a:avLst/>
            <a:gdLst>
              <a:gd name="textAreaLeft" fmla="*/ 337320 w 2519280"/>
              <a:gd name="textAreaRight" fmla="*/ 2181960 w 2519280"/>
              <a:gd name="textAreaTop" fmla="*/ 567000 h 3240000"/>
              <a:gd name="textAreaBottom" fmla="*/ 2349000 h 32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227640" y="260280"/>
            <a:ext cx="2916360" cy="3456000"/>
          </a:xfrm>
          <a:custGeom>
            <a:avLst/>
            <a:gdLst>
              <a:gd name="textAreaLeft" fmla="*/ 390600 w 2916360"/>
              <a:gd name="textAreaRight" fmla="*/ 2525760 w 2916360"/>
              <a:gd name="textAreaTop" fmla="*/ 604800 h 3456000"/>
              <a:gd name="textAreaBottom" fmla="*/ 2505600 h 345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00000" y="1125360"/>
            <a:ext cx="3024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PE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NIDO SEGURO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80000" y="1268280"/>
            <a:ext cx="223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LEJAMI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IBERTAD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564000" y="3213000"/>
            <a:ext cx="22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3141720"/>
            <a:ext cx="41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BUSQUEDA SEGUR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84360" y="5013360"/>
            <a:ext cx="42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MIEDO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RAB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84720" y="5013360"/>
            <a:ext cx="574560" cy="288720"/>
          </a:xfrm>
          <a:prstGeom prst="leftRightArrow">
            <a:avLst>
              <a:gd name="adj1" fmla="val 50000"/>
              <a:gd name="adj2" fmla="val 39616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916360" y="3933720"/>
            <a:ext cx="352872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MOCIONES FRECUE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UCTIVISMO COGNITIVO UNIVERSIDAD DE CHILE 2003'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9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0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1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2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5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6600"/>
                            </p:stCondLst>
                            <p:childTnLst>
                              <p:par>
                                <p:cTn id="1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orge</cp:lastModifiedBy>
  <dcterms:modified xsi:type="dcterms:W3CDTF">2004-04-03T09:26:34Z</dcterms:modified>
  <cp:revision>14</cp:revision>
  <dc:subject/>
  <dc:title>Diapositiva 1</dc:title>
</cp:coreProperties>
</file>