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455C-5E56-4A0D-AF64-59D49FDE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5FF7-98B6-4C15-AA9F-C9D3DA3E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4501-4FAC-4ADA-A4B1-48F039D3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7B35-FD69-4E60-8455-2B2EB4BF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614C-4F94-418A-A913-EE11D56F1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466D-5D12-426A-A2B4-B926B9AB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A0C4-448A-4C43-AAD4-0EEF9FF3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1C20-0900-4B38-83B9-AF7E4CC6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7ACD-66BC-462F-AF62-F5F27A6B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8B28-B4E3-44E1-9615-CD291153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49D9-2ABA-41F6-A1B3-2D2B5B34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948B-F76B-4E7E-9A52-07678833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6902-8A66-418F-9C91-47EB942C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2582-E979-4148-B1C2-F62F30D7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3635-A77E-4DB6-9578-EF8440AA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9FD6-FE94-46BE-8202-90156540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0329-7F8E-43AD-A03E-EC1C2C662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DD49-C7F6-4A63-B4A2-50D3ABF4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43CF-13F0-4D8C-B080-6EF2C170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63E5-72CD-459F-8888-C911C355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1A49-DE54-496D-AC5A-80CE7BC7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AABF-BD1B-4A81-9FE3-71554DF8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611C-4D1E-45C3-B372-EFC06AAF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E93C-B496-4920-9A65-EC5DAB75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55863c"/>
                </a:gs>
                <a:gs pos="100000">
                  <a:srgbClr val="375f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75f2f"/>
                </a:gs>
                <a:gs pos="100000">
                  <a:srgbClr val="55863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375f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b4ef7f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55863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8eac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b4ef7f"/>
                  </a:gs>
                  <a:gs pos="100000">
                    <a:srgbClr val="8eac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efb3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CB51-8A7C-49D9-B94F-10A8616F0F22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375f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eac66"/>
                </a:gs>
                <a:gs pos="50000">
                  <a:srgbClr val="b4ef7f"/>
                </a:gs>
                <a:gs pos="100000">
                  <a:srgbClr val="8ea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55863c"/>
                </a:gs>
                <a:gs pos="100000">
                  <a:srgbClr val="8eac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eac66"/>
                </a:gs>
                <a:gs pos="100000">
                  <a:srgbClr val="55863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375f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b4ef7f"/>
                  </a:gs>
                  <a:gs pos="100000">
                    <a:srgbClr val="8eac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efb3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0AEB-58C0-4841-90D6-F18D838ECC3D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543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d1efb3"/>
                </a:solidFill>
                <a:latin typeface="Tahoma"/>
              </a:rPr>
              <a:t>O.S.P.  DEPRESIVA</a:t>
            </a:r>
            <a:endParaRPr b="1" lang="en-US" sz="40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059280" y="1125360"/>
            <a:ext cx="2665080" cy="1079640"/>
          </a:xfrm>
          <a:prstGeom prst="downArrow">
            <a:avLst>
              <a:gd name="adj1" fmla="val 59380"/>
              <a:gd name="adj2" fmla="val 68824"/>
            </a:avLst>
          </a:pr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SPECT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GENER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32000" y="4581360"/>
            <a:ext cx="2159280" cy="720720"/>
          </a:xfrm>
          <a:prstGeom prst="downArrow">
            <a:avLst>
              <a:gd name="adj1" fmla="val 72500"/>
              <a:gd name="adj2" fmla="val 64171"/>
            </a:avLst>
          </a:pr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ENS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INTER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5781600"/>
            <a:ext cx="3132000" cy="1076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300720" y="5781600"/>
            <a:ext cx="2843280" cy="1076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740720" y="429264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00000" y="234936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O PERTENECERÍA A UN CLUB QUE ME QUISIERA COMO UNO DE SUS MIEMBROS” (Groucho Mar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23760" y="5300640"/>
            <a:ext cx="70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Sensación de ser poco querible e incapacidad de ser quer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3320" y="3429000"/>
            <a:ext cx="76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Sensibilidad mayor ante el fracaso que al éxito. Éxito atribuido al az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y el fracaso a su desemp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27360" y="4076640"/>
            <a:ext cx="66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Necesidad de valerse por sí mismo sin necesitar a los demá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'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0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16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16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050920" y="765000"/>
            <a:ext cx="4465800" cy="71928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ahoma"/>
              </a:rPr>
              <a:t>CARACTERÍSTICAS  FAMILIA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479736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Generalmente se le atribuye al niño el ser poco cariñoso, incompetente e inadecu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16840" y="3213000"/>
            <a:ext cx="668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l control en la crianza se establece a través de amenazas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bando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7680" y="1844640"/>
            <a:ext cx="63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érdida real o simbólica de los padres durante la infanc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o separación prolongada de los pad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256536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adres no efusivos, distantes, atribuyen  especial importancia al éxito y al prestig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1120" y="4076640"/>
            <a:ext cx="72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ferencia frecuente a la lucha constante contra las adversidad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y dificulta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844640"/>
            <a:ext cx="360360" cy="287280"/>
          </a:xfrm>
          <a:custGeom>
            <a:avLst/>
            <a:gdLst>
              <a:gd name="textAreaLeft" fmla="*/ 5616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2565360"/>
            <a:ext cx="360360" cy="287280"/>
          </a:xfrm>
          <a:custGeom>
            <a:avLst/>
            <a:gdLst>
              <a:gd name="textAreaLeft" fmla="*/ 5616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3213000"/>
            <a:ext cx="360360" cy="287280"/>
          </a:xfrm>
          <a:custGeom>
            <a:avLst/>
            <a:gdLst>
              <a:gd name="textAreaLeft" fmla="*/ 5616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149720"/>
            <a:ext cx="360360" cy="287280"/>
          </a:xfrm>
          <a:custGeom>
            <a:avLst/>
            <a:gdLst>
              <a:gd name="textAreaLeft" fmla="*/ 5616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4941720"/>
            <a:ext cx="360360" cy="287640"/>
          </a:xfrm>
          <a:custGeom>
            <a:avLst/>
            <a:gdLst>
              <a:gd name="textAreaLeft" fmla="*/ 56160 w 360360"/>
              <a:gd name="textAreaRight" fmla="*/ 315360 w 36036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372360" y="5781600"/>
            <a:ext cx="2771640" cy="10764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5805360"/>
            <a:ext cx="2916360" cy="105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'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40"/>
                            </p:stCondLst>
                            <p:childTnLst>
                              <p:par>
                                <p:cTn id="5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40"/>
                            </p:stCondLst>
                            <p:childTnLst>
                              <p:par>
                                <p:cTn id="6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40"/>
                            </p:stCondLst>
                            <p:childTnLst>
                              <p:par>
                                <p:cTn id="7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40"/>
                            </p:stCondLst>
                            <p:childTnLst>
                              <p:par>
                                <p:cTn id="7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40"/>
                            </p:stCondLst>
                            <p:childTnLst>
                              <p:par>
                                <p:cTn id="8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32000" y="260280"/>
            <a:ext cx="3457800" cy="792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EL SUJ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484280"/>
            <a:ext cx="360360" cy="287280"/>
          </a:xfrm>
          <a:custGeom>
            <a:avLst/>
            <a:gdLst>
              <a:gd name="textAreaLeft" fmla="*/ 5616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90280" y="1413000"/>
            <a:ext cx="75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Sujetos que luchan constantemente por un mundo que le es adver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25653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sfuerzo constante por establecer una relación de apoyo y afecto seg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2160" y="3068640"/>
            <a:ext cx="665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Pobres en la demostración de los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afectos y deficientes co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apoyo emo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05840" y="3789360"/>
            <a:ext cx="56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Oscilan entre un modelo heroico o de victimiz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61560" y="4221000"/>
            <a:ext cx="75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utorreferencia constante ante dificultades y adversidades de la vi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24920" y="4653000"/>
            <a:ext cx="472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stilo personal apesadumbrado y sombrí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84320" y="5084640"/>
            <a:ext cx="37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Falta de vitalidad y brillo pers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01520" y="1844640"/>
            <a:ext cx="74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ienden a la dependencia emocional y afectiva, pueden llegar a s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una carga para el otr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1989000"/>
            <a:ext cx="360360" cy="287640"/>
          </a:xfrm>
          <a:custGeom>
            <a:avLst/>
            <a:gdLst>
              <a:gd name="textAreaLeft" fmla="*/ 56160 w 360360"/>
              <a:gd name="textAreaRight" fmla="*/ 315360 w 36036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2565360"/>
            <a:ext cx="360360" cy="287280"/>
          </a:xfrm>
          <a:custGeom>
            <a:avLst/>
            <a:gdLst>
              <a:gd name="textAreaLeft" fmla="*/ 5616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3141720"/>
            <a:ext cx="360360" cy="287280"/>
          </a:xfrm>
          <a:custGeom>
            <a:avLst/>
            <a:gdLst>
              <a:gd name="textAreaLeft" fmla="*/ 5616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3789360"/>
            <a:ext cx="360360" cy="287280"/>
          </a:xfrm>
          <a:custGeom>
            <a:avLst/>
            <a:gdLst>
              <a:gd name="textAreaLeft" fmla="*/ 5616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4221000"/>
            <a:ext cx="360360" cy="287640"/>
          </a:xfrm>
          <a:custGeom>
            <a:avLst/>
            <a:gdLst>
              <a:gd name="textAreaLeft" fmla="*/ 56160 w 360360"/>
              <a:gd name="textAreaRight" fmla="*/ 315360 w 36036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4653000"/>
            <a:ext cx="360360" cy="287280"/>
          </a:xfrm>
          <a:custGeom>
            <a:avLst/>
            <a:gdLst>
              <a:gd name="textAreaLeft" fmla="*/ 5616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5084640"/>
            <a:ext cx="360360" cy="287640"/>
          </a:xfrm>
          <a:custGeom>
            <a:avLst/>
            <a:gdLst>
              <a:gd name="textAreaLeft" fmla="*/ 56160 w 360360"/>
              <a:gd name="textAreaRight" fmla="*/ 315360 w 36036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372360" y="6021360"/>
            <a:ext cx="2771640" cy="836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6093000"/>
            <a:ext cx="2843280" cy="712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118880" y="5516640"/>
            <a:ext cx="32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emor: Rechazo / Abandon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5589720"/>
            <a:ext cx="360360" cy="287280"/>
          </a:xfrm>
          <a:custGeom>
            <a:avLst/>
            <a:gdLst>
              <a:gd name="textAreaLeft" fmla="*/ 56160 w 360360"/>
              <a:gd name="textAreaRight" fmla="*/ 315360 w 360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'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500"/>
                            </p:stCondLst>
                            <p:childTnLst>
                              <p:par>
                                <p:cTn id="14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500"/>
                            </p:stCondLst>
                            <p:childTnLst>
                              <p:par>
                                <p:cTn id="15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500"/>
                            </p:stCondLst>
                            <p:childTnLst>
                              <p:par>
                                <p:cTn id="16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500"/>
                            </p:stCondLst>
                            <p:childTnLst>
                              <p:par>
                                <p:cTn id="17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627280" y="549360"/>
            <a:ext cx="424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ff"/>
                </a:solidFill>
                <a:latin typeface="Tahoma"/>
              </a:rPr>
              <a:t>OSCILACIÓ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31240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71640" y="32130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tribución causal Inte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4425840"/>
            <a:ext cx="23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56000" y="436572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1197000"/>
            <a:ext cx="26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476280"/>
            <a:ext cx="2232000" cy="3024000"/>
          </a:xfrm>
          <a:custGeom>
            <a:avLst/>
            <a:gdLst>
              <a:gd name="textAreaLeft" fmla="*/ 298800 w 2232000"/>
              <a:gd name="textAreaRight" fmla="*/ 1933200 w 2232000"/>
              <a:gd name="textAreaTop" fmla="*/ 548640 h 3024000"/>
              <a:gd name="textAreaBottom" fmla="*/ 2352240 h 30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41" stAng="-5400000" swAng="-5400000"/>
                <a:lnTo>
                  <a:pt x="0" y="12880"/>
                </a:lnTo>
                <a:arcTo wR="21600" hR="7841" stAng="10800000" swAng="-2745253"/>
                <a:lnTo>
                  <a:pt x="14400" y="21152"/>
                </a:lnTo>
                <a:lnTo>
                  <a:pt x="21600" y="18201"/>
                </a:lnTo>
                <a:lnTo>
                  <a:pt x="14400" y="14353"/>
                </a:lnTo>
                <a:lnTo>
                  <a:pt x="14400" y="15233"/>
                </a:lnTo>
                <a:arcTo wR="21600" hR="7841" stAng="8054747" swAng="2323926"/>
                <a:lnTo>
                  <a:pt x="1146" y="10360"/>
                </a:lnTo>
                <a:arcTo wR="21600" hR="7841" stAng="-10378673" swAng="4978673"/>
                <a:close/>
              </a:path>
              <a:path fill="darkenLess" w="21600" h="21600">
                <a:moveTo>
                  <a:pt x="21600" y="0"/>
                </a:moveTo>
                <a:arcTo wR="21600" hR="7841" stAng="-5400000" swAng="-5400000"/>
                <a:lnTo>
                  <a:pt x="0" y="7841"/>
                </a:lnTo>
                <a:arcTo wR="21600" hR="7841" stAng="10800000" swAng="-421327"/>
                <a:lnTo>
                  <a:pt x="1146" y="10360"/>
                </a:lnTo>
                <a:arcTo wR="21600" hR="7841" stAng="-10378673" swAng="4978673"/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119700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77080" y="476280"/>
            <a:ext cx="2017800" cy="3166920"/>
          </a:xfrm>
          <a:custGeom>
            <a:avLst/>
            <a:gdLst>
              <a:gd name="textAreaLeft" fmla="*/ 270360 w 2017800"/>
              <a:gd name="textAreaRight" fmla="*/ 1747440 w 2017800"/>
              <a:gd name="textAreaTop" fmla="*/ 585000 h 3166920"/>
              <a:gd name="textAreaBottom" fmla="*/ 2332080 h 31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81" stAng="-5400000" swAng="5400000"/>
                <a:lnTo>
                  <a:pt x="21600" y="11914"/>
                </a:lnTo>
                <a:arcTo wR="21600" hR="7981" stAng="0" swAng="2709493"/>
                <a:lnTo>
                  <a:pt x="7450" y="21110"/>
                </a:lnTo>
                <a:lnTo>
                  <a:pt x="0" y="17929"/>
                </a:lnTo>
                <a:lnTo>
                  <a:pt x="7450" y="13767"/>
                </a:lnTo>
                <a:lnTo>
                  <a:pt x="7450" y="15472"/>
                </a:lnTo>
                <a:arcTo wR="21600" hR="7981" stAng="2709493" swAng="-2387503"/>
                <a:lnTo>
                  <a:pt x="20934" y="9948"/>
                </a:lnTo>
                <a:arcTo wR="21600" hR="7981" stAng="-321990" swAng="-5078010"/>
                <a:close/>
              </a:path>
              <a:path fill="darkenLess" w="21600" h="21600">
                <a:moveTo>
                  <a:pt x="0" y="0"/>
                </a:moveTo>
                <a:arcTo wR="21600" hR="7981" stAng="-5400000" swAng="5400000"/>
                <a:lnTo>
                  <a:pt x="21600" y="11914"/>
                </a:lnTo>
                <a:arcTo wR="21600" hR="7981" stAng="0" swAng="-321990"/>
                <a:lnTo>
                  <a:pt x="20934" y="9948"/>
                </a:lnTo>
                <a:arcTo wR="21600" hR="7981" stAng="-321990" swAng="-5078010"/>
                <a:close/>
              </a:path>
            </a:pathLst>
          </a:cu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27640" y="126828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utoconfianza Compuls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Rab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134136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Minusvalía Pers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(Pe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5781600"/>
            <a:ext cx="2987640" cy="10764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300720" y="5781600"/>
            <a:ext cx="2843280" cy="10764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84360" y="515772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ENA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AB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84720" y="5229360"/>
            <a:ext cx="792000" cy="360360"/>
          </a:xfrm>
          <a:prstGeom prst="leftRightArrow">
            <a:avLst>
              <a:gd name="adj1" fmla="val 50000"/>
              <a:gd name="adj2" fmla="val 43753"/>
            </a:avLst>
          </a:pr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16360" y="4076640"/>
            <a:ext cx="3600360" cy="649440"/>
          </a:xfrm>
          <a:prstGeom prst="rect">
            <a:avLst/>
          </a:prstGeom>
          <a:solidFill>
            <a:srgbClr val="00cc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EMOCIONES FRECU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'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84,-114)"/>
                                          </p:val>
                                        </p:tav>
                                        <p:tav tm="50000">
                                          <p:val>
                                            <p:strVal val="rgb(127,-17,-7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"/>
                            </p:stCondLst>
                            <p:childTnLst>
                              <p:par>
                                <p:cTn id="21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6T00:55:12Z</dcterms:created>
  <dc:creator>Paula Vergara</dc:creator>
  <dc:description/>
  <dc:language>en-US</dc:language>
  <cp:lastModifiedBy>jorge</cp:lastModifiedBy>
  <cp:lastPrinted>2001-12-26T01:47:35Z</cp:lastPrinted>
  <dcterms:modified xsi:type="dcterms:W3CDTF">2004-04-03T09:25:35Z</dcterms:modified>
  <cp:revision>36</cp:revision>
  <dc:subject/>
  <dc:title>O.S.P.  DEPRESIVA</dc:title>
</cp:coreProperties>
</file>