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71A-774B-4390-9E55-E4D0E890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461-52A1-4064-ABC1-347B5DD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BBE-1F17-410E-B474-A906227A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469-2114-472F-A19A-F9ED9494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7457-AF8F-4AC0-B1C7-CC4E7444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848-E158-48C6-86D7-7D1F485B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3EF1-74D9-4ACC-9854-AB964E93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A31F-CC97-4736-9C14-D9A7B3CB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E527-AAF5-482E-A5F3-FD3F39F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5E09-CEAE-457C-85BE-D6F60155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9BC-2564-4B01-8093-D32EA78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452-655E-4D63-9AC2-44F5F832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33E-BAF1-485B-9E89-3449C8F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7D51-B095-47A1-8AC1-BDE41B48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FCAA-E604-43EF-95FB-E1980BA1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B405-4BF3-4BA3-9BD0-35491198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EB4F-DEC1-40F3-B789-FE74BCFE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904-8734-4F0D-BC4F-9B530585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52B-24C1-49BD-8C42-71E9F344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7A3-5E0F-4B13-BBF2-25AA6BD3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26F-00C7-45E0-8D29-D3D9106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CF9-E087-4E31-8AB1-77A700C8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1F74-4548-45E0-8632-B84431E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BD6-F904-42B1-AEE2-1632E11B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162-21F2-44A9-B162-CAA622A6652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A9E-F7DD-479B-84EB-40C17F05FC0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1efb3"/>
                </a:solidFill>
                <a:latin typeface="Tahoma"/>
              </a:rPr>
              <a:t>O.S.P.  DEPRESIVA</a:t>
            </a:r>
            <a:endParaRPr b="1" lang="en-US" sz="40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125360"/>
            <a:ext cx="2665080" cy="1079640"/>
          </a:xfrm>
          <a:prstGeom prst="downArrow">
            <a:avLst>
              <a:gd name="adj1" fmla="val 59380"/>
              <a:gd name="adj2" fmla="val 68824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SPEC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GENER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4581360"/>
            <a:ext cx="2159280" cy="720720"/>
          </a:xfrm>
          <a:prstGeom prst="downArrow">
            <a:avLst>
              <a:gd name="adj1" fmla="val 72500"/>
              <a:gd name="adj2" fmla="val 64171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NS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TER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3132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40720" y="4292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2349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PERTENECERÍA A UN CLUB QUE ME QUISIERA COMO UNO DE SUS MIEMBROS” (Groucho Mar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3760" y="5300640"/>
            <a:ext cx="70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Sensación de ser poco querible e incapacidad de ser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3320" y="3429000"/>
            <a:ext cx="76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nsibilidad mayor ante el fracaso que al éxito. Éxito atribuido al a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y el fracaso a su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360" y="407664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Necesidad de valerse por sí mismo sin necesitar a los de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16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765000"/>
            <a:ext cx="4465800" cy="7192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RACTERÍSTICAS  FAMILI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797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eneralmente se le atribuye al niño el ser poco cariñoso, incompetente e inadec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840" y="32130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control en la crianza se establece a través de amenaz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band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7680" y="184464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érdida real o simbólica de los padres durante la infa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 separación prolongada de los pad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565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adres no efusivos, distantes, atribuyen  especial importancia al éxito y al presti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1120" y="4076640"/>
            <a:ext cx="72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erencia frecuente a la lucha constante contra las adversidad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y dificult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4464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21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14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94172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5781600"/>
            <a:ext cx="277164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2916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4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4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4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260280"/>
            <a:ext cx="3457800" cy="792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8428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0280" y="1413000"/>
            <a:ext cx="75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ujetos que luchan constantemente por un mundo que le es adve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56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fuerzo constante por establecer una relación de apoyo y afecto seg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06864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obres en la demostración de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fectos y deficientes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poyo emo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5840" y="37893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scilan entre un modelo heroico o de victim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1560" y="42210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rreferencia constante ante dificultades y adversidades de la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4920" y="46530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ilo personal apesadumbrado y so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4320" y="5084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lta de vitalidad y brillo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1520" y="1844640"/>
            <a:ext cx="74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ienden a la dependencia emocional y afectiva, pueden llegar a s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carga para el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141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789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221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65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8464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6021360"/>
            <a:ext cx="2771640" cy="83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2843280" cy="71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8880" y="55166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mor: Rechazo / Abandon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58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27280" y="549360"/>
            <a:ext cx="42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ahoma"/>
              </a:rPr>
              <a:t>OSCIL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124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213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tribución causal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4258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365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1970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2232000" cy="302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548640 h 3024000"/>
              <a:gd name="textAreaBottom" fmla="*/ 235224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41" stAng="-5400000" swAng="-5400000"/>
                <a:lnTo>
                  <a:pt x="0" y="12880"/>
                </a:lnTo>
                <a:arcTo wR="21600" hR="7841" stAng="10800000" swAng="-2745253"/>
                <a:lnTo>
                  <a:pt x="14400" y="21152"/>
                </a:lnTo>
                <a:lnTo>
                  <a:pt x="21600" y="18201"/>
                </a:lnTo>
                <a:lnTo>
                  <a:pt x="14400" y="14353"/>
                </a:lnTo>
                <a:lnTo>
                  <a:pt x="14400" y="15233"/>
                </a:lnTo>
                <a:arcTo wR="21600" hR="7841" stAng="8054747" swAng="2323926"/>
                <a:lnTo>
                  <a:pt x="1146" y="10360"/>
                </a:lnTo>
                <a:arcTo wR="21600" hR="7841" stAng="-10378673" swAng="4978673"/>
                <a:close/>
              </a:path>
              <a:path fill="darkenLess" w="21600" h="21600">
                <a:moveTo>
                  <a:pt x="21600" y="0"/>
                </a:moveTo>
                <a:arcTo wR="21600" hR="7841" stAng="-5400000" swAng="-5400000"/>
                <a:lnTo>
                  <a:pt x="0" y="7841"/>
                </a:lnTo>
                <a:arcTo wR="21600" hR="7841" stAng="10800000" swAng="-421327"/>
                <a:lnTo>
                  <a:pt x="1146" y="10360"/>
                </a:lnTo>
                <a:arcTo wR="21600" hR="7841" stAng="-10378673" swAng="4978673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6280"/>
            <a:ext cx="2017800" cy="3166920"/>
          </a:xfrm>
          <a:custGeom>
            <a:avLst/>
            <a:gdLst>
              <a:gd name="textAreaLeft" fmla="*/ 270360 w 2017800"/>
              <a:gd name="textAreaRight" fmla="*/ 1747440 w 2017800"/>
              <a:gd name="textAreaTop" fmla="*/ 585000 h 3166920"/>
              <a:gd name="textAreaBottom" fmla="*/ 23320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2709493"/>
                <a:lnTo>
                  <a:pt x="7450" y="21110"/>
                </a:lnTo>
                <a:lnTo>
                  <a:pt x="0" y="17929"/>
                </a:lnTo>
                <a:lnTo>
                  <a:pt x="7450" y="13767"/>
                </a:lnTo>
                <a:lnTo>
                  <a:pt x="7450" y="15472"/>
                </a:lnTo>
                <a:arcTo wR="21600" hR="7981" stAng="2709493" swAng="-2387503"/>
                <a:lnTo>
                  <a:pt x="20934" y="9948"/>
                </a:lnTo>
                <a:arcTo wR="21600" hR="7981" stAng="-321990" swAng="-5078010"/>
                <a:close/>
              </a:path>
              <a:path fill="darkenLess"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-321990"/>
                <a:lnTo>
                  <a:pt x="20934" y="9948"/>
                </a:lnTo>
                <a:arcTo wR="21600" hR="7981" stAng="-321990" swAng="-5078010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1268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utoconfianza Compul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Rab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341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nusvalía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298764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5157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NA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A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5229360"/>
            <a:ext cx="792000" cy="360360"/>
          </a:xfrm>
          <a:prstGeom prst="leftRightArrow">
            <a:avLst>
              <a:gd name="adj1" fmla="val 50000"/>
              <a:gd name="adj2" fmla="val 43753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4076640"/>
            <a:ext cx="3600360" cy="649440"/>
          </a:xfrm>
          <a:prstGeom prst="rect">
            <a:avLst/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0:55:12Z</dcterms:created>
  <dc:creator>Paula Vergara</dc:creator>
  <dc:description/>
  <dc:language>en-US</dc:language>
  <cp:lastModifiedBy>jorge</cp:lastModifiedBy>
  <cp:lastPrinted>2001-12-26T01:47:35Z</cp:lastPrinted>
  <dcterms:modified xsi:type="dcterms:W3CDTF">2004-04-03T09:25:35Z</dcterms:modified>
  <cp:revision>36</cp:revision>
  <dc:subject/>
  <dc:title>O.S.P.  DEPRESIVA</dc:title>
</cp:coreProperties>
</file>