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094-D3DF-4D44-B48E-27FC5A95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546-E6D6-42E9-BA3B-48CFB1DA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8A5-EF4C-4199-B42B-840BBE1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6E9-249A-4078-9A5E-06275F34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F49F-47FA-4159-87DE-F54D972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FED-4B10-4CD2-9E3E-3B595415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7CF6-DEF9-49F1-8361-0A9A3ED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F7E-9C6D-402D-8841-905B5E11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14CA-DEB3-45A3-BDCD-5415FC34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032F-8465-4322-BA9E-678E9D53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48E3-8023-4197-B630-19080D1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209-C297-4348-9F7D-0E01790C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5375-02BB-4AE3-AFB3-A6BDDD8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F9D3-4D5A-4124-ABB1-9B40B06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909F-F661-4DBF-813A-DBEDAE69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D4E-4D3A-4335-A7CB-852AE2F9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900B-24F4-46C7-AB89-480DDB86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9CE-84BA-4F4B-876A-47C30D7F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0BD-7A4E-4913-9F00-F9A24B8B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D91-0412-4640-9340-41F2E434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714-E59E-41B0-9323-ABA9C58F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A13A-E395-44CA-859B-E17491B4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119-1C34-44DB-89AB-F3034A4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DF8-9396-47ED-A638-AE391932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8906-CC05-4422-837D-66AC5CA3CC97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E9BF-E923-411A-8E9F-5E2E6B258D3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1efb3"/>
                </a:solidFill>
                <a:latin typeface="Tahoma"/>
              </a:rPr>
              <a:t>O.S.P.  DEPRESIVA</a:t>
            </a:r>
            <a:endParaRPr b="1" lang="en-US" sz="40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125360"/>
            <a:ext cx="2665080" cy="1079640"/>
          </a:xfrm>
          <a:prstGeom prst="downArrow">
            <a:avLst>
              <a:gd name="adj1" fmla="val 59380"/>
              <a:gd name="adj2" fmla="val 68824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SPEC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GENER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4581360"/>
            <a:ext cx="2159280" cy="720720"/>
          </a:xfrm>
          <a:prstGeom prst="downArrow">
            <a:avLst>
              <a:gd name="adj1" fmla="val 72500"/>
              <a:gd name="adj2" fmla="val 64171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NS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TER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3132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40720" y="4292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2349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PERTENECERÍA A UN CLUB QUE ME QUISIERA COMO UNO DE SUS MIEMBROS” (Groucho Mar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3760" y="5300640"/>
            <a:ext cx="70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Sensación de ser poco querible e incapacidad de ser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3320" y="3429000"/>
            <a:ext cx="76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nsibilidad mayor ante el fracaso que al éxito. Éxito atribuido al a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y el fracaso a su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360" y="407664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Necesidad de valerse por sí mismo sin necesitar a los de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16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765000"/>
            <a:ext cx="4465800" cy="7192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RACTERÍSTICAS  FAMILI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797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eneralmente se le atribuye al niño el ser poco cariñoso, incompetente e inadec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840" y="32130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control en la crianza se establece a través de amenaz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band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7680" y="184464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érdida real o simbólica de los padres durante la infa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 separación prolongada de los pad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565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adres no efusivos, distantes, atribuyen  especial importancia al éxito y al presti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1120" y="4076640"/>
            <a:ext cx="72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erencia frecuente a la lucha constante contra las adversidad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y dificult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4464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21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14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94172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5781600"/>
            <a:ext cx="277164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2916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4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4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4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260280"/>
            <a:ext cx="3457800" cy="792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8428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0280" y="1413000"/>
            <a:ext cx="75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ujetos que luchan constantemente por un mundo que le es adve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56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fuerzo constante por establecer una relación de apoyo y afecto seg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06864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obres en la demostración de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fectos y deficientes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poyo emo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5840" y="37893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scilan entre un modelo heroico o de victim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1560" y="42210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rreferencia constante ante dificultades y adversidades de la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4920" y="46530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ilo personal apesadumbrado y so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4320" y="5084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lta de vitalidad y brillo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1520" y="1844640"/>
            <a:ext cx="74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ienden a la dependencia emocional y afectiva, pueden llegar a s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carga para el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141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789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221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65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8464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6021360"/>
            <a:ext cx="2771640" cy="83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2843280" cy="71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8880" y="55166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mor: Rechazo / Abandon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58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27280" y="549360"/>
            <a:ext cx="42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ahoma"/>
              </a:rPr>
              <a:t>OSCIL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124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213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tribución causal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4258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365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1970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2232000" cy="302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548640 h 3024000"/>
              <a:gd name="textAreaBottom" fmla="*/ 235224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41" stAng="-5400000" swAng="-5400000"/>
                <a:lnTo>
                  <a:pt x="0" y="12880"/>
                </a:lnTo>
                <a:arcTo wR="21600" hR="7841" stAng="10800000" swAng="-2745253"/>
                <a:lnTo>
                  <a:pt x="14400" y="21152"/>
                </a:lnTo>
                <a:lnTo>
                  <a:pt x="21600" y="18201"/>
                </a:lnTo>
                <a:lnTo>
                  <a:pt x="14400" y="14353"/>
                </a:lnTo>
                <a:lnTo>
                  <a:pt x="14400" y="15233"/>
                </a:lnTo>
                <a:arcTo wR="21600" hR="7841" stAng="8054747" swAng="2323926"/>
                <a:lnTo>
                  <a:pt x="1146" y="10360"/>
                </a:lnTo>
                <a:arcTo wR="21600" hR="7841" stAng="-10378673" swAng="4978673"/>
                <a:close/>
              </a:path>
              <a:path fill="darkenLess" w="21600" h="21600">
                <a:moveTo>
                  <a:pt x="21600" y="0"/>
                </a:moveTo>
                <a:arcTo wR="21600" hR="7841" stAng="-5400000" swAng="-5400000"/>
                <a:lnTo>
                  <a:pt x="0" y="7841"/>
                </a:lnTo>
                <a:arcTo wR="21600" hR="7841" stAng="10800000" swAng="-421327"/>
                <a:lnTo>
                  <a:pt x="1146" y="10360"/>
                </a:lnTo>
                <a:arcTo wR="21600" hR="7841" stAng="-10378673" swAng="4978673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6280"/>
            <a:ext cx="2017800" cy="3166920"/>
          </a:xfrm>
          <a:custGeom>
            <a:avLst/>
            <a:gdLst>
              <a:gd name="textAreaLeft" fmla="*/ 270360 w 2017800"/>
              <a:gd name="textAreaRight" fmla="*/ 1747440 w 2017800"/>
              <a:gd name="textAreaTop" fmla="*/ 585000 h 3166920"/>
              <a:gd name="textAreaBottom" fmla="*/ 23320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2709493"/>
                <a:lnTo>
                  <a:pt x="7450" y="21110"/>
                </a:lnTo>
                <a:lnTo>
                  <a:pt x="0" y="17929"/>
                </a:lnTo>
                <a:lnTo>
                  <a:pt x="7450" y="13767"/>
                </a:lnTo>
                <a:lnTo>
                  <a:pt x="7450" y="15472"/>
                </a:lnTo>
                <a:arcTo wR="21600" hR="7981" stAng="2709493" swAng="-2387503"/>
                <a:lnTo>
                  <a:pt x="20934" y="9948"/>
                </a:lnTo>
                <a:arcTo wR="21600" hR="7981" stAng="-321990" swAng="-5078010"/>
                <a:close/>
              </a:path>
              <a:path fill="darkenLess"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-321990"/>
                <a:lnTo>
                  <a:pt x="20934" y="9948"/>
                </a:lnTo>
                <a:arcTo wR="21600" hR="7981" stAng="-321990" swAng="-5078010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1268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utoconfianza Compul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Rab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341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nusvalía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298764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5157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NA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A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5229360"/>
            <a:ext cx="792000" cy="360360"/>
          </a:xfrm>
          <a:prstGeom prst="leftRightArrow">
            <a:avLst>
              <a:gd name="adj1" fmla="val 50000"/>
              <a:gd name="adj2" fmla="val 43753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4076640"/>
            <a:ext cx="3600360" cy="649440"/>
          </a:xfrm>
          <a:prstGeom prst="rect">
            <a:avLst/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0:55:12Z</dcterms:created>
  <dc:creator>Paula Vergara</dc:creator>
  <dc:description/>
  <dc:language>en-US</dc:language>
  <cp:lastModifiedBy>jorge</cp:lastModifiedBy>
  <cp:lastPrinted>2001-12-26T01:47:35Z</cp:lastPrinted>
  <dcterms:modified xsi:type="dcterms:W3CDTF">2004-04-03T09:25:35Z</dcterms:modified>
  <cp:revision>36</cp:revision>
  <dc:subject/>
  <dc:title>O.S.P.  DEPRESIVA</dc:title>
</cp:coreProperties>
</file>