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685-323B-48FD-913D-CDEB8351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7AB-7110-44CE-84A1-5F4EEAB0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3A7-DBF4-4D1F-A3D7-51655A28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A39-3698-4AF1-8003-15AB2675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837-1CB9-4401-AFB7-EEC67003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E09-5CA1-4135-AADA-C55BEE3D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AFB-DB72-4661-8043-AB9ED087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24B-2BEB-46AE-8026-88B32386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074-C7D5-4FF6-994E-47237B28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3DD-5C71-41FE-A98D-3AD1D00B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23F-585C-4B27-873F-652D269C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DD9-FA82-4BB1-8646-6926C1A5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04BF-9C7C-4416-B3F8-42CECAC4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905120"/>
            <a:ext cx="815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RODUCCIÓN A LA PSIC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4724280"/>
            <a:ext cx="67816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VERANO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609300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6920" y="1844640"/>
          <a:ext cx="7705800" cy="4415040"/>
        </p:xfrm>
        <a:graphic>
          <a:graphicData uri="http://schemas.openxmlformats.org/drawingml/2006/table">
            <a:tbl>
              <a:tblPr/>
              <a:tblGrid>
                <a:gridCol w="2040120"/>
                <a:gridCol w="2496960"/>
                <a:gridCol w="3168720"/>
              </a:tblGrid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ón Mente- cuer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cía cerebral; la mente guía y el cuerpo la sig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dad somatopsíquica: mente y cuerpo son inseparables e interdependi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ón Cognición- conducta- af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remacía racional: procesos intelectuales altos pueden y deberían dirigir conducta y afect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ismo: pensamientos, afectos y acción son estructural y funcionalmente inseparab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aleza de la emo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ciones como problemas: emociones negativas e intensas están para ser controladas o eliminad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ciones como poderosos y primitivos procesos de conocimiento: desordenes e intensidad afectiva son elementos naturales de desar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826920" y="1052640"/>
            <a:ext cx="792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FERENCIAS   ENTRE  LA PERSPECTIVA  RACIONALISTA  Y  LA  CONSTRUC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6597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95280" y="333360"/>
          <a:ext cx="8424720" cy="5564160"/>
        </p:xfrm>
        <a:graphic>
          <a:graphicData uri="http://schemas.openxmlformats.org/drawingml/2006/table">
            <a:tbl>
              <a:tblPr/>
              <a:tblGrid>
                <a:gridCol w="2160720"/>
                <a:gridCol w="2052360"/>
                <a:gridCol w="2105280"/>
                <a:gridCol w="21063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SM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-TIVISMO ‘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STEM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ION DE RE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a, única, externa e independiente 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da por reglas propias y accesibl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a, externa e independient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da por reglas propias y accesibl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pendencia sujeto / reali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lo es posible a partir de la experiencia de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rocesal y multidimen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IÓN DE SUJ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ánico. Pasivo.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 de estimulos y rea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inde de procesos mediacion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onal. Opera por las ideas que tiene respecto de sí mismo, los otros y el mundo. Reactivo / elabo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constructor de realidades person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activ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611280" y="1628640"/>
          <a:ext cx="8424720" cy="420372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-TIV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ESTU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tífic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tífico y procesos lógicos e inferenci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observ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 DE ESTU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a observa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más de la conducta observable, incorpora “procesos mediacionale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particular de significar la experi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340000" y="652464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UCTUR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3980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undt (fisiólogo, alem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8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Instrosp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a los elementos fundamentales que conforman las bases del pensamiento y otros estados men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uctura de la 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render de qué forma se combinan las sensaciones básicas para producir nuestra conciencia d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6308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illiam James (US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s.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ne atención en lo que hace la mente y las funciones de la actividad 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daptación al 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Aplicación esco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brevivencia como espe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6381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SPECTIVA BIO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ipócrates (A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aleno (s.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ey (s. X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organización de las células nerviosas a nivel individual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factores heredi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funcionamiento del cuerpo y emo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conductas instin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630864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PSICOANALI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gmund Freud (Aust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s.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Asociación L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mportamiento está motivado por fuerzas internas sobre las que la persona ejerce poco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jeto está determinado por fuerzas icc en conflicto en el aparato mental formado por tres instancias (Yo, Ello, Super- 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eterminantes inconscientes del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638172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PECTIVA 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DU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atson (1924), Skinner (’50), (U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be estudiar sólo la conducta observ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jeto no es objet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comprender el comportamiento humano al estudiar y modificar el ambiente de l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638172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HUMAN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raham Mas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rl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ce como reacción al Conduct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seres humanos estamos dotados  en forma natural con las capacidades de tomar decisiones respecto de nuestras vidas y controlar nuestras condu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tencialidades innatas de autor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6308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COGN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aron B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bert El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 + Ra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riva del Estructura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oncentra en la forma en que cada persona conoce, comprende y piensa acerca de sí mismo, los otros y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6381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900000" y="1413000"/>
          <a:ext cx="7775280" cy="4811760"/>
        </p:xfrm>
        <a:graphic>
          <a:graphicData uri="http://schemas.openxmlformats.org/drawingml/2006/table">
            <a:tbl>
              <a:tblPr/>
              <a:tblGrid>
                <a:gridCol w="2057400"/>
                <a:gridCol w="2315880"/>
                <a:gridCol w="340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 Ra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 Construc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ología (Naturaleza de la realid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ismo: realidad es singular, estable y exter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ismo: realidades son construcciones individuales y colectivas de un orden en la experi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stemoligía (teoría del conocimien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racionalista es autorizado como válido por la lógica y la razón; realidad es revelada a través de las sent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constructivista es tan  conductual y emocional  como cognitivo; la validación del conocimiento es menos importante que su viabilidad; sensación es proactiv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826920" y="476280"/>
            <a:ext cx="792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FERENCIAS   ENTRE  LA PERSPECTIVA  RACIONALISTA  Y  LA  CONSTRUC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6597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13:51:31Z</dcterms:created>
  <dc:creator>Andrea Ampuero</dc:creator>
  <dc:description/>
  <dc:language>en-US</dc:language>
  <cp:lastModifiedBy>Andrea Ampuero</cp:lastModifiedBy>
  <dcterms:modified xsi:type="dcterms:W3CDTF">2004-12-22T13:52:02Z</dcterms:modified>
  <cp:revision>1</cp:revision>
  <dc:subject/>
  <dc:title>Diapositiva 1</dc:title>
</cp:coreProperties>
</file>