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8ED4-786A-4E64-8346-BB4A36066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E3FE-CD9B-44F2-8C94-823AC6D8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7D01-95B8-4481-AEFB-15D51360D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8E33-C5EB-418B-B968-164761853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0CA9-D0BF-40D2-AA19-AB9E131C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21B9-CFAE-42A3-AA39-A69364A9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A6B5-33C6-4439-AAC2-577F0A45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3FCD-70DB-4E55-89BE-0EA36B4F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EB46-EF70-4E27-B9D4-2E275EF0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68AC-2446-450F-AB77-086EBD05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5D38-9862-4D2C-A547-6654D772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5171-3EDB-4E2E-8B27-684C0E03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004E-50D4-4AE6-9752-719B8E49F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1905120"/>
            <a:ext cx="81518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INTRODUCCIÓN A LA PSICOLOG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16000" y="4724280"/>
            <a:ext cx="678168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CUELA DE VERANO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35280" y="6093000"/>
            <a:ext cx="53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rupo Constructivista- Cognitivo. Universidad de Chil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826920" y="1844640"/>
          <a:ext cx="7705800" cy="4415040"/>
        </p:xfrm>
        <a:graphic>
          <a:graphicData uri="http://schemas.openxmlformats.org/drawingml/2006/table">
            <a:tbl>
              <a:tblPr/>
              <a:tblGrid>
                <a:gridCol w="2040120"/>
                <a:gridCol w="2496960"/>
                <a:gridCol w="3168720"/>
              </a:tblGrid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ción Mente- cuer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macía cerebral; la mente guía y el cuerpo la sigu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dad somatopsíquica: mente y cuerpo son inseparables e interdependient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ción Cognición- conducta- afec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remacía racional: procesos intelectuales altos pueden y deberían dirigir conducta y afect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lismo: pensamientos, afectos y acción son estructural y funcionalmente inseparabl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uraleza de la emo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ociones como problemas: emociones negativas e intensas están para ser controladas o eliminad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ociones como poderosos y primitivos procesos de conocimiento: desordenes e intensidad afectiva son elementos naturales de desarroll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826920" y="1052640"/>
            <a:ext cx="792180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IFERENCIAS   ENTRE  LA PERSPECTIVA  RACIONALISTA  Y  LA  CONSTRUCTIV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1280" y="6597720"/>
            <a:ext cx="53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rupo Constructivista- Cognitivo. Universidad de Chil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395280" y="333360"/>
          <a:ext cx="8424720" cy="5564160"/>
        </p:xfrm>
        <a:graphic>
          <a:graphicData uri="http://schemas.openxmlformats.org/drawingml/2006/table">
            <a:tbl>
              <a:tblPr/>
              <a:tblGrid>
                <a:gridCol w="2160720"/>
                <a:gridCol w="2052360"/>
                <a:gridCol w="2105280"/>
                <a:gridCol w="210636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ISM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GNITIVIS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‘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-TIVISMO ‘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STEMOLOG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tivi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tivi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tivi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CION DE REAL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a, única, externa e independiente  al sujet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ada por reglas propias y accesible al sujet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a, externa e independiente al sujet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ada por reglas propias y accesible al sujet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pendencia sujeto / realida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ólo es posible a partir de la experiencia del sujet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rocesal y multidimens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CIÓN DE SUJE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cánico. Pasivo. 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tor de estimulos y reac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cinde de procesos mediacional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ional. Opera por las ideas que tiene respecto de sí mismo, los otros y el mundo. Reactivo / elabor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-constructor de realidades personal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activ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611280" y="1628640"/>
          <a:ext cx="8424720" cy="4203720"/>
        </p:xfrm>
        <a:graphic>
          <a:graphicData uri="http://schemas.openxmlformats.org/drawingml/2006/table">
            <a:tbl>
              <a:tblPr/>
              <a:tblGrid>
                <a:gridCol w="2106720"/>
                <a:gridCol w="2106360"/>
                <a:gridCol w="2105280"/>
                <a:gridCol w="2106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GNITIV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-TIV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ÉTODO DE ESTU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entífic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entífico y procesos lógicos e inferencial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observ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O DE ESTU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a observab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endid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emás de la conducta observable, incorpora “procesos mediacionales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 particular de significar la experienc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2340000" y="6524640"/>
            <a:ext cx="53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rupo Constructivista- Cognitivo. Universidad de Chil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STRUCTURALIS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639800"/>
            <a:ext cx="3394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Wundt (fisiólogo, alemá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8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étodo: Instrospec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udia los elementos fundamentales que conforman las bases del pensamiento y otros estados ment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ructura de la 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prender de qué forma se combinan las sensaciones básicas para producir nuestra conciencia del mu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0920" y="6308640"/>
            <a:ext cx="53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rupo Constructivista- Cognitivo. Universidad de Chil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UNCIONALIS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William James (USA)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incipios s. 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étodo: 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one atención en lo que hace la mente y las funciones de la actividad m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daptación al entor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(Aplicación escol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obrevivencia como espec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24000" y="6381720"/>
            <a:ext cx="53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rupo Constructivista- Cognitivo. Universidad de Chil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ERSPECTIVA BIOLÓG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Hipócrates (A.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aleno (s. 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rey (s. XI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étodo: Científ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ud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- organización de las células nerviosas a nivel individual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- factores heredi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- funcionamiento del cuerpo y emo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- conductas instin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95640" y="6308640"/>
            <a:ext cx="53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rupo Constructivista- Cognitivo. Universidad de Chil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ERSPECTIVA  PSICOANALI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gmund Freud (Austr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incipios s. 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étodo: Asociación Li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comportamiento está motivado por fuerzas internas sobre las que la persona ejerce poco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jeto está determinado por fuerzas icc en conflicto en el aparato mental formado por tres instancias (Yo, Ello, Super- Y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isten determinantes inconscientes del comport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95640" y="6381720"/>
            <a:ext cx="53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rupo Constructivista- Cognitivo. Universidad de Chil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SPECTIVA 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ONDUCT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Watson (1924), Skinner (’50), (U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étodo: Científ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debe estudiar sólo la conducta observ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jeto no es objeto de est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puede comprender el comportamiento humano al estudiar y modificar el ambiente de las perso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95640" y="6381720"/>
            <a:ext cx="53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rupo Constructivista- Cognitivo. Universidad de Chil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ERSPECTIVA  HUMANI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braham Masl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rl Ro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étodo: 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ace como reacción al Conduct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seres humanos estamos dotados  en forma natural con las capacidades de tomar decisiones respecto de nuestras vidas y controlar nuestras conduc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otencialidades innatas de autorre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24000" y="6308640"/>
            <a:ext cx="53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rupo Constructivista- Cognitivo. Universidad de Chil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ERSPECTIVA  COGNI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aron B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lbert El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étodo: Científico + Racion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riva del Estructural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concentra en la forma en que cada persona conoce, comprende y piensa acerca de sí mismo, los otros y el mu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24000" y="6381720"/>
            <a:ext cx="53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rupo Constructivista- Cognitivo. Universidad de Chil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900000" y="1413000"/>
          <a:ext cx="7775280" cy="4811760"/>
        </p:xfrm>
        <a:graphic>
          <a:graphicData uri="http://schemas.openxmlformats.org/drawingml/2006/table">
            <a:tbl>
              <a:tblPr/>
              <a:tblGrid>
                <a:gridCol w="2057400"/>
                <a:gridCol w="2315880"/>
                <a:gridCol w="3402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Á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spectiva Racionali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spectiva Constructivi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tología (Naturaleza de la realid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lismo: realidad es singular, estable y extern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tivismo: realidades son construcciones individuales y colectivas de un orden en la experienc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lti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pistemoligía (teoría del conocimient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ocimiento racionalista es autorizado como válido por la lógica y la razón; realidad es revelada a través de las sentid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ocimiento constructivista es tan  conductual y emocional  como cognitivo; la validación del conocimiento es menos importante que su viabilidad; sensación es proactiv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826920" y="476280"/>
            <a:ext cx="792180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IFERENCIAS   ENTRE  LA PERSPECTIVA  RACIONALISTA  Y  LA  CONSTRUCTIV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11280" y="6597720"/>
            <a:ext cx="53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rupo Constructivista- Cognitivo. Universidad de Chil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2T13:51:31Z</dcterms:created>
  <dc:creator>Andrea Ampuero</dc:creator>
  <dc:description/>
  <dc:language>en-US</dc:language>
  <cp:lastModifiedBy>Andrea Ampuero</cp:lastModifiedBy>
  <dcterms:modified xsi:type="dcterms:W3CDTF">2004-12-22T13:52:02Z</dcterms:modified>
  <cp:revision>1</cp:revision>
  <dc:subject/>
  <dc:title>Diapositiva 1</dc:title>
</cp:coreProperties>
</file>