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C59-64FE-471C-8E65-2620F1FE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368-B0E1-4942-B17C-F685FF37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277-0281-49DB-8DF7-226857F7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B06-103C-429C-A6C9-90BE41A9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030-8F6D-43CF-B410-60CD9164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F80-9246-4BA0-901F-C08C3724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D90-D47B-4D57-84D9-84551D02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46E-B373-4FFF-96BF-BF3A30BD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F07-886A-4A84-9956-AEACA0A2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13A-3633-4A32-8E9E-B0EB67BE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C5B-4CC0-49E7-89AB-9FC0250B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C0B-C6BC-45D2-A9F1-A6A531C6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4D25-4BA8-47B3-95C4-38CCDFA63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905120"/>
            <a:ext cx="815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TRODUCCIÓN A LA PSIC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4724280"/>
            <a:ext cx="67816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UELA DE VERANO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609300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26920" y="1844640"/>
          <a:ext cx="7705800" cy="4415040"/>
        </p:xfrm>
        <a:graphic>
          <a:graphicData uri="http://schemas.openxmlformats.org/drawingml/2006/table">
            <a:tbl>
              <a:tblPr/>
              <a:tblGrid>
                <a:gridCol w="2040120"/>
                <a:gridCol w="2496960"/>
                <a:gridCol w="3168720"/>
              </a:tblGrid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ón Mente- cuer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cía cerebral; la mente guía y el cuerpo la sig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dad somatopsíquica: mente y cuerpo son inseparables e interdependi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ón Cognición- conducta- af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remacía racional: procesos intelectuales altos pueden y deberían dirigir conducta y afect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ismo: pensamientos, afectos y acción son estructural y funcionalmente inseparab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aleza de la emo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ciones como problemas: emociones negativas e intensas están para ser controladas o eliminad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ciones como poderosos y primitivos procesos de conocimiento: desordenes e intensidad afectiva son elementos naturales de desar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826920" y="1052640"/>
            <a:ext cx="792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FERENCIAS   ENTRE  LA PERSPECTIVA  RACIONALISTA  Y  LA  CONSTRUC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6597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95280" y="333360"/>
          <a:ext cx="8424720" cy="5564160"/>
        </p:xfrm>
        <a:graphic>
          <a:graphicData uri="http://schemas.openxmlformats.org/drawingml/2006/table">
            <a:tbl>
              <a:tblPr/>
              <a:tblGrid>
                <a:gridCol w="2160720"/>
                <a:gridCol w="2052360"/>
                <a:gridCol w="2105280"/>
                <a:gridCol w="21063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SM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‘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-TIVISMO ‘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STEM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CION DE RE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a, única, externa e independiente 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da por reglas propias y accesible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a, externa e independiente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da por reglas propias y accesible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pendencia sujeto / reali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ólo es posible a partir de la experiencia de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rocesal y multidimens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CIÓN DE SUJ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ánico. Pasivo.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 de estimulos y reac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inde de procesos mediacion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onal. Opera por las ideas que tiene respecto de sí mismo, los otros y el mundo. Reactivo / elabo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constructor de realidades person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activ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611280" y="1628640"/>
          <a:ext cx="8424720" cy="4203720"/>
        </p:xfrm>
        <a:graphic>
          <a:graphicData uri="http://schemas.openxmlformats.org/drawingml/2006/table">
            <a:tbl>
              <a:tblPr/>
              <a:tblGrid>
                <a:gridCol w="2106720"/>
                <a:gridCol w="2106360"/>
                <a:gridCol w="2105280"/>
                <a:gridCol w="210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-TIV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ESTU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tífic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tífico y procesos lógicos e inferenci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observ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 DE ESTU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a observa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más de la conducta observable, incorpora “procesos mediacionale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 particular de significar la experi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340000" y="652464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UCTUR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3980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undt (fisiólogo, alem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8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Instrosp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udia los elementos fundamentales que conforman las bases del pensamiento y otros estados men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uctura de la 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render de qué forma se combinan las sensaciones básicas para producir nuestra conciencia d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6308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illiam James (US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s.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ne atención en lo que hace la mente y las funciones de la actividad 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daptación al ento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Aplicación esco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brevivencia como espe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6381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SPECTIVA BIO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ipócrates (A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aleno (s.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ey (s. X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Cient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ud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organización de las células nerviosas a nivel individual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factores heredi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funcionamiento del cuerpo y emo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conductas instin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630864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  PSICOANALI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gmund Freud (Aust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s.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Asociación L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omportamiento está motivado por fuerzas internas sobre las que la persona ejerce poco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jeto está determinado por fuerzas icc en conflicto en el aparato mental formado por tres instancias (Yo, Ello, Super- 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determinantes inconscientes del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638172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SPECTIVA 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NDU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atson (1924), Skinner (’50), (U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Cient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be estudiar sólo la conducta observ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jeto no es objeto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 comprender el comportamiento humano al estudiar y modificar el ambiente de l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638172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  HUMAN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raham Mas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rl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ce como reacción al Conduct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seres humanos estamos dotados  en forma natural con las capacidades de tomar decisiones respecto de nuestras vidas y controlar nuestras conduc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tencialidades innatas de autor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6308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  COGN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aron B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bert El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Científico + Ra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riva del Estructura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oncentra en la forma en que cada persona conoce, comprende y piensa acerca de sí mismo, los otros y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6381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900000" y="1413000"/>
          <a:ext cx="7775280" cy="4811760"/>
        </p:xfrm>
        <a:graphic>
          <a:graphicData uri="http://schemas.openxmlformats.org/drawingml/2006/table">
            <a:tbl>
              <a:tblPr/>
              <a:tblGrid>
                <a:gridCol w="2057400"/>
                <a:gridCol w="2315880"/>
                <a:gridCol w="340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Á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 Racional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 Construc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ología (Naturaleza de la realid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ismo: realidad es singular, estable y exter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ivismo: realidades son construcciones individuales y colectivas de un orden en la experi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istemoligía (teoría del conocimien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ocimiento racionalista es autorizado como válido por la lógica y la razón; realidad es revelada a través de las sent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ocimiento constructivista es tan  conductual y emocional  como cognitivo; la validación del conocimiento es menos importante que su viabilidad; sensación es proactiv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826920" y="476280"/>
            <a:ext cx="792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FERENCIAS   ENTRE  LA PERSPECTIVA  RACIONALISTA  Y  LA  CONSTRUC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6597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13:51:31Z</dcterms:created>
  <dc:creator>Andrea Ampuero</dc:creator>
  <dc:description/>
  <dc:language>en-US</dc:language>
  <cp:lastModifiedBy>Andrea Ampuero</cp:lastModifiedBy>
  <dcterms:modified xsi:type="dcterms:W3CDTF">2004-12-22T13:52:02Z</dcterms:modified>
  <cp:revision>1</cp:revision>
  <dc:subject/>
  <dc:title>Diapositiva 1</dc:title>
</cp:coreProperties>
</file>