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C09-1D71-471E-8FAC-DBB2AE1B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D2E-A9D9-40FC-8193-58353626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25C-3DC1-4E6F-8740-864D6783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E7B-9957-42FD-8C09-EC2DE9B5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0BC-27EF-4B7B-AA19-79286B1E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609-7CD2-44DB-8247-93FC47AA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B37-A071-407C-BFDE-5A646316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E1A-710D-4A5D-8A93-355BFF7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CB0-62B0-4E17-9242-7B8CC45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BBB-3C4F-400A-94C9-66FAA20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B36-DA62-4B40-80A1-73F9797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937-FB1F-4134-AD24-7459BB7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35E-6C72-4683-B5A0-23E81674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RODUCCIÓN A LA PSIC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6920" y="1844640"/>
          <a:ext cx="7705800" cy="4415040"/>
        </p:xfrm>
        <a:graphic>
          <a:graphicData uri="http://schemas.openxmlformats.org/drawingml/2006/table">
            <a:tbl>
              <a:tblPr/>
              <a:tblGrid>
                <a:gridCol w="2040120"/>
                <a:gridCol w="2496960"/>
                <a:gridCol w="316872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Mente- cuer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cía cerebral; la mente guía y el cuerpo la sig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dad somatopsíquica: mente y cuerpo son inseparables e interdependi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Cognición- conducta- af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remacía racional: procesos intelectuales altos pueden y deberían dirigir conducta y afec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ismo: pensamientos, afectos y acción son estructural y funcionalmente inseparab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eza de la e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roblemas: emociones negativas e intensas están para ser controladas o elimin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oderosos y primitivos procesos de conocimiento: desordenes e intensidad afectiva son elementos naturales de desar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26920" y="105264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5280" y="333360"/>
          <a:ext cx="8424720" cy="5564160"/>
        </p:xfrm>
        <a:graphic>
          <a:graphicData uri="http://schemas.openxmlformats.org/drawingml/2006/table">
            <a:tbl>
              <a:tblPr/>
              <a:tblGrid>
                <a:gridCol w="2160720"/>
                <a:gridCol w="2052360"/>
                <a:gridCol w="2105280"/>
                <a:gridCol w="21063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 ‘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STEM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ON DE RE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única, externa e independiente 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externa e independient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pendencia sujeto / reali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es posible a partir de la experiencia de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rocesal y multidimen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ÓN DE SUJ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ánico. Pasivo.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 de estimulos y re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inde de procesos mediaci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onal. Opera por las ideas que tiene respecto de sí mismo, los otros y el mundo. Reactivo / elabo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constructor de realidades pers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activ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11280" y="1628640"/>
          <a:ext cx="8424720" cy="42037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 y procesos lógicos e inferen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a observa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más de la conducta observable, incorpora “procesos mediacionale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particular de significar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340000" y="6524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UCTU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3980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undt (fisiólogo, alem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8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Instrosp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 los elementos fundamentales que conforman las bases del pensamiento y otros estados men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a 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render de qué forma se combinan las sensaciones básicas para producir nuestra conciencia d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illiam James (US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ne atención en lo que hace la mente y las funciones de la actividad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aptación al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Aplicación esco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brevivencia como espe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SPECTIVA BI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ipócrates (A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leno (s.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ey (s. X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organización de las células nerviosas a nivel individual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actores heredi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uncionamiento del cuerpo y emo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conductas instin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6308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PSICOANAL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mund Freud (Aust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Asociación L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mportamiento está motivado por fuerzas internas sobre las que la persona ejerce poco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está determinado por fuerzas icc en conflicto en el aparato mental formado por tres instancias (Yo, Ello, Super- 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eterminantes inconscientes del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PECTIVA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DU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atson (1924), Skinner (’50),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 estudiar sólo la conducta obser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no es objet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comprender el comportamiento humano al estudiar y modificar el ambiente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HUMAN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aham Mas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l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ce como reacción al Conduct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eres humanos estamos dotados  en forma natural con las capacidades de tomar decisiones respecto de nuestras vidas y controlar nuestras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tencialidades innatas de autor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COGN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aron B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bert El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 + Ra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riva del Estructur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ncentra en la forma en que cada persona conoce, comprende y piensa acerca de sí mismo, los otros y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00000" y="1413000"/>
          <a:ext cx="7775280" cy="4811760"/>
        </p:xfrm>
        <a:graphic>
          <a:graphicData uri="http://schemas.openxmlformats.org/drawingml/2006/table">
            <a:tbl>
              <a:tblPr/>
              <a:tblGrid>
                <a:gridCol w="2057400"/>
                <a:gridCol w="2315880"/>
                <a:gridCol w="340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Ra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ología (Naturaleza de la realid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ismo: realidad es singular, estable y exter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ismo: realidades son construcciones individuales y colectivas de un orden en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stemoligía (teoría del conocimie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racionalista es autorizado como válido por la lógica y la razón; realidad es revelada a través de las sent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constructivista es tan  conductual y emocional  como cognitivo; la validación del conocimiento es menos importante que su viabilidad; sensación es proactiv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826920" y="47628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51:31Z</dcterms:created>
  <dc:creator>Andrea Ampuero</dc:creator>
  <dc:description/>
  <dc:language>en-US</dc:language>
  <cp:lastModifiedBy>Andrea Ampuero</cp:lastModifiedBy>
  <dcterms:modified xsi:type="dcterms:W3CDTF">2004-12-22T13:52:02Z</dcterms:modified>
  <cp:revision>1</cp:revision>
  <dc:subject/>
  <dc:title>Diapositiva 1</dc:title>
</cp:coreProperties>
</file>