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5C58-3A8D-45E4-86CF-0CF6A8F3C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13E1-0A29-482D-B8A3-0A3559897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1B2B-65F9-4422-888D-6205AF300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B07C-D615-42A6-8F83-6A3815DD3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9020-08C4-4C38-820B-2454F1937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57BB-C3E4-43EB-8B38-63A75A66D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6923-09DE-417A-ACB1-2BE65C4D4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9EDA-FB15-42D5-BD4A-934CDF1D9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06B1-D7CC-4AEB-B596-A60AB4696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6350-40C3-4344-9E92-51EE20C5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CDD4-8549-422B-9749-F2BF1998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D8FB-CCB8-4D21-A5EA-84A98DFD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29F67-6A0F-475E-A6FC-D29612AB6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715000" y="640080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cuela de verano_ 2005 Introducción a la psicolog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9900"/>
                </a:solidFill>
                <a:latin typeface="Arial"/>
              </a:rPr>
              <a:t>Atención, Sensación y Percep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9120" y="164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19640" y="2349360"/>
            <a:ext cx="2016000" cy="459720"/>
          </a:xfrm>
          <a:prstGeom prst="rect">
            <a:avLst/>
          </a:prstGeom>
          <a:noFill/>
          <a:ln cap="sq"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NS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2349360"/>
            <a:ext cx="2160720" cy="459720"/>
          </a:xfrm>
          <a:prstGeom prst="rect">
            <a:avLst/>
          </a:prstGeom>
          <a:noFill/>
          <a:ln cap="sq"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ERCEP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2349360"/>
            <a:ext cx="1873080" cy="459720"/>
          </a:xfrm>
          <a:prstGeom prst="rect">
            <a:avLst/>
          </a:prstGeom>
          <a:noFill/>
          <a:ln cap="sq"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TE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2349360"/>
            <a:ext cx="360360" cy="4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651640" y="2349360"/>
            <a:ext cx="360360" cy="4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5640" y="3213000"/>
            <a:ext cx="2087640" cy="2378160"/>
          </a:xfrm>
          <a:prstGeom prst="rect">
            <a:avLst/>
          </a:prstGeom>
          <a:noFill/>
          <a:ln cap="sq"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ES  LA   ORIENTACIÓN   DE NUESTRA   VIDA    PSIQUICA (CONCIENCIA)   HACIA   ALGO QUE   SE   EXPERIMENTA   EN ESE   MOMENTO”              (Arellano, 200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Lo que se experimenta son estímulos, y éstos  pueden ser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Estímulos inter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Estímulos exter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3357720"/>
            <a:ext cx="2232000" cy="824040"/>
          </a:xfrm>
          <a:prstGeom prst="rect">
            <a:avLst/>
          </a:prstGeom>
          <a:noFill/>
          <a:ln cap="sq"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STIMULACIÓN DE LOS ORGANOS SENSORI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3429000"/>
            <a:ext cx="2160720" cy="1310760"/>
          </a:xfrm>
          <a:prstGeom prst="rect">
            <a:avLst/>
          </a:prstGeom>
          <a:noFill/>
          <a:ln cap="sq"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roceso de Organización, Interpretación, análisis e Integración de estímulo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15000" y="640080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cuela de verano_ 2005 Introducción a la psicolog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Arial"/>
              </a:rPr>
              <a:t>Atención, Sensación y Percep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981000"/>
            <a:ext cx="8497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psicología  Estudia la naturaleza de la información que recibe nuestro cuerpo mediante sus sentidos y la forma en que interpretamos dicha informa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tención: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rientación de nuestra vida psíquica (conciencia ) hacia algo que se experimenta en ese mo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Sensación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 estimulación de los órganos sensor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ercepción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 organización, interpretación, análisis e integración de los estímulos que implican a nuestros órganos sensoriales y al cereb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15000" y="640080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cuela de verano_ 2005 Introducción a la psicolog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24000" y="404640"/>
            <a:ext cx="8820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estudio del comportamiento involucra comprender como funcionan sensación percep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ortamiento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fleja  la forma en que reaccionamos ante los estímul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percepción representa un paso más allá de la sensación, es difícil distinguir los límites precisos entre amb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ensación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imer encuentro de un organismo con un estímulo sensorial brut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rcepción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proceso mediante el cual se interpreta, analiza e integ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estímulo con otra información sensori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24000" y="1484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08000" y="3141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79640" y="422100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68360" y="260280"/>
            <a:ext cx="835164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incipales sent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udi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Olf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Gust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acto y experiencia del dol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4724280"/>
            <a:ext cx="7993080" cy="1368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os sentidos trabajan juntos para proporcionarnos u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isión y una comprensión integradas del mun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260280"/>
            <a:ext cx="8435880" cy="58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ímulo: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ergía que produce una respuesta en un órgano senso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sicofísica: estudio de la relación entre la naturaleza física de los estímulos y las respuestas sensoriales que evo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mbral absoluto: intensidad mínima de un estímulo que debe estar presente para que éste sea detec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mbral diferencial : mínima diferencia detectable entre dos estímulos o diferencia apenas percept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4292640"/>
            <a:ext cx="8713800" cy="2016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Ley de Weber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: establece que una diferencia apenas perceptible es u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proporción constante de la intensidad de un estímulo inic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Adaptación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: ajuste en la capacidad sensorial después de una expo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prolongada a los estímulos</a:t>
            </a:r>
            <a:r>
              <a:rPr b="0" i="1" lang="es-CL" sz="1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2T13:38:49Z</dcterms:created>
  <dc:creator>Andrea Ampuero</dc:creator>
  <dc:description/>
  <dc:language>en-US</dc:language>
  <cp:lastModifiedBy>Andrea Ampuero</cp:lastModifiedBy>
  <dcterms:modified xsi:type="dcterms:W3CDTF">2004-12-27T17:48:09Z</dcterms:modified>
  <cp:revision>2</cp:revision>
  <dc:subject/>
  <dc:title>Diapositiva 1</dc:title>
</cp:coreProperties>
</file>