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A3A-5CF2-4624-A596-446DD8F1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23F-1994-4003-872C-12016A9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279-F5E3-4BD9-B2E5-D35C14FC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A29-B160-481C-82B1-F428EF27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E0D-6BB4-4C82-B499-085AA10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5FB-92DF-4000-90D7-CA0B5EDD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3AC-DB30-4BF2-8110-D471BDE9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C11-3B38-428C-83E7-82BD796F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C86-5FDF-4EA2-A976-7D2ED21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60F-CA96-474A-B388-F69E6C5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614-9D75-4C74-8939-E9EBBC9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D36-3453-4C00-903E-1A1FF0E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8311-8587-4D20-B13A-60F5BE37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2349360"/>
            <a:ext cx="216072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Atención, Sensación y Per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849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sicología  Estudia la naturaleza de la información que recibe nuestro cuerpo mediante sus sentidos y la forma en que interpretamos dicha infor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ten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entación de nuestra vida psíquica (conciencia ) hacia algo que se experimenta en ese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ns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timulación de los órgano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organización, interpretación, análisis e integración de los estímulos que implican a nuestros órganos sensoriales y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8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udio del comportamiento involucra comprender como funcionan sensación perce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leja  la forma en que reaccionamos ante los estímu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cepción representa un paso más allá de la sensación, es difícil distinguir los límites precisos entre amb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ns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er encuentro de un organismo con un estímulo sensorial bru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cep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 mediante el cual se interpreta, analiza e integ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ímulo con otra información senso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48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3516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ncipales sen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d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l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us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cto y experiencia del d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24280"/>
            <a:ext cx="799308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ntidos trabajan juntos para proporcionarnos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sión y una comprensión integrada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ergía que produce una respuesta en un órgano sens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icofísica: estudio de la relación entre la naturaleza física de los estímulos y las respuestas sensoriales que ev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bral absoluto: intensidad mínima de un estímulo que debe estar presente para que éste sea dete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bral diferencial : mínima diferencia detectable entre dos estímulos o diferencia apenas per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292640"/>
            <a:ext cx="87138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ey de Weber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establece que una diferencia apenas perceptible es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porción constante de la intensidad de un estímul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ajuste en la capacidad sensorial después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longada a los estímulos</a:t>
            </a:r>
            <a:r>
              <a:rPr b="0" i="1" lang="es-CL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38:49Z</dcterms:created>
  <dc:creator>Andrea Ampuero</dc:creator>
  <dc:description/>
  <dc:language>en-US</dc:language>
  <cp:lastModifiedBy>Andrea Ampuero</cp:lastModifiedBy>
  <dcterms:modified xsi:type="dcterms:W3CDTF">2004-12-27T17:48:09Z</dcterms:modified>
  <cp:revision>2</cp:revision>
  <dc:subject/>
  <dc:title>Diapositiva 1</dc:title>
</cp:coreProperties>
</file>