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A58-1692-498E-9A9C-3EFA87EF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B7F-843A-4421-950B-31B239DA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1E1-55DC-42DF-8A50-392B0125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A4E-A662-45F8-9FFC-25C66946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50D-DD4E-46C1-B197-E53A0273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CB2-84C2-4FEE-B39B-3359DB35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8B3-C338-499A-ABAA-3D2B392D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EFF-F045-4D62-9976-890E3CD6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A21-C749-4311-978F-1169C8D1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D30-F2D3-4B14-AEB1-4672911A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900-AC58-4492-AD38-9C6EF1A3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849-F296-4126-BF61-433B9A6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6C1F-480D-4A7E-9482-54ED4321E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9900"/>
                </a:solidFill>
                <a:latin typeface="Arial"/>
              </a:rPr>
              <a:t>Atención, Sensación y Perce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16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2349360"/>
            <a:ext cx="2016000" cy="45972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NS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2349360"/>
            <a:ext cx="2160720" cy="45972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349360"/>
            <a:ext cx="1873080" cy="45972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51640" y="2349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213000"/>
            <a:ext cx="2087640" cy="237816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  LA   ORIENTACIÓN   DE NUESTRA   VIDA    PSIQUICA (CONCIENCIA)   HACIA   ALGO QUE   SE   EXPERIMENTA   EN ESE   MOMENTO”              (Arellano, 200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Lo que se experimenta son estímulos, y éstos  pueden s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tímulos inter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Estímulos exter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3357720"/>
            <a:ext cx="2232000" cy="82404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STIMULACIÓN DE LOS ORGANOS SENSO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3429000"/>
            <a:ext cx="2160720" cy="1310760"/>
          </a:xfrm>
          <a:prstGeom prst="rect">
            <a:avLst/>
          </a:prstGeom>
          <a:noFill/>
          <a:ln cap="sq"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ceso de Organización, Interpretación, análisis e Integración de estímulo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Arial"/>
              </a:rPr>
              <a:t>Atención, Sensación y Perce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981000"/>
            <a:ext cx="849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sicología  Estudia la naturaleza de la información que recibe nuestro cuerpo mediante sus sentidos y la forma en que interpretamos dicha inform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tención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rientación de nuestra vida psíquica (conciencia ) hacia algo que se experimenta en ese mo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nsa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timulación de los órganos senso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organización, interpretación, análisis e integración de los estímulos que implican a nuestros órganos sensoriales y al cere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640080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cuela de verano_ 2005 Introducción a la psic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404640"/>
            <a:ext cx="882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estudio del comportamiento involucra comprender como funcionan sensación percep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ortamient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leja  la forma en que reaccionamos ante los estímu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ercepción representa un paso más allá de la sensación, es difícil distinguir los límites precisos entre amb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ensació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er encuentro de un organismo con un estímulo sensorial brut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ercep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proceso mediante el cual se interpreta, analiza e integ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estímulo con otra información sensori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1484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8000" y="3141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422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35164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incipales sen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udi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l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us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cto y experiencia del d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24280"/>
            <a:ext cx="7993080" cy="136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sentidos trabajan juntos para proporcionarnos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sión y una comprensión integradas d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60280"/>
            <a:ext cx="843588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ímulo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ergía que produce una respuesta en un órgano sens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sicofísica: estudio de la relación entre la naturaleza física de los estímulos y las respuestas sensoriales que ev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bral absoluto: intensidad mínima de un estímulo que debe estar presente para que éste sea detec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mbral diferencial : mínima diferencia detectable entre dos estímulos o diferencia apenas per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4292640"/>
            <a:ext cx="8713800" cy="2016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Ley de Weber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establece que una diferencia apenas perceptible es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roporción constante de la intensidad de un estímulo in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daptación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: ajuste en la capacidad sensorial después de una expo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rolongada a los estímulos</a:t>
            </a:r>
            <a:r>
              <a:rPr b="0" i="1" lang="es-CL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3:38:49Z</dcterms:created>
  <dc:creator>Andrea Ampuero</dc:creator>
  <dc:description/>
  <dc:language>en-US</dc:language>
  <cp:lastModifiedBy>Andrea Ampuero</cp:lastModifiedBy>
  <dcterms:modified xsi:type="dcterms:W3CDTF">2004-12-27T17:48:09Z</dcterms:modified>
  <cp:revision>2</cp:revision>
  <dc:subject/>
  <dc:title>Diapositiva 1</dc:title>
</cp:coreProperties>
</file>