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C3819-570D-49A6-8926-60DDF40A8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E4B9-E208-49CE-830A-E067CB79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C51E6-F634-42E2-81AA-3D47530CC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BDF2-847D-4464-96B0-CABB0CF5B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DEEA2-0393-44AB-A8E4-279283098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B73FE-5355-4FE8-B4F4-A81DAA34A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501A3-4F50-4E44-AC59-7154BFB6D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A48C7-2375-467D-9C3D-DAC9530F0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F0DB6-B800-4DE3-9A1D-B26F28CC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235A-7577-405C-B9B7-A062759E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B530-3246-4414-8CAB-A71EE8AD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AE7A-2C13-4232-A097-0E045100A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1378-78F9-47FF-A5D5-A1564512E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151920"/>
            <a:ext cx="8305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sicopatología  </a:t>
            </a:r>
            <a:r>
              <a:rPr b="0" lang="es-ES_tradnl" sz="2000" spc="-1" strike="noStrike">
                <a:solidFill>
                  <a:srgbClr val="000000"/>
                </a:solidFill>
                <a:latin typeface="Arial"/>
              </a:rPr>
              <a:t>estudio de los trastornos mentales</a:t>
            </a: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
          <p:cNvSpPr/>
          <p:nvPr/>
        </p:nvSpPr>
        <p:spPr>
          <a:xfrm>
            <a:off x="0" y="1108080"/>
            <a:ext cx="8915400" cy="500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Diferenciación entre normalidad y anormalidad</a:t>
            </a:r>
            <a:endParaRPr b="0" lang="en-US" sz="28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promedio:</a:t>
            </a:r>
            <a:r>
              <a:rPr b="0" lang="es-ES_tradnl" sz="3200" spc="-1" strike="noStrike">
                <a:solidFill>
                  <a:srgbClr val="000000"/>
                </a:solidFill>
                <a:latin typeface="Arial"/>
              </a:rPr>
              <a:t> </a:t>
            </a:r>
            <a:r>
              <a:rPr b="0" lang="es-ES_tradnl" sz="2000" spc="-1" strike="noStrike">
                <a:solidFill>
                  <a:srgbClr val="000000"/>
                </a:solidFill>
                <a:latin typeface="Arial"/>
              </a:rPr>
              <a:t>enfoque estadístic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esviación del ideal:</a:t>
            </a:r>
            <a:r>
              <a:rPr b="0" lang="es-ES_tradnl" sz="3200" spc="-1" strike="noStrike">
                <a:solidFill>
                  <a:srgbClr val="000000"/>
                </a:solidFill>
                <a:latin typeface="Arial"/>
              </a:rPr>
              <a:t> </a:t>
            </a:r>
            <a:r>
              <a:rPr b="0" lang="es-ES_tradnl" sz="2000" spc="-1" strike="noStrike">
                <a:solidFill>
                  <a:srgbClr val="000000"/>
                </a:solidFill>
                <a:latin typeface="Arial"/>
              </a:rPr>
              <a:t>relación con  supuesta norma “el ideal</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400" spc="-1" strike="noStrike">
                <a:solidFill>
                  <a:srgbClr val="000000"/>
                </a:solidFill>
                <a:latin typeface="Arial"/>
              </a:rPr>
              <a:t>Forma de malestar subjetivo</a:t>
            </a:r>
            <a:r>
              <a:rPr b="0" lang="es-ES_tradnl" sz="2800" spc="-1" strike="noStrike">
                <a:solidFill>
                  <a:srgbClr val="000000"/>
                </a:solidFill>
                <a:latin typeface="Arial"/>
              </a:rPr>
              <a:t>:</a:t>
            </a:r>
            <a:r>
              <a:rPr b="0" lang="es-ES_tradnl" sz="3200" spc="-1" strike="noStrike">
                <a:solidFill>
                  <a:srgbClr val="000000"/>
                </a:solidFill>
                <a:latin typeface="Arial"/>
              </a:rPr>
              <a:t> </a:t>
            </a:r>
            <a:r>
              <a:rPr b="0" lang="es-ES_tradnl" sz="1800" spc="-1" strike="noStrike">
                <a:solidFill>
                  <a:srgbClr val="000000"/>
                </a:solidFill>
                <a:latin typeface="Arial"/>
              </a:rPr>
              <a:t>centrado en las</a:t>
            </a:r>
            <a:r>
              <a:rPr b="0" lang="es-ES_tradnl" sz="3200" spc="-1" strike="noStrike">
                <a:solidFill>
                  <a:srgbClr val="000000"/>
                </a:solidFill>
                <a:latin typeface="Arial"/>
              </a:rPr>
              <a:t> </a:t>
            </a:r>
            <a:r>
              <a:rPr b="0" lang="es-ES_tradnl" sz="2000" spc="-1" strike="noStrike">
                <a:solidFill>
                  <a:srgbClr val="000000"/>
                </a:solidFill>
                <a:latin typeface="Arial"/>
              </a:rPr>
              <a:t>consecuencias psicológicas de la conducta para el individuo</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Incapacidad para desempeñarse de manera efectiva:</a:t>
            </a:r>
            <a:r>
              <a:rPr b="0" lang="es-ES_tradnl" sz="3200" spc="-1" strike="noStrike">
                <a:solidFill>
                  <a:srgbClr val="000000"/>
                </a:solidFill>
                <a:latin typeface="Arial"/>
              </a:rPr>
              <a:t> </a:t>
            </a:r>
            <a:r>
              <a:rPr b="0" lang="es-ES_tradnl" sz="2000" spc="-1" strike="noStrike">
                <a:solidFill>
                  <a:srgbClr val="000000"/>
                </a:solidFill>
                <a:latin typeface="Arial"/>
              </a:rPr>
              <a:t>anormales son quienes son incapaces de desempeñarse de forma efectiva y no logran adaptarse a las exigencias de la sociedad</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cepto legal:</a:t>
            </a:r>
            <a:r>
              <a:rPr b="0" lang="es-ES_tradnl" sz="3200" spc="-1" strike="noStrike">
                <a:solidFill>
                  <a:srgbClr val="000000"/>
                </a:solidFill>
                <a:latin typeface="Arial"/>
              </a:rPr>
              <a:t> </a:t>
            </a:r>
            <a:r>
              <a:rPr b="0" lang="es-ES_tradnl" sz="2000" spc="-1" strike="noStrike">
                <a:solidFill>
                  <a:srgbClr val="000000"/>
                </a:solidFill>
                <a:latin typeface="Arial"/>
              </a:rPr>
              <a:t>de acuerdo a la ley la distinción depende de la definición de locura que es un termino legal, no psicológico.</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609480" y="304920"/>
            <a:ext cx="4952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228600"/>
            <a:ext cx="8305920" cy="68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isociativos: </a:t>
            </a:r>
            <a:r>
              <a:rPr b="0" lang="es-ES_tradnl" sz="2200" spc="-1" strike="noStrike">
                <a:solidFill>
                  <a:srgbClr val="000000"/>
                </a:solidFill>
                <a:latin typeface="Arial"/>
              </a:rPr>
              <a:t>disfunciones psicológicas caracterizadas por la división de facetas críticas de la personalidad  que por lo general están integradas, lo que permite evitar el estrés por medio del escape:</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isociativo de identidad</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mnesia disociativ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ga disociativa</a:t>
            </a:r>
            <a:endParaRPr b="0" lang="en-US" sz="1600" spc="-1" strike="noStrike">
              <a:solidFill>
                <a:srgbClr val="000000"/>
              </a:solidFill>
              <a:latin typeface="Times New Roman"/>
            </a:endParaRPr>
          </a:p>
          <a:p>
            <a:pPr lvl="1" marL="457200">
              <a:lnSpc>
                <a:spcPct val="80000"/>
              </a:lnSpc>
              <a:spcBef>
                <a:spcPts val="19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Trastornos del estado de ánimo</a:t>
            </a:r>
            <a:endParaRPr b="0" lang="en-US" sz="31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sentimientos de euforia o depresión que son lo bastante fuertes como para afectar la vida cotidiana. </a:t>
            </a:r>
            <a:endParaRPr b="0" lang="en-US" sz="22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presivos</a:t>
            </a:r>
            <a:endParaRPr b="0" lang="en-US" sz="18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bipolares</a:t>
            </a:r>
            <a:endParaRPr b="0" lang="en-US" sz="18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resión mayor y trastorno distimico</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II</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ciclotím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bipolar no clasificado</a:t>
            </a:r>
            <a:endParaRPr b="0" lang="en-US" sz="1600" spc="-1" strike="noStrike">
              <a:solidFill>
                <a:srgbClr val="000000"/>
              </a:solidFill>
              <a:latin typeface="Times New Roman"/>
            </a:endParaRPr>
          </a:p>
          <a:p>
            <a:pPr lvl="2" marL="91440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stornos del animo debidos a una condición medica general o inducidos por sustanci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8153640" cy="6157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ocurre una distorsión severa de la realidad</a:t>
            </a:r>
            <a:endParaRPr b="0" lang="en-US" sz="1800" spc="-1" strike="noStrike">
              <a:solidFill>
                <a:srgbClr val="000000"/>
              </a:solidFill>
              <a:latin typeface="Times New Roman"/>
            </a:endParaRPr>
          </a:p>
          <a:p>
            <a:pPr lvl="2" marL="9144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stingue de otros trastornos psicológicos por:</a:t>
            </a:r>
            <a:endParaRPr b="0" lang="en-US" sz="16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erioro de un nivel previo de funcionamiento</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del pensamiento y del lenguaje</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liri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stornos perceptivo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turbaciones emocionales</a:t>
            </a:r>
            <a:endParaRPr b="0" lang="en-US" sz="1400" spc="-1" strike="noStrike">
              <a:solidFill>
                <a:srgbClr val="000000"/>
              </a:solidFill>
              <a:latin typeface="Times New Roman"/>
            </a:endParaRPr>
          </a:p>
          <a:p>
            <a:pPr lvl="3" marL="1371600">
              <a:lnSpc>
                <a:spcPct val="8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traimiento</a:t>
            </a:r>
            <a:endParaRPr b="0" lang="en-US" sz="1400" spc="-1" strike="noStrike">
              <a:solidFill>
                <a:srgbClr val="000000"/>
              </a:solidFill>
              <a:latin typeface="Times New Roman"/>
            </a:endParaRPr>
          </a:p>
          <a:p>
            <a:pPr lvl="3" marL="1371600">
              <a:lnSpc>
                <a:spcPct val="8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antisocial o sociopat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personalidad limítrofe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la narcisista de la personalidad </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838080"/>
            <a:ext cx="3733920" cy="15109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ses del ciclo de respuesta sexual y disfunciones asociadas a ellas:</a:t>
            </a:r>
            <a:endParaRPr b="0" lang="en-US" sz="2000" spc="-1" strike="noStrike">
              <a:solidFill>
                <a:srgbClr val="000000"/>
              </a:solidFill>
              <a:latin typeface="Times New Roman"/>
            </a:endParaRPr>
          </a:p>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4572000" y="304920"/>
            <a:ext cx="3809880" cy="2468160"/>
          </a:xfrm>
          <a:prstGeom prst="rect">
            <a:avLst/>
          </a:prstGeom>
          <a:noFill/>
          <a:ln w="0">
            <a:noFill/>
          </a:ln>
        </p:spPr>
        <p:style>
          <a:lnRef idx="0"/>
          <a:fillRef idx="0"/>
          <a:effectRef idx="0"/>
          <a:fontRef idx="minor"/>
        </p:style>
        <p:txBody>
          <a:bodyPr lIns="90000" rIns="90000" tIns="46800" bIns="46800" anchor="t">
            <a:spAutoFit/>
          </a:bodyPr>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eo: trastorno del apetito sexual hipo activo, aversión sexual, trastorno sexual por enfermedad, disfunción sexual inducida por drogas con debilitación del deseo.</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citación: trastorno de excitación (F/M),disfunción por uso de drogas</a:t>
            </a:r>
            <a:endParaRPr b="0" lang="en-US" sz="1600" spc="-1" strike="noStrike">
              <a:solidFill>
                <a:srgbClr val="000000"/>
              </a:solidFill>
              <a:latin typeface="Times New Roman"/>
            </a:endParaRPr>
          </a:p>
          <a:p>
            <a:pPr lvl="2" marL="380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gasmo: trastorno orgásmico (F/M), eyaculación precoz..</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4876920" y="228600"/>
            <a:ext cx="358128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880" y="228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Trastornos  sexuales</a:t>
            </a:r>
            <a:endParaRPr b="0" lang="en-US" sz="2400" spc="-1" strike="noStrike">
              <a:solidFill>
                <a:srgbClr val="000000"/>
              </a:solidFill>
              <a:latin typeface="Times New Roman"/>
            </a:endParaRPr>
          </a:p>
        </p:txBody>
      </p:sp>
      <p:sp>
        <p:nvSpPr>
          <p:cNvPr id="67" name=""/>
          <p:cNvSpPr/>
          <p:nvPr/>
        </p:nvSpPr>
        <p:spPr>
          <a:xfrm>
            <a:off x="3809880" y="838080"/>
            <a:ext cx="762120" cy="685800"/>
          </a:xfrm>
          <a:prstGeom prst="rightArrow">
            <a:avLst>
              <a:gd name="adj1" fmla="val 50000"/>
              <a:gd name="adj2" fmla="val 2778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2590920"/>
            <a:ext cx="83818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filia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stornos sexuales que se caracterizan por fantasías sexuales especializadas e impulsos y practicas sexuales repetitivas y preocupantes para la perso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419040" y="42670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tornos  mentales inducidos asociados al uso y abuso de sustancias: </a:t>
            </a:r>
            <a:endParaRPr b="0" lang="en-US" sz="2400" spc="-1" strike="noStrike">
              <a:solidFill>
                <a:srgbClr val="000000"/>
              </a:solidFill>
              <a:latin typeface="Times New Roman"/>
            </a:endParaRPr>
          </a:p>
        </p:txBody>
      </p:sp>
      <p:sp>
        <p:nvSpPr>
          <p:cNvPr id="70" name=""/>
          <p:cNvSpPr/>
          <p:nvPr/>
        </p:nvSpPr>
        <p:spPr>
          <a:xfrm>
            <a:off x="1143000" y="502920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xicació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inenc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riu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encia</a:t>
            </a:r>
            <a:endParaRPr b="0" lang="en-US" sz="1800" spc="-1" strike="noStrike">
              <a:solidFill>
                <a:srgbClr val="000000"/>
              </a:solidFill>
              <a:latin typeface="Times New Roman"/>
            </a:endParaRPr>
          </a:p>
        </p:txBody>
      </p:sp>
      <p:sp>
        <p:nvSpPr>
          <p:cNvPr id="71" name=""/>
          <p:cNvSpPr/>
          <p:nvPr/>
        </p:nvSpPr>
        <p:spPr>
          <a:xfrm>
            <a:off x="3886200" y="495288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nesi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icosi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ación del estado de ánim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ie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Modelos del trastorno Psicológico</a:t>
            </a:r>
            <a:br>
              <a:rPr sz="3600"/>
            </a:br>
            <a:endParaRPr b="0" lang="en-US" sz="3600" spc="-1" strike="noStrike">
              <a:solidFill>
                <a:srgbClr val="000000"/>
              </a:solidFill>
              <a:latin typeface="Times New Roman"/>
            </a:endParaRPr>
          </a:p>
        </p:txBody>
      </p:sp>
      <p:sp>
        <p:nvSpPr>
          <p:cNvPr id="4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7" name=""/>
          <p:cNvGraphicFramePr/>
          <p:nvPr/>
        </p:nvGraphicFramePr>
        <p:xfrm>
          <a:off x="250920" y="836640"/>
          <a:ext cx="8713800" cy="5459400"/>
        </p:xfrm>
        <a:graphic>
          <a:graphicData uri="http://schemas.openxmlformats.org/drawingml/2006/table">
            <a:tbl>
              <a:tblPr/>
              <a:tblGrid>
                <a:gridCol w="2449440"/>
                <a:gridCol w="2448000"/>
                <a:gridCol w="3816360"/>
              </a:tblGrid>
              <a:tr h="783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cripció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Méd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usas fisiológicas son el origen del comportamiento anorm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examina a la persona a través de exámenes clínicos buscando problemas médicos como un desequilibrio  hormonal, deficiencia química o lesión cerebral.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Psicoanalíti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se deriva de conflictos infantil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uscar información acerca del pasado de la persona considerando los posibles conflictos infantiles acerca de deseos opuestos referentes al desarrollo sexual y la agresió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nductual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comportamiento anormal es una respuesta aprendida, el comportamiento es el problem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centrarse en las recompensas y castigos para  el comportamiento de la persona e identificar estímulos ambientales que refuercen su comporta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cognitiv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a que las cogniciones (pensamientos y creencias de las personas son centrales en el comportamiento anormal)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s percepciones y significados que otorga la persona a si mismo y a  su entorn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Humanis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atiza el control y responsabilidad de las personas sobre su propio comportami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iderar el comportamiento de la persona en función de las opciones que ha elegido en forma libr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lo sociocultu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ume que el comportamiento es moldeado por la familia, la sociedad y la cultur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focarse en la forma en que las demandas sociales contribuyeron al trastorno de la perso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838080"/>
            <a:ext cx="8534160" cy="579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ón influida en gran medida por las expectativas de lo que una cultura considera como “conducta normal”.</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endencia actual es considerar al comportamiento normal y anormal como los dos extremos de un continuo mas que como estados absolutos.</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nfoques contemporáneos adoptan una postura mas racional, predominan seis modelos de comportamiento anormal, los cuales sugieren distintas causas del comportamiento anormal y diversos enfoques terapéuticos.   </a:t>
            </a: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Comportamiento Anorm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1600200"/>
            <a:ext cx="8458200" cy="4631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un lenguaje mas o menos común para lograr describi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SM-IV</a:t>
            </a:r>
            <a:r>
              <a:rPr b="0" lang="es-ES_tradnl" sz="2000" spc="-1" strike="noStrike">
                <a:solidFill>
                  <a:srgbClr val="000000"/>
                </a:solidFill>
                <a:latin typeface="Arial"/>
              </a:rPr>
              <a:t>   Manual diagnostico y estadístico de los trastornos mentales (cuarta edición) (Diagnostical and Stadistical Manual of Mental Disorders),es un sistema estandarizado elaborado por la asociación americana de psiquiatría, utilizado por la mayoría de los especialistas para clasificar y diagnosticar el comportamiento anormal.</a:t>
            </a: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blicado en 1994, el DSM-IV presenta definiciones generales para mas de 200 diferentes categorías diagnósticas. Al utilizar este manual, se puede describir con claridad el problema especifico que presenta una persona.</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diseño es principalmente descriptivo e intenta no sugerir las causas subyacentes y los problemas de un individuo. </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380520" y="2282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Clasificación del comportamiento anorm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458200" cy="63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 un sistema descriptivo que traza una imagen del comportamiento que se present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ilita la comunicación entre los especialistas en salud mental que tienen diferentes antecedentes y enfoqu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ódigo conceptual mediante el cual los especialistas pueden describir los comportamientos que tienden a ocurrir en forma conjunta en un individu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Ventaj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1600200"/>
            <a:ext cx="89154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uy centrado en el modelo médic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casilla a las personas en criterios inflexibles.</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tigmatización y deshumanización de la person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espués de realizado un primer diagnostico es posible que otros especialistas de salud mental no consideren otras posibilidades diagnosticas, concentrándose en la clasificación inicial.</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Desventaj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600200"/>
            <a:ext cx="7848720" cy="4884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ansiedad</a:t>
            </a:r>
            <a:r>
              <a:rPr b="0" lang="es-ES_tradnl" sz="1800" spc="-1" strike="noStrike">
                <a:solidFill>
                  <a:srgbClr val="000000"/>
                </a:solidFill>
                <a:latin typeface="Arial"/>
              </a:rPr>
              <a:t>: problemas en los que la ansiedad imposibilita el desempeño cotidiano</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omatoforme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plicaciones psicológicas que se manifiestan a través de problemas físicos</a:t>
            </a: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isociativos</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sión de partes importantes de la personalidad que  suelen estar integrada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l estado de ánimo</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ntimientos de euforia o depresión que son lo bastante fuertes como para afectar la vida cotidiana. </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1752480"/>
            <a:ext cx="8153280" cy="4418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quizofrenia:</a:t>
            </a:r>
            <a:r>
              <a:rPr b="0" lang="es-ES_tradnl" sz="2200" spc="-1" strike="noStrike">
                <a:solidFill>
                  <a:srgbClr val="000000"/>
                </a:solidFill>
                <a:latin typeface="Arial"/>
              </a:rPr>
              <a:t> </a:t>
            </a:r>
            <a:r>
              <a:rPr b="0" lang="es-ES_tradnl" sz="1800" spc="-1" strike="noStrike">
                <a:solidFill>
                  <a:srgbClr val="000000"/>
                </a:solidFill>
                <a:latin typeface="Arial"/>
              </a:rPr>
              <a:t>problemas de desempeño, perturbaciones del lenguaje y el pensamiento, trastornos de percepción, trastornos emocionales y aislamiento de los demás </a:t>
            </a:r>
            <a:endParaRPr b="0" lang="en-US" sz="1800" spc="-1" strike="noStrike">
              <a:solidFill>
                <a:srgbClr val="000000"/>
              </a:solidFill>
              <a:latin typeface="Times New Roman"/>
            </a:endParaRPr>
          </a:p>
          <a:p>
            <a:pPr lvl="1" marL="457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la Personalidad</a:t>
            </a:r>
            <a:endParaRPr b="0" lang="en-US" sz="24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1800" spc="-1" strike="noStrike">
                <a:solidFill>
                  <a:srgbClr val="000000"/>
                </a:solidFill>
                <a:latin typeface="Arial"/>
              </a:rPr>
              <a:t>trastorno mental caracterizado por un conjunto de rasgos de personalidad desadaptados e inflexibles que impiden que una persona funcione en forma  apropiada en la sociedad.</a:t>
            </a:r>
            <a:r>
              <a:rPr b="0" lang="es-ES_tradnl" sz="2200" spc="-1" strike="noStrike">
                <a:solidFill>
                  <a:srgbClr val="000000"/>
                </a:solidFill>
                <a:latin typeface="Arial"/>
              </a:rPr>
              <a:t> </a:t>
            </a:r>
            <a:endParaRPr b="0" lang="en-US" sz="2200" spc="-1" strike="noStrike">
              <a:solidFill>
                <a:srgbClr val="000000"/>
              </a:solidFill>
              <a:latin typeface="Times New Roman"/>
            </a:endParaRPr>
          </a:p>
          <a:p>
            <a:pPr lvl="1" marL="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sexuale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la excitación a partir de objetos extraños, o problemas vinculados con el desempeño sexual  </a:t>
            </a:r>
            <a:endParaRPr b="0" lang="en-US" sz="18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relacionados con el uso de sustancias: </a:t>
            </a:r>
            <a:endParaRPr b="0" lang="en-US" sz="2400" spc="-1" strike="noStrike">
              <a:solidFill>
                <a:srgbClr val="000000"/>
              </a:solidFill>
              <a:latin typeface="Times New Roman"/>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800" spc="-1" strike="noStrike">
                <a:solidFill>
                  <a:srgbClr val="000000"/>
                </a:solidFill>
                <a:latin typeface="Arial"/>
              </a:rPr>
              <a:t>problemas relacionados con el uso y abuso de sustancias</a:t>
            </a: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Arial"/>
              </a:rPr>
              <a:t>Principales categorías diagnóstic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90720" y="990720"/>
            <a:ext cx="7619760" cy="50288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r>
              <a:rPr b="0" lang="es-ES_tradnl" sz="2000" spc="-1" strike="noStrike">
                <a:solidFill>
                  <a:srgbClr val="000000"/>
                </a:solidFill>
                <a:latin typeface="Arial"/>
              </a:rPr>
              <a:t>: problemas en los que la ansiedad imposibilita el desempeño cotidiano, experiencia de ansiedad sin causa externa obvia, que interrumpe el funcionamiento diario.</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fób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pánico</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ansiedad generalizad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obsesivo compulsivo</a:t>
            </a:r>
            <a:endParaRPr b="0" lang="en-US" sz="1600" spc="-1" strike="noStrike">
              <a:solidFill>
                <a:srgbClr val="000000"/>
              </a:solidFill>
              <a:latin typeface="Times New Roman"/>
            </a:endParaRPr>
          </a:p>
          <a:p>
            <a:pPr lvl="3" marL="137160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formes</a:t>
            </a:r>
            <a:endParaRPr b="0" lang="en-US" sz="28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plicaciones psicológicas que se manifiestan a través de problemas físicos</a:t>
            </a:r>
            <a:endParaRPr b="0" lang="en-US" sz="20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pocondría</a:t>
            </a:r>
            <a:endParaRPr b="0" lang="en-US" sz="1600" spc="-1" strike="noStrike">
              <a:solidFill>
                <a:srgbClr val="000000"/>
              </a:solidFill>
              <a:latin typeface="Times New Roman"/>
            </a:endParaRPr>
          </a:p>
          <a:p>
            <a:pPr lvl="3" marL="1371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torno de conv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3:28:38Z</dcterms:created>
  <dc:creator>Andrea Ampuero Belmar</dc:creator>
  <dc:description/>
  <dc:language>en-US</dc:language>
  <cp:lastModifiedBy>Andrea Ampuero</cp:lastModifiedBy>
  <dcterms:modified xsi:type="dcterms:W3CDTF">2004-12-27T17:47:17Z</dcterms:modified>
  <cp:revision>15</cp:revision>
  <dc:subject/>
  <dc:title>Psicopatología: estudio de los trastornos mentales </dc:title>
</cp:coreProperties>
</file>