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D14-8EE9-4DB6-9E76-C4F3FE08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54A-1664-451D-97C8-616F2E1F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400-DC5F-49AC-8C24-A19F2C0A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46C-634A-4E3D-9592-3BF0C8E3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DAB-C570-4A89-BDD3-63CD2C0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5DC-3C2C-4BEA-BFF1-198A124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907-3148-40E4-B479-766B4D1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2C7-3C62-4639-94A6-E82C05F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641-0832-45D8-83EC-FB97013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043-F1DF-4A95-9EE7-1112264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5C3-5C7A-483F-831C-A2630A3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518-0F37-4E23-A3C6-9AAF7FCE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732-9563-4AF2-AB76-809E9096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SICOLOGIA Y 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029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s. Sebastián Vidal T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907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I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La ética en las diversas áreas de la psic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8320" y="551664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colegiopsicologos.cl/documentos/codigo%20etica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2133720"/>
            <a:ext cx="41767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Clín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Educa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Labo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Social-Comunita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5715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ino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ecedentes: Que es la ét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cipios generales relacionados con la ética en psicología (Propuesta de la AP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ética en las diversas áreas de la psic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28954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. ¿Qué es la Ét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icultad de la definición concep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Ét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cia en la especie hum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Ética en psic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637000"/>
            <a:ext cx="1439640" cy="287280"/>
          </a:xfrm>
          <a:prstGeom prst="rightArrow">
            <a:avLst>
              <a:gd name="adj1" fmla="val 50000"/>
              <a:gd name="adj2" fmla="val 125282"/>
            </a:avLst>
          </a:prstGeom>
          <a:solidFill>
            <a:srgbClr val="3333cc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3573360"/>
            <a:ext cx="1439640" cy="287280"/>
          </a:xfrm>
          <a:prstGeom prst="rightArrow">
            <a:avLst>
              <a:gd name="adj1" fmla="val 50000"/>
              <a:gd name="adj2" fmla="val 125282"/>
            </a:avLst>
          </a:prstGeom>
          <a:solidFill>
            <a:srgbClr val="3333cc"/>
          </a:soli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3500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o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2349360"/>
            <a:ext cx="194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junto de los principios de conducta que hemos adquirido por asimilación de las costumbres y valores de nuestro ambien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2276640"/>
            <a:ext cx="2089080" cy="93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3500280"/>
            <a:ext cx="25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iplina que se ocupa de la moral (implica por tanto, un proceso reflexiv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9337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429000"/>
            <a:ext cx="2664000" cy="576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480"/>
            <a:ext cx="3657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2560" y="1371600"/>
            <a:ext cx="77770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onsabilid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 mantener los mas altos estándares de calidad en el ejercicio de la profesión. Aceptar la responsabilidad por las consecuencias de los propios actos y hacer esfuerzos por asegurarse que sus servicios serán utilizados apropiad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por selección de los temas a investigar y por la posible utilización de los hallazgos de investigación (impedir uso del conocimiento en detrimento de personas o grupos de perso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arar si los datos de investigaciones pueden ser compartidos durante una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de prevenir mal uso distorsión o supresión de los datos en una institución o agencia en la que se encuentren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profesores, implica responsabilidad por que otros adquieran conocimiento con los mas altos estándares de rigurosidad académ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abilidad social en la medida que sus recomendaciones y acciones profesionales pueden alterar la vida d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914400" y="380880"/>
            <a:ext cx="9220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57200"/>
            <a:ext cx="90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600" y="19540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600" y="1378080"/>
            <a:ext cx="82818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etenc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sicólogos deben reconocer las bondades de sus competencias y las limitaciones de sus técnicas. Sólo proveen servicios para los que se encuentran capacitados por entrenamiento y experiencia, de no existir estándares en algún área especifica, ello debe ser reconocido de manera explícita. Mantienen un conocimiento actualizado científico y profesional sobre los servicios que brind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er evidencia de las propias competencias profesionales acreditadas por instituciones reconocidas por los organismos y/o instituciones perti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ocimiento de la necesidad de formación constante y disposición para cambiar expectativas y procedimi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dad de reconocer a las poblaciones que por razones de edad, genero, preferencia sexual o etnia necesitan de una formación profesional especial para un trabajo adecu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abilidad sobre los decisiones que involucran a personal o grupos de personas y que se encuentran basados en hallazgos de test o pruebas psicológ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ocimiento que diversas problemáticas personales y/o conflictos pueden interferir en su efectividad profesional. Capacidad para buscar ayuda profesional que se encuentre acorde a ést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8001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360" y="49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280" y="2149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1573200"/>
            <a:ext cx="79200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ándares Morales y Legal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mantienen estándares morales y éticos de conducta acorde con los de cualquier ciudadano con excepción de cualquier conducta que pueda comprometer el cumplimiento de sus responsabilidades o reducir la confianza publica en la psicología y/o los psicól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 Como profesores, implica conciencia de que los valores personales pueden afect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la selección o la presentación de los conten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Como empleados, implica no aceptar o consentir practicas ilegales, injustificables o inhum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Respeto por leyes o regulaciones por leyes y regulaciones estatales y/o organizacion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640" y="4038480"/>
            <a:ext cx="8172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laraciones Públ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claraciones públ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isos de servicios, propaganda y/o actividades promocionales los psicólogos deben servir al propósito que las personas hagan juicios y elecciones informadas. Deben reconocerse públicamente las limitaciones de cualquier información que implique datos psicológic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acidad de anuncios públicos: antecedentes académicos, competencias profesional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ibilidad de compensar económicamente o de otra forma a cualquier medio de difusión por apariciones públicas de una persona o un grupo de psicólogo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304920"/>
            <a:ext cx="8458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773360"/>
            <a:ext cx="7777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fidencialidad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sicólogos tienen la obligación primaria de respetar la confidencialidad de la información obtenida de personas o grupos de personas en el curso de su trabajo como psicólogos. Sólo pueden revelar información a otros con el consentimiento de la persona o su representante legal y sólo en aquellas circunstancias inusuales en las cuales mantener la confidencial puede poner en peligro a la persona u otros. Cuando corresponde es importante informar sobre las limitaciones de la confidencialid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que la información obtenida a partir de una consulta clínicas, tests, evaluaciones, etc. Sólo puede compartida con las personas claramente relacionadas con el ca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segurarse de que los lugares donde se guarda información confidencial no pueden ser violados por personas ajenas al caso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724280"/>
            <a:ext cx="8280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enestar del paciente/clien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respetan la integridad y protegen el bienestar de la gente y los grupos con los cuales trabajan. Tienen la obligación de informar a sus pacientes/clientes de la naturaleza y los objetivos de cualquier procedimiento profe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 evitar la explotación de la confianza y dependencia de las pers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icación de las formas de pago por los servicios y la seguridad de que estos términos son comprendidos y acep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dad para terminar una relación terapéutica cuando ésta no beneficia al paciente/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2120"/>
            <a:ext cx="7391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45086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060640"/>
            <a:ext cx="77058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laciones Profesional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sicólogos actúan con el debido respeto por las necesidades, competencias especiales, y obligaciones de sus colegas en psicología y otras profesione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ocimiento de las áreas de competencia de otros profesionales que pueden aportar a nuestra práctica como psicólo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pacidad de no explotar sus relaciones profesionales con clientes, supervisados, estudiantes, empleados o sujetos de investig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ocimiento de los participantes de una investigación según su grado de contribución al trabajo profe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écnicas de Evalu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desarrollo, publicación y utilización de técnicas de evaluación psicológica, los psicólogos deben promover el bienestar y los intereses de sus pacientes/clientes. Resguardan el buen uso de los resultados y el respeto por parte del paciente/cliente por conocer los resultados de la evaluación. Velan por que las técnicas de evaluación que utilizan se encuentren dentro de un marco leg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reconocimiento de las limitaciones y/o obsolecencia de una tecnica 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eto por el derecho del paciente por comprender el propósito y los alcances de la evalu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6933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Principios generales relacionados con la ética en psic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149720"/>
            <a:ext cx="7777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idado de animales en investigació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investigadores de la conducta animal protegen el bienestar de éstos y velan por un trato “humanitar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ica preparación especifica o supervisión por un profesional entrenado en métodos de investigación con ani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fuerzo por minimizar el dolor, enfermedad y disconfort de los ani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ando resulta apropiado terminar con la vida de un animal, debe hacerse lo mas indoloro y rápido po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2060640"/>
            <a:ext cx="79930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vestigaciones con participantes huma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sicólogos que deci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 investigaciones con participantes humanos deben velar por la por la dignidad y bienestar de los participantes y por realizar la investigación de acuerdo a las normativas y legales que correspond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 realizar acuerdo básico y claro sobre las condiciones de la investigación, los riesgos posibles, 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to por la libertad de las personas de abandonar una investig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85800"/>
            <a:ext cx="72392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20:03Z</dcterms:created>
  <dc:creator>Alejandra Avila</dc:creator>
  <dc:description/>
  <dc:language>en-US</dc:language>
  <cp:lastModifiedBy>Andrea Ampuero</cp:lastModifiedBy>
  <dcterms:modified xsi:type="dcterms:W3CDTF">2004-12-27T17:46:58Z</dcterms:modified>
  <cp:revision>7</cp:revision>
  <dc:subject/>
  <dc:title>PSICOLOGIA Y ETICA</dc:title>
</cp:coreProperties>
</file>