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0DA-2B4C-454D-9C21-29258E9D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757-39E2-4986-9F81-643C6A99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509-8482-49F5-A8AC-D53E8EB5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9F2-05EA-4407-AC6B-24460B8A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A2A-2B6F-4980-8971-0ADE0919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8DE-03D9-4872-89AB-279B1254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9BC-A2E8-436A-A81A-6ED5C983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120-D1BC-4330-B4B5-D7E6F7EF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002-2180-4B0E-BB44-A03699ED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6C4-FA8E-4406-8278-E7E72901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7EB-7710-4B14-A03B-3AFD3527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96A-CA63-4175-AF9A-FA18BA6E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4F85-7932-4B1E-8BC9-4B05E7D73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SICOLOGIA Y E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029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s. Sebastián Vidal T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256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907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III. 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La ética en las diversas áreas de la psic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56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58320" y="5516640"/>
            <a:ext cx="46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colegiopsicologos.cl/documentos/codigo%20etica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2133720"/>
            <a:ext cx="417672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Clínic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Educac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Labor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Social-Comunitar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762120"/>
            <a:ext cx="5715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Sino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tecedentes: Que es la ét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incipios generales relacionados con la ética en psicología (Propuesta de la AP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ética en las diversas áreas de la psicolo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62120"/>
            <a:ext cx="28954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000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. ¿Qué es la Ét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icultad de la definición concep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o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Ét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cia en la especie huma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Ética en psic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2637000"/>
            <a:ext cx="1439640" cy="287280"/>
          </a:xfrm>
          <a:prstGeom prst="rightArrow">
            <a:avLst>
              <a:gd name="adj1" fmla="val 50000"/>
              <a:gd name="adj2" fmla="val 125282"/>
            </a:avLst>
          </a:prstGeom>
          <a:solidFill>
            <a:srgbClr val="3333cc"/>
          </a:solidFill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3573360"/>
            <a:ext cx="1439640" cy="287280"/>
          </a:xfrm>
          <a:prstGeom prst="rightArrow">
            <a:avLst>
              <a:gd name="adj1" fmla="val 50000"/>
              <a:gd name="adj2" fmla="val 125282"/>
            </a:avLst>
          </a:prstGeom>
          <a:solidFill>
            <a:srgbClr val="3333cc"/>
          </a:solidFill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32360" y="3500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o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84720" y="2349360"/>
            <a:ext cx="1944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junto de los principios de conducta que hemos adquirido por asimilación de las costumbres y valores de nuestro ambient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2276640"/>
            <a:ext cx="2089080" cy="93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3500280"/>
            <a:ext cx="25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iplina que se ocupa de la moral (implica por tanto, un proceso reflexiv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2924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u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39337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u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3429000"/>
            <a:ext cx="2664000" cy="576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09480"/>
            <a:ext cx="3657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II.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Principios generales relacionados con la ética en psicología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256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2560" y="1371600"/>
            <a:ext cx="777708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ponsabilid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 mantener los mas altos estándares de calidad en el ejercicio de la profesión. Aceptar la responsabilidad por las consecuencias de los propios actos y hacer esfuerzos por asegurarse que sus servicios serán utilizados apropiad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abilidad por selección de los temas a investigar y por la posible utilización de los hallazgos de investigación (impedir uso del conocimiento en detrimento de personas o grupos de person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larar si los datos de investigaciones pueden ser compartidos durante una investig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abilidad de prevenir mal uso distorsión o supresión de los datos en una institución o agencia en la que se encuentren emple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o profesores, implica responsabilidad por que otros adquieran conocimiento con los mas altos estándares de rigurosidad académ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abilidad social en la medida que sus recomendaciones y acciones profesionales pueden alterar la vida de ot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914400" y="380880"/>
            <a:ext cx="9220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457200"/>
            <a:ext cx="90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I.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Principios generales relacionados con la ética en psicología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600" y="19540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2600" y="1378080"/>
            <a:ext cx="828180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etenc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sicólogos deben reconocer las bondades de sus competencias y las limitaciones de sus técnicas. Sólo proveen servicios para los que se encuentran capacitados por entrenamiento y experiencia, de no existir estándares en algún área especifica, ello debe ser reconocido de manera explícita. Mantienen un conocimiento actualizado científico y profesional sobre los servicios que brind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er evidencia de las propias competencias profesionales acreditadas por instituciones reconocidas por los organismos y/o instituciones perti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ocimiento de la necesidad de formación constante y disposición para cambiar expectativas y procedimien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acidad de reconocer a las poblaciones que por razones de edad, genero, preferencia sexual o etnia necesitan de una formación profesional especial para un trabajo adecu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abilidad sobre los decisiones que involucran a personal o grupos de personas y que se encuentran basados en hallazgos de test o pruebas psicológic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ocimiento que diversas problemáticas personales y/o conflictos pueden interferir en su efectividad profesional. Capacidad para buscar ayuda profesional que se encuentre acorde a ést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04920"/>
            <a:ext cx="8001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14360" y="49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I.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Principios generales relacionados con la ética en psicolog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1280" y="21495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4360" y="1573200"/>
            <a:ext cx="792000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tándares Morales y Legal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psicólogos mantienen estándares morales y éticos de conducta acorde con los de cualquier ciudadano con excepción de cualquier conducta que pueda comprometer el cumplimiento de sus responsabilidades o reducir la confianza publica en la psicología y/o los psicólo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 Como profesores, implica conciencia de que los valores personales pueden afect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la selección o la presentación de los conteni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Como empleados, implica no aceptar o consentir practicas ilegales, injustificables o inhum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Respeto por leyes o regulaciones por leyes y regulaciones estatales y/o organizaciona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5640" y="4038480"/>
            <a:ext cx="8172720" cy="20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laraciones Pública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declaraciones públic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isos de servicios, propaganda y/o actividades promocionales los psicólogos deben servir al propósito que las personas hagan juicios y elecciones informadas. Deben reconocerse públicamente las limitaciones de cualquier información que implique datos psicológic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acidad de anuncios públicos: antecedentes académicos, competencias profesional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ibilidad de compensar económicamente o de otra forma a cualquier medio de difusión por apariciones públicas de una persona o un grupo de psicólogo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080" y="304920"/>
            <a:ext cx="8458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907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II. 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Principios generales relacionados con la ética en psicolog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256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773360"/>
            <a:ext cx="777708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fidencialidad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sicólogos tienen la obligación primaria de respetar la confidencialidad de la información obtenida de personas o grupos de personas en el curso de su trabajo como psicólogos. Sólo pueden revelar información a otros con el consentimiento de la persona o su representante legal y sólo en aquellas circunstancias inusuales en las cuales mantener la confidencial puede poner en peligro a la persona u otros. Cuando corresponde es importante informar sobre las limitaciones de la confidencialida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lica que la información obtenida a partir de una consulta clínicas, tests, evaluaciones, etc. Sólo puede compartida con las personas claramente relacionadas con el ca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segurarse de que los lugares donde se guarda información confidencial no pueden ser violados por personas ajenas al caso.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4724280"/>
            <a:ext cx="82803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ienestar del paciente/clien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psicólogos respetan la integridad y protegen el bienestar de la gente y los grupos con los cuales trabajan. Tienen la obligación de informar a sus pacientes/clientes de la naturaleza y los objetivos de cualquier procedimiento profesi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 evitar la explotación de la confianza y dependencia de las perso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rificación de las formas de pago por los servicios y la seguridad de que estos términos son comprendidos y acept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dad para terminar una relación terapéutica cuando ésta no beneficia al paciente/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762120"/>
            <a:ext cx="73911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00000" y="907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II. 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Principios generales relacionados con la ética en psicolog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56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450864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2060640"/>
            <a:ext cx="77058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laciones Profesionales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sicólogos actúan con el debido respeto por las necesidades, competencias especiales, y obligaciones de sus colegas en psicología y otras profesione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conocimiento de las áreas de competencia de otros profesionales que pueden aportar a nuestra práctica como psicólog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pacidad de no explotar sus relaciones profesionales con clientes, supervisados, estudiantes, empleados o sujetos de investig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conocimiento de los participantes de una investigación según su grado de contribución al trabajo profes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écnicas de Evalu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el desarrollo, publicación y utilización de técnicas de evaluación psicológica, los psicólogos deben promover el bienestar y los intereses de sus pacientes/clientes. Resguardan el buen uso de los resultados y el respeto por parte del paciente/cliente por conocer los resultados de la evaluación. Velan por que las técnicas de evaluación que utilizan se encuentren dentro de un marco leg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lica reconocimiento de las limitaciones y/o obsolecencia de una tecnica de evalu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peto por el derecho del paciente por comprender el propósito y los alcances de la evalu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609480"/>
            <a:ext cx="6933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907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II. 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Principios generales relacionados con la ética en psicolog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256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4149720"/>
            <a:ext cx="77770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uidado de animales en investigación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investigadores de la conducta animal protegen el bienestar de éstos y velan por un trato “humanitari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lica preparación especifica o supervisión por un profesional entrenado en métodos de investigación con ani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fuerzo por minimizar el dolor, enfermedad y disconfort de los ani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ndo resulta apropiado terminar con la vida de un animal, debe hacerse lo mas indoloro y rápido po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2060640"/>
            <a:ext cx="799308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vestigaciones con participantes huma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psicólogos que deci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cer  investigaciones con participantes humanos deben velar por la por la dignidad y bienestar de los participantes y por realizar la investigación de acuerdo a las normativas y legales que correspond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 realizar acuerdo básico y claro sobre las condiciones de la investigación, los riesgos posibles, et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to por la libertad de las personas de abandonar una investig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685800"/>
            <a:ext cx="72392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3:20:03Z</dcterms:created>
  <dc:creator>Alejandra Avila</dc:creator>
  <dc:description/>
  <dc:language>en-US</dc:language>
  <cp:lastModifiedBy>Andrea Ampuero</cp:lastModifiedBy>
  <dcterms:modified xsi:type="dcterms:W3CDTF">2004-12-27T17:46:58Z</dcterms:modified>
  <cp:revision>7</cp:revision>
  <dc:subject/>
  <dc:title>PSICOLOGIA Y ETICA</dc:title>
</cp:coreProperties>
</file>